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64B-6E97-47EC-A58E-F72119A0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AAB-C9E6-4226-9647-2D95010F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0CF-A6A7-4FA9-B68C-82FDE1E4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24B-453C-4F01-B0DB-B9599FF7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D6BC-A5C5-4029-BD12-FCEA1EB8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E05C-2713-4B36-8B2D-781AE39C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FE5C-4894-4AA2-9597-DF392EF7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8FDC-9BBD-4717-AE82-E7CC622D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5C96-5BDE-4191-8D3D-BA353ED6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C2A0-BFE0-4922-87C7-8CAD17B7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D576-31F2-47F5-BE0C-18AF4BB6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AB7-0A6D-4590-B0DC-7EE523D5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8888-CF4D-46BB-90E9-5A4DD2D4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2867-91B4-4B6A-BB08-6445FEBF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0D43-78C6-49F9-9940-7F3331EE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0F16-5656-4272-95FC-82126F35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C93B-C915-41B9-9150-84CE6C39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AA0-1508-43CF-9B21-C09DE4FD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06B-F1EB-455E-B80A-46865A81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8CA-26C6-47CB-BB1E-D88F1D2A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D6B-0D12-4858-8C10-2899307B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A6D-D314-429C-B871-CBC2C84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172-A0E0-42C5-893C-C804A1E0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2BF-6EA2-4B12-A556-41F17EE6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D6A0-BCF2-4406-82F6-859C9330248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8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DAC0-444A-45F8-B635-7C4AB699208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4c2b"/>
                </a:solidFill>
                <a:latin typeface="Times New Roman"/>
              </a:rPr>
              <a:t>Prednášky zo štatistiky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4038840" cy="31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0554-1024-4F98-9F4F-BE6681F0473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Základný súbor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Súbor všetkých štatist. jednotiek, ktoré z hľadiska vecného, časového a priestorového vymedzenia do súboru patria</a:t>
            </a: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1240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Výberový súbo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962520"/>
            <a:ext cx="7848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Vybraná časť jednotiek zo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predstavuje reprezentatívnu vzorku základného súbor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8E4-2E39-4DDC-947E-9E3CE97D04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Štatistické znak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ú vlastnosti štatististických jednotie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Môžeme ich rozdeľovať z rôznych hľadísk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a)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dľa toho, či sa nachádzajú na všetkých štat. jednotkách daného súboru ich delíme n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spoločné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medzujú štatist. súbo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ariabilné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 predmetom štat.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574-514F-46C9-9637-2F749032D2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Times New Roman"/>
              </a:rPr>
              <a:t>b)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podľa toho, ako charakterizujú vlastnosti štat. jednotiek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nepriame,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zistiteľné len nepriamo, napr. meranie kvality výrob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riam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priamo merateľné, napr. príje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Times New Roman"/>
              </a:rPr>
              <a:t>c)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podľa charakteru n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časov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priestorov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DC2-7538-4855-BC0A-184A8D086A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d)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vecné štat. znaky delíme podľa ich charakteru n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vantitatívn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merateľné, môžu byť: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spojité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nadobúdajú ľubovoľné hodnoty z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hraničeného alebo neohraničeného intervalu,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mesačný príjem, výdavky n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traviny, výška žien a pod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diskrétn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 nadobúdajú izolované, väčšinou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celočíselné hodnoty, napr. vek, počet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ezaopatrených detí, počet rokov praxe v odbore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238880" y="2362320"/>
          <a:ext cx="68580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2362320"/>
                    <a:ext cx="6858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629400" y="2819520"/>
          <a:ext cx="47772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2819520"/>
                    <a:ext cx="4777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077320" y="1905120"/>
          <a:ext cx="838080" cy="259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77320" y="1905120"/>
                    <a:ext cx="8380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EE3-FAB3-4586-BD92-51BA7FF163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valitatívne znaky,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lovné, môžu byť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dichotomické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alternatív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pohlav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lynomické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multinomické, množné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pr. vzdelanie, alebo…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391520" y="914400"/>
          <a:ext cx="114300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914400"/>
                    <a:ext cx="1143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172200" y="1219320"/>
          <a:ext cx="6984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1219320"/>
                    <a:ext cx="698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705720" y="4267080"/>
            <a:ext cx="1828800" cy="97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4038480" y="4267080"/>
            <a:ext cx="2590920" cy="135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762120" y="4419720"/>
            <a:ext cx="2438280" cy="85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265-F618-4D2A-B4C2-95A4DC57C1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20720" y="762120"/>
            <a:ext cx="407844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33"/>
                </a:solidFill>
                <a:latin typeface="Times New Roman"/>
              </a:rPr>
              <a:t>Rozdelenie štatistických znakov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8640" y="2809800"/>
            <a:ext cx="3009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3680" y="1119240"/>
            <a:ext cx="253368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ŠTATISTICKÉ</a:t>
            </a:r>
            <a:r>
              <a:rPr b="1" lang="cs-CZ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ZNAK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5800" y="2165400"/>
            <a:ext cx="2487600" cy="261720"/>
            <a:chOff x="685800" y="2165400"/>
            <a:chExt cx="2487600" cy="261720"/>
          </a:xfrm>
        </p:grpSpPr>
        <p:sp>
          <p:nvSpPr>
            <p:cNvPr id="130" name=""/>
            <p:cNvSpPr/>
            <p:nvPr/>
          </p:nvSpPr>
          <p:spPr>
            <a:xfrm>
              <a:off x="685800" y="2165400"/>
              <a:ext cx="1047960" cy="26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40404"/>
                  </a:solidFill>
                  <a:latin typeface="Times New Roman"/>
                </a:rPr>
                <a:t>SPOLOČNÉ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94760" y="2165400"/>
              <a:ext cx="1178640" cy="26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40404"/>
                  </a:solidFill>
                  <a:latin typeface="Times New Roman"/>
                </a:rPr>
                <a:t>VARIABILNÉ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51600" y="2165400"/>
            <a:ext cx="78588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PRIAM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59480" y="2165400"/>
            <a:ext cx="104796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NEPRIAM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7800" y="3083040"/>
            <a:ext cx="917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ČASOV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97480" y="3081240"/>
            <a:ext cx="138420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PRIESTOROV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87800" y="3083040"/>
            <a:ext cx="78588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55760" y="4127400"/>
            <a:ext cx="144000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KVALIT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65720" y="4129200"/>
            <a:ext cx="170172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KVANTIT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85920" y="5043600"/>
            <a:ext cx="1493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ALTERNATÍV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5043600"/>
            <a:ext cx="9158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MNOŽN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41920" y="5043600"/>
            <a:ext cx="91764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SPOJIT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73960" y="5043600"/>
            <a:ext cx="117936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DISKRÉTN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1773360"/>
            <a:ext cx="536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09600" y="1903320"/>
            <a:ext cx="1440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43640" y="1903320"/>
            <a:ext cx="1440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47440" y="190332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424200" y="1903320"/>
            <a:ext cx="180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51600" y="2819520"/>
            <a:ext cx="1440" cy="25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038040" y="3865680"/>
            <a:ext cx="324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51600" y="3865680"/>
            <a:ext cx="144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89000" y="4781520"/>
            <a:ext cx="648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692160" y="4781520"/>
            <a:ext cx="324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1640" y="3865680"/>
            <a:ext cx="3009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94040" y="4781520"/>
            <a:ext cx="1701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35400" y="4781520"/>
            <a:ext cx="1963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928960" y="4419720"/>
            <a:ext cx="1440" cy="3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51600" y="4459320"/>
            <a:ext cx="144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52560" y="1776240"/>
            <a:ext cx="14400" cy="122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2206"/>
                </a:moveTo>
                <a:lnTo>
                  <a:pt x="0" y="0"/>
                </a:lnTo>
                <a:lnTo>
                  <a:pt x="0" y="15441"/>
                </a:lnTo>
                <a:lnTo>
                  <a:pt x="18750" y="15441"/>
                </a:lnTo>
                <a:lnTo>
                  <a:pt x="18750" y="19853"/>
                </a:lnTo>
                <a:lnTo>
                  <a:pt x="0" y="2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2560" y="1776240"/>
            <a:ext cx="1800" cy="12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15120" y="1771560"/>
            <a:ext cx="468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89560" y="1405080"/>
            <a:ext cx="1440" cy="24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84480" y="2809800"/>
            <a:ext cx="180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70680" y="1917720"/>
            <a:ext cx="324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7520" y="1901880"/>
            <a:ext cx="324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37200" y="4781520"/>
            <a:ext cx="648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7073640" y="4781520"/>
            <a:ext cx="3240" cy="2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048120"/>
            <a:ext cx="8384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40404"/>
                </a:solidFill>
                <a:latin typeface="Times New Roman"/>
              </a:rPr>
              <a:t>VECNÉ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B97-2BE1-45AF-BA1B-FC5CB5DBA4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4c2b"/>
                </a:solidFill>
                <a:latin typeface="Times New Roman"/>
              </a:rPr>
              <a:t>1.3. Etapy štat. skúmani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. skúmanie sa skladá z troch etáp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67040" y="2657520"/>
            <a:ext cx="3000240" cy="3362400"/>
            <a:chOff x="2867040" y="2657520"/>
            <a:chExt cx="3000240" cy="3362400"/>
          </a:xfrm>
        </p:grpSpPr>
        <p:sp>
          <p:nvSpPr>
            <p:cNvPr id="171" name=""/>
            <p:cNvSpPr/>
            <p:nvPr/>
          </p:nvSpPr>
          <p:spPr>
            <a:xfrm>
              <a:off x="3252240" y="5409000"/>
              <a:ext cx="233388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štatistický rozbo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17320" y="4095360"/>
              <a:ext cx="2333880" cy="5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spracovan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67040" y="2657520"/>
              <a:ext cx="3000240" cy="58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33"/>
                  </a:solidFill>
                  <a:latin typeface="Times New Roman"/>
                </a:rPr>
                <a:t>štatistické zisťovan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3440" y="4713480"/>
              <a:ext cx="55656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333333"/>
                  </a:solidFill>
                  <a:latin typeface="Wingdings"/>
                  <a:ea typeface="Wingdings"/>
                </a:rPr>
                <a:t>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5800" y="3326040"/>
              <a:ext cx="55656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333333"/>
                  </a:solidFill>
                  <a:latin typeface="Wingdings"/>
                  <a:ea typeface="Wingdings"/>
                </a:rPr>
                <a:t>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DB8-263C-45AC-82DD-AC2A4CEF8A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Formy štat. zisťovani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: výkazníct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úpis – cenzu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anketa i i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Štat. zisťovani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: z hľadiska počtu jednotiek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yčerpávajúce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k zisťujeme informácie o jednotkách celého základného súbo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ýberové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k zisťujeme informácie len o výberovom súbore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6EF-6F5D-42BB-87F7-F5D7B864B2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dľa dĺžky resp.  periodicity časového intervalu štatistického zisťovania pozná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ické zisťovani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jednoráz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bežné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periodické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ravidelne sa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pakujú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           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nepravidelné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pakujúce sa v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epravidelných intervalo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20D-8854-47FA-8D21-C1A293D4A6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Štatistické tried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rvá fáz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spracovania štatististických údajov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usporiadanie jednotiek štatistického súboru do skupín (tried) podľa určitého štat. znaku alebo znakov, vymezenie typiských skupín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. znak, ktorý je kritério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 triedení nazývam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800000"/>
                </a:solidFill>
                <a:latin typeface="Times New Roman"/>
              </a:rPr>
              <a:t>triediacim znakom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4094280"/>
            <a:ext cx="2209680" cy="21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107-84F5-404C-A19A-B44BA1A401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sk-SK" sz="4000" spc="-1" strike="noStrike">
                <a:solidFill>
                  <a:srgbClr val="800000"/>
                </a:solidFill>
                <a:latin typeface="Times New Roman"/>
              </a:rPr>
              <a:t>Štatistika</a:t>
            </a:r>
            <a:r>
              <a:rPr b="0" lang="sk-SK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004c2b"/>
                </a:solidFill>
                <a:latin typeface="Times New Roman"/>
              </a:rPr>
              <a:t>ako vedná disciplín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Times New Roman"/>
              </a:rPr>
              <a:t>Definuj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eme ju ako vedu o </a:t>
            </a: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metód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kvantitatívneho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hodnotenia </a:t>
            </a:r>
            <a:r>
              <a:rPr b="1" lang="sk-SK" sz="3200" spc="-1" strike="noStrike">
                <a:solidFill>
                  <a:srgbClr val="800000"/>
                </a:solidFill>
                <a:latin typeface="Times New Roman"/>
              </a:rPr>
              <a:t>vlastnost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hromadných javo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3 významy pojmu „štatistika“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raktická činnosť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štatistické úda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0000"/>
                </a:solidFill>
                <a:latin typeface="Times New Roman"/>
              </a:rPr>
              <a:t>vedná disciplí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F8A-2236-4606-A0A3-0C5F428493F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72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kladné kritériá pri triedení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sada úplnost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triedy musia byť vytvorené tak, aby každá jednotka mala šancu byť do niektorej z tried zatrieden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sada jednoznačnosti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triedy musia byť vytvorené tak, aby o každej jednotke bolo jednoznačne rozhodnuté do ktorej z tried má byť zaraden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7C9-C8D0-4815-8638-2EBA4F336F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lasifikácia triedenia podľa druh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triediaceho znak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časového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tvorenie časových rad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ecnéh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   - 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kvalitatív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kvantitatív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 hľadiska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riestorového -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estorové zoskupenie jednotiek, napr. regionálne zatriedenie podniko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934320" y="2209680"/>
            <a:ext cx="190476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E56-1D46-4EC3-A927-26F5DEA8C2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Rozdelenie podľa počtu triediaci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znakov:- jednostupň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viacstupňov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enie podľa hĺbky: - typologick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prehĺbe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analytick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D13-4AF4-408E-B0F6-4CFEC4713B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Triedenie podľa kvalitatívnych. znakov </a:t>
            </a:r>
            <a:r>
              <a:rPr b="0" lang="sk-SK" sz="4000" spc="-1" strike="noStrike">
                <a:solidFill>
                  <a:srgbClr val="004c2b"/>
                </a:solidFill>
                <a:latin typeface="Times New Roman"/>
              </a:rPr>
              <a:t>(asociačné triedenie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značenie kvalitatívnych znakov - A, B, C, 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Varianty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obmeny  znakov označujeme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apr. dichotomické -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, </a:t>
            </a:r>
            <a:r>
              <a:rPr b="1" lang="sk-SK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lebo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lynomické –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 a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.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tried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určitá skupina štat. jednotiek, ktorá má rovnakú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obmenu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(variant) alebo kombináciu obmien štat. znak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4920" y="4038480"/>
          <a:ext cx="698400" cy="24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038480"/>
                    <a:ext cx="6984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8001000" y="3962520"/>
          <a:ext cx="1143000" cy="25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3962520"/>
                    <a:ext cx="11430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6CA-C6F3-4B86-B6E2-73E0B140BE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9072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íklad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máme 81 pracovníkov a evidujeme u nich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- pohlavie, B - vzdelanie, C - funkc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každý znak má len dve obmen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 mu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ži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- VŠ      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vo funkci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- ženy          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ez VŠ          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ez funkcie</a:t>
            </a:r>
            <a:r>
              <a:rPr b="0" lang="cs-CZ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Označenie triedy – triednym symbol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38       (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17      (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14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a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43       (b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64      (c</a:t>
            </a:r>
            <a:r>
              <a:rPr b="0" lang="sk-SK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=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riedny symbol                   triedna početnosť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800600"/>
            <a:ext cx="15264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648320"/>
            <a:ext cx="1143000" cy="533160"/>
          </a:xfrm>
          <a:prstGeom prst="line">
            <a:avLst/>
          </a:prstGeom>
          <a:ln w="3816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6AF-B09D-41E2-A0E3-983AEC69A9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Podvojné trieden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kombinovanie 2 triediacich znakov súčasne, výsledkom sú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asociačné tabuľky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rozmer 2 x 2),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ba triediace znaky sú alternatívne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kontigenčné tabuľky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spoň jeden zo znakov má viac ako 2 variant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BBE-1574-4151-B528-2AA80F1363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sociačná tabuľka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výsledok triedenia podľa pohlavia (A) a funkcie (C)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3880" y="2590920"/>
          <a:ext cx="6242040" cy="182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2420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371600" y="2362320"/>
          <a:ext cx="6242040" cy="350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2362320"/>
                    <a:ext cx="62420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57200" y="1981080"/>
          <a:ext cx="8191440" cy="4476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1981080"/>
                    <a:ext cx="819144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F29-7A2C-4098-9FB9-B9747D4A23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Zamyslenie nad výsledkom </a:t>
            </a:r>
            <a:br>
              <a:rPr sz="36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asociačnej tabuľky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žno konštatovať, že približ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vnomerne sú vo funkciách zastúpení muži aj ženy A/N ?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áno, tak prečo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nie, čo sa Vám žiada prepočítať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ste prepočítali niečo naviac, napr. percentá, tak aká je teraz vaša odpoveď.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 niečo ste zrejme zabudli !!!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sociačná tabuľka umožňuje analyzovať súvislosti medzi znakm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209680" cy="2170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525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38A-E39C-45DC-875D-012CD2F958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Triedenie podľa kvantitatívnych  znakov - variačné tried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Kvantitatívne znaky označujeme písmenami  z konca abecedy – X, Y, Z, 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ich obmeny –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, ..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. x</a:t>
            </a:r>
            <a:r>
              <a:rPr b="0" lang="sk-SK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enie súboru o rozsahu </a:t>
            </a:r>
            <a:r>
              <a:rPr b="1" i="1" lang="sk-SK" sz="36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na</a:t>
            </a:r>
            <a:r>
              <a:rPr b="1" i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sk-SK" sz="36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poč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trie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Rozlišuje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triedenie jednoduch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rozdelenie početnost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- skupinové - intervalové rozdelenie početnost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724280" y="4495680"/>
            <a:ext cx="990720" cy="381240"/>
          </a:xfrm>
          <a:prstGeom prst="line">
            <a:avLst/>
          </a:prstGeom>
          <a:ln w="1260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DB8-95CE-49E2-B26C-32F69C0328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Rozdelenie početností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užijeme ho vtedy,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keď triediaci znak je diskrétny s malým počtom obmien, varian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n 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absolútne početnosti ( poče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ezaopatrených detí)    i=1,2,3,4....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1" lang="sk-SK" sz="32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– hodnota znak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44B-24D0-4101-B2C6-09501E2F3C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858000" y="228600"/>
            <a:ext cx="1976400" cy="1981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Etapy vývoja štatistik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3 etapy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pisná štatis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- popis štátu, „status“  stav, resp. štát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politická aritme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- úplný popis obyvateľstva, natalita, mortalita, vývoj obyvateľstva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induktívna štatistik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(moderná,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analytická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), výberové skúmanie, napr. štatistika rodinných účtov a pod., marketingový priesku, výskum verejnej mienky a pod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B57-410A-4F67-906A-4D1FCDA5F83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Rozdelenie početností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81280" y="17524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užijeme ho vtedy,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keď triediaci znak je diskrétny s malým počtom obmien, varian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i="1" lang="sk-SK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– absolútne početnosti (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nezaopatrených detí) 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i=1,2,3,4.…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tried, obmie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i="1" lang="sk-SK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– hodnota, obmena zna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9480" y="1828800"/>
          <a:ext cx="388476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3884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990720" y="1752480"/>
          <a:ext cx="2076480" cy="3943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1752480"/>
                    <a:ext cx="20764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901-164C-4C86-A880-54054D778D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48006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4419720"/>
            <a:ext cx="4191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Počet intervalov </a:t>
            </a:r>
            <a:r>
              <a:rPr b="0" i="1" lang="sk-SK" sz="3200" spc="-1" strike="noStrike">
                <a:solidFill>
                  <a:srgbClr val="333333"/>
                </a:solidFill>
                <a:latin typeface="Tahoma"/>
              </a:rPr>
              <a:t>(m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Rozpätie intervalu </a:t>
            </a:r>
            <a:r>
              <a:rPr b="0" i="1" lang="sk-SK" sz="3200" spc="-1" strike="noStrike">
                <a:solidFill>
                  <a:srgbClr val="333333"/>
                </a:solidFill>
                <a:latin typeface="Tahoma"/>
              </a:rPr>
              <a:t>(h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957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39720" y="1295280"/>
                <a:ext cx="78627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é rozdelenie početností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505-057E-4C62-814F-FB55D71428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Rozdelenie platov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1905120"/>
          <a:ext cx="7239240" cy="4132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905120"/>
                    <a:ext cx="72392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419720" y="112680"/>
          <a:ext cx="3581280" cy="1798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112680"/>
                    <a:ext cx="35812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208-2183-4372-A21A-D0B4C2DA3B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Rozdelenie platov - histogram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90720" y="1828800"/>
          <a:ext cx="693396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6933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63F-8BD6-497B-833E-6CD71B17F6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1.2. Základné pojmy</a:t>
            </a:r>
            <a:r>
              <a:rPr b="0" lang="cs-CZ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Nevyhnutným predpokladom každéh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štatistického skúmania je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os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ozorovan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Pri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om pozorovaní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môže ísť 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jednoduché pozorovanie -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získanie údajov pozorovaním, meraním, 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Experiment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najmä v biologických a iných pokuso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D4A-AB8B-4DDC-A859-58396F0D92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Hromadný jav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sa skladá z mnohý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individuálnych javov. Nositelia týchto javov sa nazývajú 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štatistickými jednotkami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2860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Predmetom skúmania je hromadný jav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918-EC10-4A77-BA8E-86B6BCBF9B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4c2b"/>
                </a:solidFill>
                <a:latin typeface="Times New Roman"/>
              </a:rPr>
              <a:t>Štatistická jednotk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3716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ahoma"/>
              </a:rPr>
              <a:t>-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je základný prvok, na ktorom možno skúmať konkrétny prejav určitého hromadného javu a je základným a presne vymedzeným objektom pozorovan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Výber štatistickej jednotky je určený cieľom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ahoma"/>
              </a:rPr>
              <a:t>Napr.: sociálne slabšie rodiny v SR v r.200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007-7BB8-4BD9-9885-CAC1B03F28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4c2b"/>
                </a:solidFill>
                <a:latin typeface="Times New Roman"/>
              </a:rPr>
              <a:t>Vymedzenie štatistických jednotiek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priestorové 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musí byť presne      vymedzený priestor, napr. Slovensk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časové -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ymedzenie obdobia, resp. okamihu, napr. kalendárny rok 200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333333"/>
                </a:solidFill>
                <a:latin typeface="Times New Roman"/>
              </a:rPr>
              <a:t>vecné</a:t>
            </a:r>
            <a:r>
              <a:rPr b="0" lang="sk-SK" sz="36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obsahové vymedzenie , napr. domácností s čistým  príjmom pod 2500 Sk na 1 čle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DE9-9916-468A-8869-0D1D991202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004c2b"/>
                </a:solidFill>
                <a:latin typeface="Times New Roman"/>
              </a:rPr>
              <a:t>Št</a:t>
            </a:r>
            <a:r>
              <a:rPr b="1" lang="sk-SK" sz="4000" spc="-1" strike="noStrike">
                <a:solidFill>
                  <a:srgbClr val="004c2b"/>
                </a:solidFill>
                <a:latin typeface="Times New Roman"/>
              </a:rPr>
              <a:t>atistický súbor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je množina štatistických jednotiek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z ktorých  každá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yhovuje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určitým vlastnostiam, ktoré vymedzujú štatistický súbor z hľadiska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časového priestorového a vecného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a v iných vlastnostiach sa štatistické jednotky l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íši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Vlastnosti, v ktorých sa štatistické jednotky líšia sú predmetom skúmania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4c2b"/>
                </a:solidFill>
                <a:latin typeface="Times New Roman"/>
              </a:rPr>
              <a:t>Rozsah štatistického súbo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počet štat. jednotiek v štat. súbo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5C8-3322-465C-953E-27C45254B7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Štatistický súbor býkov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5562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štatistický súbor býkov môžu byť  spoločné nasledovné vlastnosti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lemen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dobie chov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 býkov sa však bude líšiť napr. v hmotnosti, výkonnosti a pod. Tieto vlastnosti môžu byť predmetom skúm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410080" y="1981080"/>
          <a:ext cx="342900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1981080"/>
                    <a:ext cx="34290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Zlata Sojková,CS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627-F1B8-4A1A-B8B4-4245AA64027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m</cp:lastModifiedBy>
  <cp:lastPrinted>2001-02-15T18:08:48Z</cp:lastPrinted>
  <dcterms:modified xsi:type="dcterms:W3CDTF">2005-02-14T11:09:18Z</dcterms:modified>
  <cp:revision>68</cp:revision>
  <dc:subject/>
  <dc:title>Prezentace aplikace PowerPoint</dc:title>
</cp:coreProperties>
</file>