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8145-172D-4766-8E86-2519113C2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C570-2799-4072-98EE-DC70F7BE5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8B2D-645F-4687-ACD7-2442CE693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CE21-2D25-42D4-9E1D-480F53269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6CCB-27A0-4D16-BB35-65A835013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00AC-60CA-4FBF-9E03-00E1EC280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427C7-3677-457F-AB75-C4454398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3BC2-56D1-403F-911C-A0944E26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5AB1-94B1-4B5E-B2E0-DF8AEE40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910B-4DFC-4C25-8ECD-DD53E0D07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E58EE-6E0A-4EDB-9396-E685A22C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0ADE-F308-4B02-A6A6-34239EFB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4025-C4DE-4E93-A883-C7EF7C18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F245-0719-4210-8555-81B5400C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8C92-C80C-4C0B-956F-E3A80261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614C-E3FD-4A17-AEBB-9504E21AA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BEF9-F47B-4B11-9D3E-7FD610322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A263-D39C-4160-B16E-6A95727E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AB5F-21D3-4D93-AE68-EBBE3B6D0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EC3C-8E0B-4CE6-BC22-9534C9A8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DBF6-023F-44E1-881F-22C0CB6D6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518F-1ACD-4BFA-A399-C98E03AA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1E4B-0DED-4C71-AAF5-90A2F0E3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778E-AAAD-49B7-B354-2DEA5EBE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F77F-AE67-4435-9AF2-026CE9D14AB9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E0BED-9163-4DC7-9382-8169C20D6845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143000" y="609480"/>
            <a:ext cx="4800600" cy="1371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427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estovani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1905120"/>
            <a:ext cx="861048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štatistických  hypoté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4037400"/>
            <a:ext cx="7122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Nehovor: “Objavil som pravdu!”,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ale radšej, “Objavil som jednu z právd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Kahlin Gibran “Prorok”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E623-BE08-4265-8857-5F346E5270B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Chyba prvého druhu   </a:t>
            </a:r>
            <a:r>
              <a:rPr b="1" lang="en-US" sz="3600" spc="-1" strike="noStrike">
                <a:solidFill>
                  <a:srgbClr val="004c2b"/>
                </a:solidFill>
                <a:latin typeface="Symbol"/>
                <a:ea typeface="Symbol"/>
              </a:rPr>
              <a:t></a:t>
            </a: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chyba  druhého druhu </a:t>
            </a:r>
            <a:r>
              <a:rPr b="1" lang="en-US" sz="3600" spc="-1" strike="noStrike">
                <a:solidFill>
                  <a:srgbClr val="004c2b"/>
                </a:solidFill>
                <a:latin typeface="Symbol"/>
                <a:ea typeface="Symbol"/>
              </a:rPr>
              <a:t>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5562720"/>
            <a:ext cx="75438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2590920"/>
            <a:ext cx="4648320" cy="2984400"/>
          </a:xfrm>
          <a:custGeom>
            <a:avLst/>
            <a:gdLst/>
            <a:ahLst/>
            <a:rect l="l" t="t" r="r" b="b"/>
            <a:pathLst>
              <a:path w="2928" h="1496">
                <a:moveTo>
                  <a:pt x="0" y="1496"/>
                </a:moveTo>
                <a:cubicBezTo>
                  <a:pt x="260" y="1284"/>
                  <a:pt x="520" y="1072"/>
                  <a:pt x="768" y="824"/>
                </a:cubicBezTo>
                <a:cubicBezTo>
                  <a:pt x="1016" y="576"/>
                  <a:pt x="1256" y="16"/>
                  <a:pt x="1488" y="8"/>
                </a:cubicBezTo>
                <a:cubicBezTo>
                  <a:pt x="1720" y="0"/>
                  <a:pt x="1920" y="552"/>
                  <a:pt x="2160" y="776"/>
                </a:cubicBezTo>
                <a:cubicBezTo>
                  <a:pt x="2400" y="1000"/>
                  <a:pt x="2816" y="1264"/>
                  <a:pt x="2928" y="1352"/>
                </a:cubicBezTo>
              </a:path>
            </a:pathLst>
          </a:custGeom>
          <a:noFill/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2590920"/>
            <a:ext cx="4647960" cy="2832120"/>
          </a:xfrm>
          <a:custGeom>
            <a:avLst/>
            <a:gdLst/>
            <a:ahLst/>
            <a:rect l="l" t="t" r="r" b="b"/>
            <a:pathLst>
              <a:path w="2928" h="1496">
                <a:moveTo>
                  <a:pt x="0" y="1496"/>
                </a:moveTo>
                <a:cubicBezTo>
                  <a:pt x="260" y="1284"/>
                  <a:pt x="520" y="1072"/>
                  <a:pt x="768" y="824"/>
                </a:cubicBezTo>
                <a:cubicBezTo>
                  <a:pt x="1016" y="576"/>
                  <a:pt x="1256" y="16"/>
                  <a:pt x="1488" y="8"/>
                </a:cubicBezTo>
                <a:cubicBezTo>
                  <a:pt x="1720" y="0"/>
                  <a:pt x="1920" y="552"/>
                  <a:pt x="2160" y="776"/>
                </a:cubicBezTo>
                <a:cubicBezTo>
                  <a:pt x="2400" y="1000"/>
                  <a:pt x="2816" y="1264"/>
                  <a:pt x="2928" y="1352"/>
                </a:cubicBezTo>
              </a:path>
            </a:pathLst>
          </a:custGeom>
          <a:noFill/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95680" y="3809880"/>
            <a:ext cx="0" cy="167652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495680" y="4876560"/>
            <a:ext cx="457200" cy="15228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4495680" y="5105160"/>
            <a:ext cx="609840" cy="15228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572000" y="5333760"/>
            <a:ext cx="685800" cy="15228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876920" y="4876560"/>
            <a:ext cx="685800" cy="15228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4495680"/>
            <a:ext cx="4572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9880" y="4800600"/>
            <a:ext cx="6858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352680" y="5181480"/>
            <a:ext cx="114300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3657600" y="4800240"/>
            <a:ext cx="457200" cy="2286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62720" y="4343400"/>
            <a:ext cx="2404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= P(H</a:t>
            </a:r>
            <a:r>
              <a:rPr b="1" lang="en-US" sz="32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/H</a:t>
            </a:r>
            <a:r>
              <a:rPr b="1" lang="en-US" sz="32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4495680"/>
            <a:ext cx="2743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= P(H</a:t>
            </a:r>
            <a:r>
              <a:rPr b="1" lang="en-US" sz="32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/H</a:t>
            </a:r>
            <a:r>
              <a:rPr b="1" lang="en-US" sz="32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423520" y="3516480"/>
            <a:ext cx="98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 - </a:t>
            </a:r>
            <a:r>
              <a:rPr b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3240" y="3505320"/>
            <a:ext cx="94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 - </a:t>
            </a:r>
            <a:r>
              <a:rPr b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90840" y="2479680"/>
            <a:ext cx="81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f(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55000" y="2666880"/>
            <a:ext cx="813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f(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1295280"/>
            <a:ext cx="8458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 - </a:t>
            </a:r>
            <a:r>
              <a:rPr b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…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ravdepodobnosť prijatia správnej hypotéz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 - 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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…sila testu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467480" y="1981080"/>
            <a:ext cx="1052640" cy="19814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715640" y="5537160"/>
            <a:ext cx="4463640" cy="10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avdepodobnosť prijatia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keď platí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40" y="5597280"/>
            <a:ext cx="4329360" cy="10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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avdepodobnosť prijatia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keď platí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5328-993E-4F02-A394-56057F51637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25360" y="685800"/>
            <a:ext cx="839052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hyba prvého druhu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 chyba druhého druhu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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ú vzájomne previazanými chybami.</a:t>
            </a: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Znižovanie chyby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jedného duhu vedie k zväčšovaniu chyby druhého druhu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to je potrebné nájsť kompromis medzi nimi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Z uvedeného dôvodu sa obvykle volí </a:t>
            </a:r>
            <a:r>
              <a:rPr b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= 0,05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CA19-8747-4579-AD57-BAA0BBE637D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FOTO2" descr=""/>
          <p:cNvPicPr/>
          <p:nvPr/>
        </p:nvPicPr>
        <p:blipFill>
          <a:blip r:embed="rId2"/>
          <a:stretch/>
        </p:blipFill>
        <p:spPr>
          <a:xfrm>
            <a:off x="380880" y="0"/>
            <a:ext cx="8382240" cy="40784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0" y="396252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Anjel ako “objednávateľ si chce byť istý, že bocian nedodá príliš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veľa chlapcov. 52% alebo ešte viac sa mu zdá vo vzorovej zásielke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príliš mnoho. “Dodávatel</a:t>
            </a:r>
            <a:r>
              <a:rPr b="1" i="1" lang="sk-SK" sz="2400" spc="-1" strike="noStrike">
                <a:solidFill>
                  <a:srgbClr val="333333"/>
                </a:solidFill>
                <a:latin typeface="Times New Roman"/>
              </a:rPr>
              <a:t>ˇ“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 bocian vie, že v priemere dodáva 51%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chlapcov, ale pri prísnych podmienkach “prebierky” by bolo 16%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jeho jeho zásielky odmietnuté, aj keď “celková produkcia” zodpovedá požiadavkám. Otázkou je ako je rozdelené riziko medzi dodávateľom a odberateľom. Na obrázku anjel neriskuje vôbec nič.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A1B9-16E8-43BE-8796-CC49C71D77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Postup testovania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ormulujeme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základnú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a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alternatívnu  hypotéz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Zvolíme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hladinu významnosti </a:t>
            </a:r>
            <a:r>
              <a:rPr b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ypočítame potrebné výberové charakteristiky a zvolíme správne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testovacie kritérium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ktorého hodnotu vypočítame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ozhodneme o výsledku testu, t.j. o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zamietnutí, resp. nezamietnutí nulovej hypotézy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orovnaním hodnoty testovacieho kritéria s kritickými hodnotam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íslušného rozdelenia (nájdené v tabuľkách)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AB41-5C6A-4FA5-918B-0B0CE23EF90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Testy hypotéz o strednej hodnote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1514520"/>
            <a:ext cx="838224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A. Testy zhody strednej hodnoty so známou konštantou       H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: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2631960"/>
            <a:ext cx="8796600" cy="33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ech štatistický znak X má  v základnom súbore  približne normálne rozdelenie ….N(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edpokladajme, že odhadovaná stredná hodnota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sa rovná známej konštante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, t.j.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: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proti alternatívnej hypotéze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: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 obostrannom tes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est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=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čom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… N(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/n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502160" y="3346560"/>
                <a:ext cx="139680" cy="1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2666880" y="5410080"/>
                <a:ext cx="390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447920" y="5029200"/>
                <a:ext cx="390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1DB2-F605-41A5-AC86-FFCB63904B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a) predpokladajme,</a:t>
            </a: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že</a:t>
            </a:r>
            <a:r>
              <a:rPr b="0" lang="en-US" sz="4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poznáme rozptyl       základného súboru </a:t>
            </a:r>
            <a:r>
              <a:rPr b="0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0" lang="en-US" sz="3200" spc="-1" strike="noStrike" baseline="30000">
                <a:solidFill>
                  <a:srgbClr val="990033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teoretický predpoklad)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488960"/>
            <a:ext cx="8077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otom vytvoríme ako testovaciu chrakteristik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áhodnú veličinu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447920" y="2819520"/>
                <a:ext cx="2819160" cy="19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- 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σ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5778360" y="3191040"/>
            <a:ext cx="203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má …N(0,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501336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me transformovali  na známe teoretické rozdelenie.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D212-F2A7-4CCF-B39F-947C0599DA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990720" y="2362320"/>
          <a:ext cx="7162560" cy="3809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2362320"/>
                    <a:ext cx="71625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2514600" y="5257800"/>
            <a:ext cx="0" cy="38088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00800" y="5257800"/>
            <a:ext cx="0" cy="38088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46680" y="3973680"/>
            <a:ext cx="123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1 - </a:t>
            </a:r>
            <a:r>
              <a:rPr b="1" i="1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2666880"/>
            <a:ext cx="0" cy="289584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560" y="2743200"/>
            <a:ext cx="8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f(u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828800" y="5859360"/>
                <a:ext cx="152388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5756400" y="5859360"/>
                <a:ext cx="113652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974880" y="1260360"/>
            <a:ext cx="733104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k |u</a:t>
            </a:r>
            <a:r>
              <a:rPr b="0" lang="en-US" sz="3200" spc="-1" strike="noStrike" baseline="-25000">
                <a:solidFill>
                  <a:srgbClr val="333333"/>
                </a:solidFill>
                <a:latin typeface="Times New Roman"/>
              </a:rPr>
              <a:t>vyp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|</a:t>
            </a:r>
            <a:r>
              <a:rPr b="0" lang="en-US" sz="3200" spc="-1" strike="noStrike">
                <a:solidFill>
                  <a:srgbClr val="333333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u</a:t>
            </a:r>
            <a:r>
              <a:rPr b="0" lang="en-US" sz="3200" spc="-1" strike="noStrike" baseline="-25000">
                <a:solidFill>
                  <a:srgbClr val="333333"/>
                </a:solidFill>
                <a:latin typeface="Times New Roman"/>
              </a:rPr>
              <a:t>1-</a:t>
            </a:r>
            <a:r>
              <a:rPr b="0" lang="en-US" sz="32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 baseline="-25000">
                <a:solidFill>
                  <a:srgbClr val="333333"/>
                </a:solidFill>
                <a:latin typeface="Times New Roman"/>
              </a:rPr>
              <a:t>/2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=&gt; H</a:t>
            </a:r>
            <a:r>
              <a:rPr b="0" lang="en-US" sz="32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nezamieta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Ak |u</a:t>
            </a:r>
            <a:r>
              <a:rPr b="0" lang="en-US" sz="3200" spc="-1" strike="noStrike" baseline="-25000">
                <a:solidFill>
                  <a:srgbClr val="333333"/>
                </a:solidFill>
                <a:latin typeface="Times New Roman"/>
              </a:rPr>
              <a:t>vyp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| &gt; u</a:t>
            </a:r>
            <a:r>
              <a:rPr b="0" lang="en-US" sz="3200" spc="-1" strike="noStrike" baseline="-25000">
                <a:solidFill>
                  <a:srgbClr val="333333"/>
                </a:solidFill>
                <a:latin typeface="Times New Roman"/>
              </a:rPr>
              <a:t>1-</a:t>
            </a:r>
            <a:r>
              <a:rPr b="0" lang="en-US" sz="32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 baseline="-25000">
                <a:solidFill>
                  <a:srgbClr val="333333"/>
                </a:solidFill>
                <a:latin typeface="Times New Roman"/>
              </a:rPr>
              <a:t>/2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=&gt; H</a:t>
            </a:r>
            <a:r>
              <a:rPr b="0" lang="en-US" sz="32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zamietam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457200"/>
            <a:ext cx="7315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n-US" sz="3600" spc="-1" strike="noStrike">
                <a:solidFill>
                  <a:srgbClr val="004c2b"/>
                </a:solidFill>
                <a:latin typeface="Times New Roman"/>
              </a:rPr>
              <a:t>Rozhodnutie o výsledku testu: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62760" y="5638680"/>
            <a:ext cx="2456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bor prijatia H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368C-A532-4269-97D7-A7ABF1C76B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4c2b"/>
                </a:solidFill>
                <a:latin typeface="Times New Roman"/>
              </a:rPr>
              <a:t>b)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Ak nepoznáme rozptyl základného súboru, </a:t>
            </a:r>
            <a:br>
              <a:rPr sz="3200"/>
            </a:b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est </a:t>
            </a:r>
            <a:r>
              <a:rPr b="1" i="1" lang="en-US" sz="32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=  s</a:t>
            </a:r>
            <a:r>
              <a:rPr b="1" i="1" lang="en-US" sz="3200" spc="-1" strike="noStrike" baseline="-25000">
                <a:solidFill>
                  <a:srgbClr val="9e1438"/>
                </a:solidFill>
                <a:latin typeface="Times New Roman"/>
              </a:rPr>
              <a:t>1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 , </a:t>
            </a: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a rozsah výberového </a:t>
            </a: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súboru n &gt; 30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447920" y="2666880"/>
                <a:ext cx="2590560" cy="18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- 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4574160" y="2057400"/>
            <a:ext cx="328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ôžme použiť N(0,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219320" y="4677840"/>
            <a:ext cx="642600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Ak |u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vyp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|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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 u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1-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/2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=&gt; H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nezamietam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ak |u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vyp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| &gt; u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1-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/2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=&gt; H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zamietam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FAB7-EE42-4055-B28F-AFC3CC383C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143000" y="2590920"/>
                <a:ext cx="2741760" cy="199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- 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n</m:t>
                                </m:r>
                              </m:e>
                            </m:rad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7" name=""/>
          <p:cNvSpPr/>
          <p:nvPr/>
        </p:nvSpPr>
        <p:spPr>
          <a:xfrm>
            <a:off x="380880" y="704880"/>
            <a:ext cx="8286840" cy="16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c)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Ak nepoznáme rozptyl základného súboru, </a:t>
            </a:r>
            <a:br>
              <a:rPr sz="3200"/>
            </a:b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est </a:t>
            </a:r>
            <a:r>
              <a:rPr b="1" i="1" lang="en-US" sz="32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=  s</a:t>
            </a:r>
            <a:r>
              <a:rPr b="1" i="1" lang="en-US" sz="3200" spc="-1" strike="noStrike" baseline="-25000">
                <a:solidFill>
                  <a:srgbClr val="9e1438"/>
                </a:solidFill>
                <a:latin typeface="Times New Roman"/>
              </a:rPr>
              <a:t>1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 , </a:t>
            </a: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a rozsah výberového </a:t>
            </a: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súboru je malý, n </a:t>
            </a:r>
            <a:r>
              <a:rPr b="1" lang="en-US" sz="3200" spc="-1" strike="noStrike">
                <a:solidFill>
                  <a:srgbClr val="9e1438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>
                <a:solidFill>
                  <a:srgbClr val="9e1438"/>
                </a:solidFill>
                <a:latin typeface="Times New Roman"/>
              </a:rPr>
              <a:t> 3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4120" y="2743200"/>
            <a:ext cx="2895480" cy="17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Kritická hodnota</a:t>
            </a:r>
            <a:r>
              <a:rPr b="1" i="1" lang="en-US" sz="3200" spc="-1" strike="noStrike">
                <a:solidFill>
                  <a:srgbClr val="333333"/>
                </a:solidFill>
                <a:latin typeface="Times New Roman"/>
              </a:rPr>
              <a:t> t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 (n-1)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- kvantil   Studentovh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ozdelenia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5080" y="4384800"/>
            <a:ext cx="27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yhodnotenie testu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1066680" y="4876920"/>
            <a:ext cx="1347840" cy="14475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858000" y="52578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ccc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71800" y="5104800"/>
            <a:ext cx="318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Doplňte sami !!!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-210960" y="2117520"/>
            <a:ext cx="249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Testovaci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kritérium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EA0A-A8BF-4B53-9924-1991C77398C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B. Testy hypotéz o zhode dvoch stredných hodnôt nezávislých súborov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84360" y="2022480"/>
            <a:ext cx="268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447920"/>
            <a:ext cx="8229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ech štatistický znak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X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á  v prvom základnom súbore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bližne normálne rozdelenie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….N(</a:t>
            </a:r>
            <a:r>
              <a:rPr b="1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en-US" sz="2400" spc="-1" strike="noStrike" baseline="30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Štatistický znak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á  v druhom základnom súbore  tiež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bližne normálne rozdelenie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….N(</a:t>
            </a:r>
            <a:r>
              <a:rPr b="1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edpokladajme, že odhadované stredné hodnoty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sú  zhodné, t.j. testujeme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: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proti alternatívnej hypotéze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: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 obostrannom tes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est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… N(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/n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est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… N(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 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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/n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828800" y="5562720"/>
                <a:ext cx="62532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905120" y="5105520"/>
                <a:ext cx="5810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CBD8-5AB5-4642-A510-61F86336993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Times New Roman"/>
              </a:rPr>
              <a:t>Testovanie </a:t>
            </a:r>
            <a:r>
              <a:rPr b="1" i="1" lang="sk-SK" sz="4400" spc="-1" strike="noStrike">
                <a:solidFill>
                  <a:srgbClr val="cc3300"/>
                </a:solidFill>
                <a:latin typeface="Times New Roman"/>
              </a:rPr>
              <a:t>š</a:t>
            </a:r>
            <a:r>
              <a:rPr b="1" i="1" lang="en-US" sz="4400" spc="-1" strike="noStrike">
                <a:solidFill>
                  <a:srgbClr val="cc3300"/>
                </a:solidFill>
                <a:latin typeface="Times New Roman"/>
              </a:rPr>
              <a:t>tatistických hypotéz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arametre základného súboru nepoznám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Môžeme však o nich vysloviť určité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predpoklad</a:t>
            </a: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y,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ktoré formulujeme ako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hypotézy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 overujeme 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štatistickými postupmi - </a:t>
            </a:r>
            <a:r>
              <a:rPr b="1" i="1" lang="sk-SK" sz="2800" spc="-1" strike="noStrike">
                <a:solidFill>
                  <a:srgbClr val="990033"/>
                </a:solidFill>
                <a:latin typeface="Times New Roman"/>
              </a:rPr>
              <a:t>testovanie štatistických hypotéz </a:t>
            </a:r>
            <a:r>
              <a:rPr b="0" i="1" lang="sk-SK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sk-SK" sz="2800" spc="-1" strike="noStrike">
                <a:solidFill>
                  <a:srgbClr val="990033"/>
                </a:solidFill>
                <a:latin typeface="Times New Roman"/>
              </a:rPr>
              <a:t>(TH)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sk-SK" sz="2800" spc="-1" strike="noStrike">
                <a:solidFill>
                  <a:srgbClr val="333333"/>
                </a:solidFill>
                <a:latin typeface="Times New Roman"/>
              </a:rPr>
              <a:t>Overovať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možno nielen predpoklady o parametroch (napríklad strednej hodnote), ale aj </a:t>
            </a:r>
            <a:r>
              <a:rPr b="1" i="1" lang="sk-SK" sz="2800" spc="-1" strike="noStrike">
                <a:solidFill>
                  <a:srgbClr val="333333"/>
                </a:solidFill>
                <a:latin typeface="Times New Roman"/>
              </a:rPr>
              <a:t>o tvare rozdelenia štatistického znaku</a:t>
            </a:r>
            <a:r>
              <a:rPr b="0" lang="sk-SK" sz="2800" spc="-1" strike="noStrike">
                <a:solidFill>
                  <a:srgbClr val="333333"/>
                </a:solidFill>
                <a:latin typeface="Times New Roman"/>
              </a:rPr>
              <a:t> (napr. testovanie zhody empirického rozdelenia početností s normálnym rozdelením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6D43-3028-42D3-853C-23725684A9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a)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 predpokladajme, že poznáme rozptyly  základných súborov </a:t>
            </a:r>
            <a:r>
              <a:rPr b="0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99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99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(teoretický predpoklad)</a:t>
            </a:r>
            <a:br>
              <a:rPr sz="2800"/>
            </a:b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potom aj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90720" y="2664000"/>
            <a:ext cx="541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25909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Vytvoríme ako testovaciu chrakteristiku náhodnú veličinu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533520" y="3429000"/>
                <a:ext cx="7689600" cy="199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b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-  {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 -  {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055520" y="1219320"/>
                <a:ext cx="582012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f>
                      <m:num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3584520" y="5562720"/>
            <a:ext cx="295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kto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rá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má …N(0,1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1DED-7036-4CDB-8968-C4A17911AB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-38088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b)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 predpokladajme, že rozptyly  základných súborov </a:t>
            </a:r>
            <a:r>
              <a:rPr b="0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99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99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nepoznáme, ale obidva výberové súbory majú dostatočný rozsah n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&gt;30, n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&gt;30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potom môžeme použiť testovaciu chrakteristiku ako v bode a)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rozptyly základných súborov nahradíme ich bodovými odhadmi:</a:t>
            </a:r>
            <a:br>
              <a:rPr sz="2800"/>
            </a:b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est </a:t>
            </a:r>
            <a:r>
              <a:rPr b="1" i="1" lang="en-US" sz="32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3200" spc="-1" strike="noStrike" baseline="-25000">
                <a:solidFill>
                  <a:srgbClr val="9e1438"/>
                </a:solidFill>
                <a:latin typeface="Times New Roman"/>
              </a:rPr>
              <a:t>1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=  s</a:t>
            </a:r>
            <a:r>
              <a:rPr b="1" i="1" lang="en-US" sz="3200" spc="-1" strike="noStrike" baseline="-25000">
                <a:solidFill>
                  <a:srgbClr val="9e1438"/>
                </a:solidFill>
                <a:latin typeface="Times New Roman"/>
              </a:rPr>
              <a:t>11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 </a:t>
            </a:r>
            <a:br>
              <a:rPr sz="3200"/>
            </a:b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 est </a:t>
            </a:r>
            <a:r>
              <a:rPr b="1" i="1" lang="en-US" sz="32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3200" spc="-1" strike="noStrike" baseline="-25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=  s</a:t>
            </a:r>
            <a:r>
              <a:rPr b="1" i="1" lang="en-US" sz="3200" spc="-1" strike="noStrike" baseline="-25000">
                <a:solidFill>
                  <a:srgbClr val="9e1438"/>
                </a:solidFill>
                <a:latin typeface="Times New Roman"/>
              </a:rPr>
              <a:t>12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5400" spc="-1" strike="noStrike">
                <a:solidFill>
                  <a:srgbClr val="9e1438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FFCD-91DF-40BC-B0FF-8326827565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839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c)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 predpokladajme, že rozptyly  základných súborov </a:t>
            </a:r>
            <a:r>
              <a:rPr b="0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99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99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nepoznáme, pričom aspoň jeden z výberových súborov má malý rozsah n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 30,  alebo n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30 </a:t>
            </a:r>
            <a:br>
              <a:rPr sz="2800"/>
            </a:b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Ak však môžeme predpokladať, že rozptyly sú zhodné, t.j.</a:t>
            </a:r>
            <a:br>
              <a:rPr sz="2800"/>
            </a:b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-25000">
                <a:solidFill>
                  <a:srgbClr val="9e1438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-25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28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= </a:t>
            </a:r>
            <a:r>
              <a:rPr b="1" i="1" lang="en-US" sz="28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,</a:t>
            </a:r>
            <a:r>
              <a:rPr b="1" i="1" lang="en-US" sz="2800" spc="-1" strike="noStrike" baseline="30000">
                <a:solidFill>
                  <a:srgbClr val="9e1438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ôžeme použiť testovaciu chrakteristiku </a:t>
            </a:r>
            <a:r>
              <a:rPr b="1" i="1" lang="en-US" sz="2800" spc="-1" strike="noStrike">
                <a:solidFill>
                  <a:srgbClr val="004c2b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, ktorá má Studentovo rozdelenie: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1143000" y="2819520"/>
                <a:ext cx="6629400" cy="23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f>
                      <m:num>
                        <m:sSub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 -  {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!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457200" y="5234400"/>
            <a:ext cx="80186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odnotu testovacieho kritéria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t -vyp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porovnáme s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kritickou hodnotou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t 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(n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1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+n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- 2)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tupne voľnosti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8F38-AC46-4710-931E-2160824E4F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9220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d)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 predpokladajme, že rozptyly  základných súborov </a:t>
            </a:r>
            <a:r>
              <a:rPr b="0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0" lang="en-US" sz="2800" spc="-1" strike="noStrike" baseline="30000">
                <a:solidFill>
                  <a:srgbClr val="99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0" lang="en-US" sz="2800" spc="-1" strike="noStrike" baseline="30000">
                <a:solidFill>
                  <a:srgbClr val="99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nepoznáme, pričom aspoň jeden z výberových súborov má malý rozsah n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 30,  alebo n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30 </a:t>
            </a:r>
            <a:br>
              <a:rPr sz="2800"/>
            </a:b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Ne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môžeme však predpokladať zhodu rozptylov(</a:t>
            </a:r>
            <a:r>
              <a:rPr b="1" i="1" lang="en-US" sz="32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3200" spc="-1" strike="noStrike" baseline="-25000">
                <a:solidFill>
                  <a:srgbClr val="9e1438"/>
                </a:solidFill>
                <a:latin typeface="Times New Roman"/>
              </a:rPr>
              <a:t>1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3200" spc="-1" strike="noStrike">
                <a:solidFill>
                  <a:srgbClr val="9e1438"/>
                </a:solidFill>
                <a:latin typeface="Symbol"/>
                <a:ea typeface="Symbol"/>
              </a:rPr>
              <a:t>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3200" spc="-1" strike="noStrike" baseline="-25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) </a:t>
            </a:r>
            <a:br>
              <a:rPr sz="3200"/>
            </a:b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(Overuje sa F-testom)</a:t>
            </a:r>
            <a:br>
              <a:rPr sz="3200"/>
            </a:b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ôžeme použiť približný Behrens-Fischerov test zhody stredných hodnôt pri nehomogénnej variancii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C8F5-9E7B-43A4-B7D7-0B5ACC8F02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C. Test hypotézy o zhode dvoch stredných hodnôt závislých súborov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1641600"/>
            <a:ext cx="90583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edpokladajme, že dvakrát po sebe uskutočníme merania na tých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stých štatistických jednotkách, čím získame nasledovné merania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1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 x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 …x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j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, …, x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1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1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 …x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j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…, x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2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Údaje tvoria tzv. párové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ozorovania -tzv. závislé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áhodné výbery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Pre každú dvojicu, pár môžeme vypočítať diferenciu: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j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=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990033"/>
                </a:solidFill>
                <a:latin typeface="Times New Roman"/>
              </a:rPr>
              <a:t>1j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990033"/>
                </a:solidFill>
                <a:latin typeface="Times New Roman"/>
              </a:rPr>
              <a:t>2j ,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15000" y="2743200"/>
            <a:ext cx="108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x 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i j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57800" y="2743200"/>
            <a:ext cx="1371600" cy="685800"/>
          </a:xfrm>
          <a:prstGeom prst="ellipse">
            <a:avLst/>
          </a:prstGeom>
          <a:noFill/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6019560" y="3276720"/>
            <a:ext cx="75960" cy="60948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6324480" y="2895120"/>
            <a:ext cx="685800" cy="30492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92040" y="3854520"/>
            <a:ext cx="377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ndex súboru meraní v ča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= 1,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705720" y="24066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Index poradia merania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j = 1,2,…,n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548080" y="4876920"/>
                <a:ext cx="38970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t  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3B1B-26EB-462E-BFAB-AD23C02BB2D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228600" y="-317880"/>
            <a:ext cx="7734240" cy="25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estovať budeme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o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: </a:t>
            </a:r>
            <a:r>
              <a:rPr b="1" i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,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alebo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o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: </a:t>
            </a:r>
            <a:r>
              <a:rPr b="1" i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d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= 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proti alternatívnej hypotéze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o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: </a:t>
            </a:r>
            <a:r>
              <a:rPr b="1" i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d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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 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Testovacie kritérium bude mať Studentovo rozdelenie s (n - 1) stupňami voľnosti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447920" y="2209680"/>
                <a:ext cx="5410080" cy="23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num>
                      <m:den>
                        <m:sSub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n</m:t>
                                    </m:r>
                                  </m:e>
                                </m:rad>
                              </m:den>
                            </m:f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n</m:t>
                                    </m:r>
                                  </m:sup>
                                  <m:e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</m:acc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304920" y="4214160"/>
            <a:ext cx="853416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Vyhodnotenie testu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Ak |t vyp.| &lt; t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 (n-1)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H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nezamietame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t.zn. Stredné hodnoty závislých súborov sú zhodné, resp. stredná hodnota diferencií sa štatisticky významne nelíši od nuly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Ak |t vyp.| </a:t>
            </a:r>
            <a:r>
              <a:rPr b="1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t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 (n-1)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H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zamietame….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C793-45FD-4F0F-A90E-08B602980A0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               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Pr</a:t>
            </a:r>
            <a:r>
              <a:rPr b="1" i="1" lang="sk-SK" sz="3200" spc="-1" strike="noStrike">
                <a:solidFill>
                  <a:srgbClr val="990033"/>
                </a:solidFill>
                <a:latin typeface="Times New Roman"/>
              </a:rPr>
              <a:t>íklady závislých výberov</a:t>
            </a:r>
            <a:endParaRPr b="0" lang="en-US" sz="32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7720" y="1873080"/>
            <a:ext cx="82090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kúmame vplyv očkovacej látky proti slintačke u   ošípaných  na zníženie hmotnosti. Zatým účelom  náhodne vyberieme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990033"/>
                </a:solidFill>
                <a:latin typeface="Times New Roman"/>
              </a:rPr>
              <a:t>n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okusných zvierat a aplikujeme  im očkovacie sérum. Vážením pred očkovaním a dva týždne p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o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čkovaní získame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n -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árových hodnôt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kúmame vplyv reklamy na výšku tržieb za vybraný výrobok.   Náhodne vyberieme </a:t>
            </a:r>
            <a:r>
              <a:rPr b="1" i="1" lang="en-US" sz="2400" spc="-1" strike="noStrike">
                <a:solidFill>
                  <a:srgbClr val="990033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-predajní a zisťujueme tržby pred reklamou a tri týždne po spustení reklamy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85800" y="0"/>
            <a:ext cx="60156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D428-ED3C-48D2-83A2-ED048C970BF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Testy hypotéz o rozptyloch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600200"/>
            <a:ext cx="8229600" cy="21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A. Test zhody rozptylu so známou  konštantou                                     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: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 baseline="30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 baseline="30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0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, 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est </a:t>
            </a:r>
            <a:r>
              <a:rPr b="1" i="1" lang="en-US" sz="28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28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9e1438"/>
                </a:solidFill>
                <a:latin typeface="Times New Roman"/>
              </a:rPr>
              <a:t>=  s</a:t>
            </a:r>
            <a:r>
              <a:rPr b="1" i="1" lang="en-US" sz="2800" spc="-1" strike="noStrike" baseline="-25000">
                <a:solidFill>
                  <a:srgbClr val="9e1438"/>
                </a:solidFill>
                <a:latin typeface="Times New Roman"/>
              </a:rPr>
              <a:t>1</a:t>
            </a:r>
            <a:r>
              <a:rPr b="1" i="1" lang="en-US" sz="2800" spc="-1" strike="noStrike" baseline="30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2400" spc="-1" strike="noStrike" baseline="30000">
                <a:solidFill>
                  <a:srgbClr val="9e1438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oproti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: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 baseline="30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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 baseline="30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743200" y="3276720"/>
                <a:ext cx="3048120" cy="16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593640" y="3394080"/>
            <a:ext cx="184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testovaci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kritériu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22440" y="3225960"/>
            <a:ext cx="2742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Má </a:t>
            </a:r>
            <a:r>
              <a:rPr b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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rozdeleni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 (n-1) stupňami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voľnost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43000" y="4952880"/>
            <a:ext cx="6934320" cy="0"/>
          </a:xfrm>
          <a:prstGeom prst="line">
            <a:avLst/>
          </a:prstGeom>
          <a:ln w="38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362320" y="4724280"/>
            <a:ext cx="0" cy="30492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5880" y="4800600"/>
            <a:ext cx="0" cy="228600"/>
          </a:xfrm>
          <a:prstGeom prst="line">
            <a:avLst/>
          </a:prstGeom>
          <a:ln w="572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52480" y="4876920"/>
            <a:ext cx="1295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</a:t>
            </a:r>
            <a:r>
              <a:rPr b="1" i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 1-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 /2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4952880"/>
            <a:ext cx="1020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</a:t>
            </a:r>
            <a:r>
              <a:rPr b="1" i="1" lang="en-US" sz="28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  /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5440" y="5105520"/>
            <a:ext cx="233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Obor prijatia H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5880" y="5638680"/>
            <a:ext cx="175284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5486400"/>
            <a:ext cx="0" cy="152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362320" y="5486400"/>
            <a:ext cx="0" cy="15228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761760" y="5638680"/>
            <a:ext cx="1600200" cy="0"/>
          </a:xfrm>
          <a:prstGeom prst="line">
            <a:avLst/>
          </a:prstGeom>
          <a:ln w="93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010280" y="487692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Obo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zamietnuti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48006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Obo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zamietnuti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C721-DC64-4EB3-9FDF-5360D586752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B. Test zhody dvoch rozptylov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: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en-US" sz="3200" spc="-1" strike="noStrike" baseline="30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3200" spc="-1" strike="noStrike" baseline="30000">
                <a:solidFill>
                  <a:srgbClr val="990033"/>
                </a:solidFill>
                <a:latin typeface="Times New Roman"/>
              </a:rPr>
              <a:t>2 </a:t>
            </a:r>
            <a:r>
              <a:rPr b="1" lang="en-US" sz="3200" spc="-1" strike="noStrike" baseline="30000">
                <a:solidFill>
                  <a:srgbClr val="990033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est </a:t>
            </a:r>
            <a:r>
              <a:rPr b="1" i="1" lang="en-US" sz="32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3200" spc="-1" strike="noStrike" baseline="-25000">
                <a:solidFill>
                  <a:srgbClr val="9e1438"/>
                </a:solidFill>
                <a:latin typeface="Times New Roman"/>
              </a:rPr>
              <a:t>1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=  s</a:t>
            </a:r>
            <a:r>
              <a:rPr b="1" i="1" lang="en-US" sz="3200" spc="-1" strike="noStrike" baseline="-25000">
                <a:solidFill>
                  <a:srgbClr val="9e1438"/>
                </a:solidFill>
                <a:latin typeface="Times New Roman"/>
              </a:rPr>
              <a:t>11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,  est </a:t>
            </a:r>
            <a:r>
              <a:rPr b="1" i="1" lang="en-US" sz="3200" spc="-1" strike="noStrike">
                <a:solidFill>
                  <a:srgbClr val="9e1438"/>
                </a:solidFill>
                <a:latin typeface="Symbol"/>
                <a:ea typeface="Symbol"/>
              </a:rPr>
              <a:t></a:t>
            </a:r>
            <a:r>
              <a:rPr b="1" i="1" lang="en-US" sz="3200" spc="-1" strike="noStrike" baseline="-25000">
                <a:solidFill>
                  <a:srgbClr val="9e1438"/>
                </a:solidFill>
                <a:latin typeface="Times New Roman"/>
              </a:rPr>
              <a:t>2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 </a:t>
            </a:r>
            <a:r>
              <a:rPr b="1" i="1" lang="en-US" sz="3200" spc="-1" strike="noStrike">
                <a:solidFill>
                  <a:srgbClr val="9e1438"/>
                </a:solidFill>
                <a:latin typeface="Times New Roman"/>
              </a:rPr>
              <a:t>=  s</a:t>
            </a:r>
            <a:r>
              <a:rPr b="1" i="1" lang="en-US" sz="3200" spc="-1" strike="noStrike" baseline="-25000">
                <a:solidFill>
                  <a:srgbClr val="9e1438"/>
                </a:solidFill>
                <a:latin typeface="Times New Roman"/>
              </a:rPr>
              <a:t>12</a:t>
            </a:r>
            <a:r>
              <a:rPr b="1" i="1" lang="en-US" sz="3200" spc="-1" strike="noStrike" baseline="30000">
                <a:solidFill>
                  <a:srgbClr val="9e1438"/>
                </a:solidFill>
                <a:latin typeface="Times New Roman"/>
              </a:rPr>
              <a:t>2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oproti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: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en-US" sz="3200" spc="-1" strike="noStrike" baseline="30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&gt;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3200" spc="-1" strike="noStrike" baseline="30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, </a:t>
            </a:r>
            <a:r>
              <a:rPr b="1" lang="en-US" sz="2800" spc="-1" strike="noStrike" baseline="30000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jednostrann</a:t>
            </a:r>
            <a:r>
              <a:rPr b="1" lang="sk-SK" sz="2800" spc="-1" strike="noStrike">
                <a:solidFill>
                  <a:srgbClr val="990033"/>
                </a:solidFill>
                <a:latin typeface="Times New Roman"/>
              </a:rPr>
              <a:t>ý test</a:t>
            </a:r>
            <a:endParaRPr b="0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10920" y="2057400"/>
            <a:ext cx="180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Testovaci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kritérium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819520" y="2057400"/>
                <a:ext cx="162540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4648320" y="2133720"/>
            <a:ext cx="4267080" cy="13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á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Fischerovo rozdeleni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o stupňami voľnosti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.v.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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= n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-1, s.v.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=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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= n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365760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ozn.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Do čitateľa dávame väčší ropzptyl, preto F&gt;</a:t>
            </a:r>
            <a:r>
              <a:rPr b="1" lang="sk-SK" sz="2400" spc="-1" strike="noStrike">
                <a:solidFill>
                  <a:srgbClr val="333333"/>
                </a:solidFill>
                <a:latin typeface="Times New Roman"/>
              </a:rPr>
              <a:t>1 a alternatívna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333333"/>
                </a:solidFill>
                <a:latin typeface="Times New Roman"/>
              </a:rPr>
              <a:t>hypotéza môže byť iba jednostranná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4495680"/>
            <a:ext cx="280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Vyhodnotenie testu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4800600"/>
            <a:ext cx="7711920" cy="20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k F vyp.  &lt; F 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lang="sk-SK" sz="2400" spc="-1" strike="noStrike" baseline="-25000">
                <a:solidFill>
                  <a:srgbClr val="333333"/>
                </a:solidFill>
                <a:latin typeface="Times New Roman"/>
              </a:rPr>
              <a:t> ( </a:t>
            </a:r>
            <a:r>
              <a:rPr b="1" lang="sk-SK" sz="24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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, 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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)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ezamietame , rozptyly základných súborov môžeme považovať za zhodné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k F vyp. 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F 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</a:t>
            </a:r>
            <a:r>
              <a:rPr b="1" lang="sk-SK" sz="2400" spc="-1" strike="noStrike" baseline="-25000">
                <a:solidFill>
                  <a:srgbClr val="333333"/>
                </a:solidFill>
                <a:latin typeface="Times New Roman"/>
              </a:rPr>
              <a:t> ( </a:t>
            </a:r>
            <a:r>
              <a:rPr b="1" lang="sk-SK" sz="24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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, 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Symbol"/>
                <a:ea typeface="Symbol"/>
              </a:rPr>
              <a:t>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1)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zamietame , rozptyl prvého súboru (v čitateli) je signifikantne väčší od druhéh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0CD4-FB12-484F-B243-D597A2A7846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10000"/>
                </a:solidFill>
                <a:latin typeface="Times New Roman"/>
              </a:rPr>
              <a:t>Príklady: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hceme overiť, či sa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priemerné výdavky na potraviny v r. 2000 významne zvýšili oproti r.1999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pričom na základe výberového skúmania predstavovali v r. 1999 34% a v r. 2000 36%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Výrobca reflektorov uvádza, že ich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stredná životnosť predstavuje 70 hodín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. Za tým účelom sa uskutočnilo výberové skúmanie a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a vzorke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20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eflektorov sa zistila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priemerná životnosť 67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hodín a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výberová smerodajná odchýlka 2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hodiny. Má výrobca pravdu ??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901C-9F5C-4D30-A2A8-9A4D27508D0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Základné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4c2b"/>
                </a:solidFill>
                <a:latin typeface="Times New Roman"/>
              </a:rPr>
              <a:t>pojmy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ormulujeme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východiskovú - </a:t>
            </a:r>
            <a:r>
              <a:rPr b="1" i="1" lang="en-US" sz="3600" spc="-1" strike="noStrike">
                <a:solidFill>
                  <a:srgbClr val="990033"/>
                </a:solidFill>
                <a:latin typeface="Times New Roman"/>
              </a:rPr>
              <a:t>nulovú hypotézu</a:t>
            </a:r>
            <a:r>
              <a:rPr b="1" lang="en-US" sz="36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i="1" lang="en-US" sz="36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ktorá vždy tvrdí zhodu toho čo porovnávame - testujeme, napr. hpotézu o zhode strednej hodnoty </a:t>
            </a:r>
            <a:r>
              <a:rPr b="1" i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o známou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konštantou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 </a:t>
            </a:r>
            <a:r>
              <a:rPr b="1" i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0,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: </a:t>
            </a:r>
            <a:r>
              <a:rPr b="1" i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= </a:t>
            </a:r>
            <a:r>
              <a:rPr b="1" i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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0,</a:t>
            </a:r>
            <a:r>
              <a:rPr b="0" lang="en-US" sz="2800" spc="-1" strike="noStrike" baseline="-25000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všeobecne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: Q = Q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proti nulovej hypotéze formulujeme </a:t>
            </a:r>
            <a:r>
              <a:rPr b="1" i="1" lang="en-US" sz="3600" spc="-1" strike="noStrike">
                <a:solidFill>
                  <a:srgbClr val="990033"/>
                </a:solidFill>
                <a:latin typeface="Times New Roman"/>
              </a:rPr>
              <a:t>alternatívnu hypotézu H</a:t>
            </a:r>
            <a:r>
              <a:rPr b="1" i="1" lang="en-US" sz="36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i="1" lang="en-US" sz="3600" spc="-1" strike="noStrike">
                <a:solidFill>
                  <a:srgbClr val="990033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apr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H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1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0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, všeobecne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: Q </a:t>
            </a:r>
            <a:r>
              <a:rPr b="1" i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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Q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obojstranný tes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resp.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: Q &gt; Q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0" lang="en-US" sz="2800" spc="-1" strike="noStrike" baseline="-25000">
                <a:solidFill>
                  <a:srgbClr val="333333"/>
                </a:solidFill>
                <a:latin typeface="Times New Roman"/>
              </a:rPr>
              <a:t>         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jednostranné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H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 : Q &lt; Q</a:t>
            </a:r>
            <a:r>
              <a:rPr b="1" i="1" lang="en-US" sz="28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test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ulová a alternatívna hypotéza sa musia vzájomne vylučovať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5562360" y="5181120"/>
            <a:ext cx="533160" cy="2286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5562720"/>
            <a:ext cx="533520" cy="22860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CAFF-5119-4BA8-871F-750258A8CD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16960" y="171360"/>
            <a:ext cx="8448480" cy="60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arameter základného súboru 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Q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o ktorom mám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určitú hypotézu nepoznáme,  iba ho odhadujeme na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základe výberového súboru pomocou výberovej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harkteristiky 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u</a:t>
            </a:r>
            <a:r>
              <a:rPr b="1" i="1" lang="en-US" sz="3200" spc="-1" strike="noStrike" baseline="-25000">
                <a:solidFill>
                  <a:srgbClr val="990033"/>
                </a:solidFill>
                <a:latin typeface="Times New Roman"/>
              </a:rPr>
              <a:t>n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.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Rozhodnutie o zamietnutí resp. nezamietnutí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lovej hypotézy uskutočňujeme na základe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áhodného výberu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Nemôžme ho urobiť s absolútnou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presnosťou.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xistuje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riziko odhadu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Za predpokladu, že platí nulová hypotéza , rovná sa parameter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predpokladanej veličine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Q</a:t>
            </a:r>
            <a:r>
              <a:rPr b="1" lang="en-US" sz="28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Keďže est.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Q = u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n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, potom rozdiel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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= u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n 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- Q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je iba náhodnou chybou, spôsobenou náhodným výberom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424E-816E-4F96-8613-F27C3BC691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9856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279360"/>
            <a:ext cx="8943840" cy="379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k však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eplatí , t.j.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Q </a:t>
            </a:r>
            <a:r>
              <a:rPr b="1" i="1" lang="en-US" sz="2800" spc="-1" strike="noStrike">
                <a:solidFill>
                  <a:srgbClr val="333333"/>
                </a:solidFill>
                <a:latin typeface="Symbol"/>
                <a:ea typeface="Symbol"/>
              </a:rPr>
              <a:t>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  Q</a:t>
            </a:r>
            <a:r>
              <a:rPr b="1" i="1" lang="en-US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, potom sa rozdiel môže skladať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z náhodnej chyby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systematickej chyby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, ktorá odráža skutočný rozdiel medzi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arametrom  základného súboru Q a jeho predpokladanou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eľkosťou Q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i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= u</a:t>
            </a:r>
            <a:r>
              <a:rPr b="1" i="1" lang="en-US" sz="3200" spc="-1" strike="noStrike" baseline="-25000">
                <a:solidFill>
                  <a:srgbClr val="990033"/>
                </a:solidFill>
                <a:latin typeface="Times New Roman"/>
              </a:rPr>
              <a:t>n  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- Q</a:t>
            </a:r>
            <a:r>
              <a:rPr b="1" i="1" lang="en-US" sz="3200" spc="-1" strike="noStrike" baseline="-25000">
                <a:solidFill>
                  <a:srgbClr val="990033"/>
                </a:solidFill>
                <a:latin typeface="Times New Roman"/>
              </a:rPr>
              <a:t>0  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= (u</a:t>
            </a:r>
            <a:r>
              <a:rPr b="1" i="1" lang="en-US" sz="3200" spc="-1" strike="noStrike" baseline="-25000">
                <a:solidFill>
                  <a:srgbClr val="990033"/>
                </a:solidFill>
                <a:latin typeface="Times New Roman"/>
              </a:rPr>
              <a:t>n  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- Q) + (Q</a:t>
            </a:r>
            <a:r>
              <a:rPr b="1" i="1" lang="en-US" sz="3200" spc="-1" strike="noStrike" baseline="-25000">
                <a:solidFill>
                  <a:srgbClr val="990033"/>
                </a:solidFill>
                <a:latin typeface="Times New Roman"/>
              </a:rPr>
              <a:t>  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- Q</a:t>
            </a:r>
            <a:r>
              <a:rPr b="1" i="1" lang="en-US" sz="32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1" i="1" lang="en-US" sz="32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9003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505320" y="3276720"/>
            <a:ext cx="685800" cy="30456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5867280" y="3200400"/>
            <a:ext cx="457200" cy="533520"/>
          </a:xfrm>
          <a:prstGeom prst="line">
            <a:avLst/>
          </a:prstGeom>
          <a:ln w="381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46440" y="3505320"/>
            <a:ext cx="144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áhodná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hyb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3581280"/>
            <a:ext cx="211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Systematická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hyba - rozdi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4530600"/>
            <a:ext cx="86169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 praxi nemožno zistiť , či rozdiel </a:t>
            </a:r>
            <a:r>
              <a:rPr b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bsahuje iba náhodnú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chybu, alebo aj systematickú. Ak je však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malé pripisujeme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ho iba náhodnosti výberu, ak prekročí určitú veľkosť,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edpokladáme, že zahrňuje aj systematickú chybu - rozdiel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A485-6E5B-47E0-845D-C2F943929C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880" y="609480"/>
            <a:ext cx="8837640" cy="25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ozhodnutie o zamietnutí, resp. nezamietnutí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predpokladá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znalosť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kritickej hodnoty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ktorá rozdiel </a:t>
            </a:r>
            <a:r>
              <a:rPr b="1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ozdelí na dve časti 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 rozdieloch menších ako kritická hodnota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ezamietame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 rozdieloch 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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ako kritická hodnota,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zamietame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69960" y="2819520"/>
            <a:ext cx="8502480" cy="37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eľkosť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 konkrétnych prípadoch kolíše, je náhodnou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eličinou,. Preto sa snažíme transformovať </a:t>
            </a:r>
            <a:r>
              <a:rPr b="1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ktoré je funkciou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u</a:t>
            </a:r>
            <a:r>
              <a:rPr b="1" lang="en-US" sz="2400" spc="-1" strike="noStrike" baseline="-25000">
                <a:solidFill>
                  <a:srgbClr val="990033"/>
                </a:solidFill>
                <a:latin typeface="Times New Roman"/>
              </a:rPr>
              <a:t>n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a parametra základného súboru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Q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na veličinu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G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, ktorá má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známe teoretické rozdelenie (napr. Normované normálne,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res. Studentovo či iné rozdelenie)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G = f(u</a:t>
            </a:r>
            <a:r>
              <a:rPr b="1" lang="en-US" sz="2800" spc="-1" strike="noStrike" baseline="-25000">
                <a:solidFill>
                  <a:srgbClr val="990033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, Q) </a:t>
            </a:r>
            <a:r>
              <a:rPr b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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 G = f(</a:t>
            </a:r>
            <a:r>
              <a:rPr b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pričom funkcia hustoty náhodnej premennej G je </a:t>
            </a:r>
            <a:r>
              <a:rPr b="1" i="1" lang="en-US" sz="2400" spc="-1" strike="noStrike">
                <a:solidFill>
                  <a:srgbClr val="333333"/>
                </a:solidFill>
                <a:latin typeface="Times New Roman"/>
              </a:rPr>
              <a:t>f(g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Vychádzame z platnosti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:Q = Q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a   vypočítame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testovaciu  charakteristiku g = f(u</a:t>
            </a:r>
            <a:r>
              <a:rPr b="1" lang="en-US" sz="2800" spc="-1" strike="noStrike" baseline="-25000">
                <a:solidFill>
                  <a:srgbClr val="990033"/>
                </a:solidFill>
                <a:latin typeface="Times New Roman"/>
              </a:rPr>
              <a:t>n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, Q</a:t>
            </a:r>
            <a:r>
              <a:rPr b="1" lang="en-US" sz="2800" spc="-1" strike="noStrike" baseline="-25000">
                <a:solidFill>
                  <a:srgbClr val="990033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5C41-0154-4B65-8A47-EC8A63EF14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247680"/>
            <a:ext cx="845820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Rozhodnutie o výsledku testu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:Môžeme potom nájsť také kritické hodnoty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1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g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32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náhodnej veličiny </a:t>
            </a: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G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 pre ktoré platí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P(g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1 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 G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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 g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) = 1 -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alebo </a:t>
            </a:r>
            <a:r>
              <a:rPr b="1" lang="en-US" sz="2400" spc="-1" strike="noStrike">
                <a:solidFill>
                  <a:srgbClr val="9900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P(g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1 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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 G 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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 g</a:t>
            </a:r>
            <a:r>
              <a:rPr b="1" lang="en-US" sz="3200" spc="-1" strike="noStrike" baseline="-25000">
                <a:solidFill>
                  <a:srgbClr val="990033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990033"/>
                </a:solidFill>
                <a:latin typeface="Times New Roman"/>
              </a:rPr>
              <a:t>) = </a:t>
            </a:r>
            <a:r>
              <a:rPr b="1" lang="en-US" sz="3200" spc="-1" strike="noStrike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0" y="2438280"/>
            <a:ext cx="7310520" cy="4228920"/>
            <a:chOff x="0" y="2438280"/>
            <a:chExt cx="7310520" cy="4228920"/>
          </a:xfrm>
        </p:grpSpPr>
        <p:sp>
          <p:nvSpPr>
            <p:cNvPr id="105" name=""/>
            <p:cNvSpPr/>
            <p:nvPr/>
          </p:nvSpPr>
          <p:spPr>
            <a:xfrm>
              <a:off x="2313000" y="2438280"/>
              <a:ext cx="4997520" cy="2538360"/>
            </a:xfrm>
            <a:custGeom>
              <a:avLst/>
              <a:gdLst/>
              <a:ahLst/>
              <a:rect l="l" t="t" r="r" b="b"/>
              <a:pathLst>
                <a:path w="2832" h="1272">
                  <a:moveTo>
                    <a:pt x="0" y="1016"/>
                  </a:moveTo>
                  <a:cubicBezTo>
                    <a:pt x="112" y="508"/>
                    <a:pt x="224" y="0"/>
                    <a:pt x="576" y="8"/>
                  </a:cubicBezTo>
                  <a:cubicBezTo>
                    <a:pt x="928" y="16"/>
                    <a:pt x="1736" y="856"/>
                    <a:pt x="2112" y="1064"/>
                  </a:cubicBezTo>
                  <a:cubicBezTo>
                    <a:pt x="2488" y="1272"/>
                    <a:pt x="2660" y="1264"/>
                    <a:pt x="2832" y="1256"/>
                  </a:cubicBezTo>
                </a:path>
              </a:pathLst>
            </a:custGeom>
            <a:noFill/>
            <a:ln w="57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57400" y="2438280"/>
              <a:ext cx="0" cy="277812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0" y="5791320"/>
              <a:ext cx="327672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kritický obor,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obor zamietnutia H</a:t>
              </a:r>
              <a:r>
                <a:rPr b="1" lang="en-US" sz="2400" spc="-1" strike="noStrike" baseline="-25000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296360" y="2220840"/>
            <a:ext cx="6685920" cy="3665520"/>
            <a:chOff x="1296360" y="2220840"/>
            <a:chExt cx="6685920" cy="3665520"/>
          </a:xfrm>
        </p:grpSpPr>
        <p:sp>
          <p:nvSpPr>
            <p:cNvPr id="109" name=""/>
            <p:cNvSpPr/>
            <p:nvPr/>
          </p:nvSpPr>
          <p:spPr>
            <a:xfrm>
              <a:off x="1973160" y="5024520"/>
              <a:ext cx="5759640" cy="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567160" y="3395520"/>
              <a:ext cx="0" cy="162900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870520" y="4545000"/>
              <a:ext cx="0" cy="47952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108120" y="4206960"/>
              <a:ext cx="61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/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96360" y="4162320"/>
              <a:ext cx="61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/2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44240" y="3471840"/>
              <a:ext cx="87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1 - </a:t>
              </a:r>
              <a:r>
                <a:rPr b="1" lang="en-US" sz="28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23080" y="4832280"/>
              <a:ext cx="46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g</a:t>
              </a:r>
              <a:r>
                <a:rPr b="1" lang="en-US" sz="2800" spc="-1" strike="noStrike" baseline="-25000">
                  <a:solidFill>
                    <a:srgbClr val="333333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10680" y="4832280"/>
              <a:ext cx="462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33"/>
                  </a:solidFill>
                  <a:latin typeface="Times New Roman"/>
                </a:rPr>
                <a:t>g</a:t>
              </a:r>
              <a:r>
                <a:rPr b="1" lang="en-US" sz="2800" spc="-1" strike="noStrike" baseline="-25000">
                  <a:solidFill>
                    <a:srgbClr val="333333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20960" y="5216400"/>
              <a:ext cx="2793960" cy="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7480" y="52689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38280" y="5311800"/>
              <a:ext cx="363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Obor prijatia hypotézy H</a:t>
              </a:r>
              <a:r>
                <a:rPr b="1" lang="en-US" sz="2400" spc="-1" strike="noStrike" baseline="-25000">
                  <a:solidFill>
                    <a:srgbClr val="333333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81120" y="5504040"/>
              <a:ext cx="0" cy="38232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549440" y="5886360"/>
              <a:ext cx="931680" cy="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54760" y="5504040"/>
              <a:ext cx="0" cy="28728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54760" y="5791320"/>
              <a:ext cx="1523880" cy="0"/>
            </a:xfrm>
            <a:prstGeom prst="line">
              <a:avLst/>
            </a:prstGeom>
            <a:ln w="38160">
              <a:solidFill>
                <a:srgbClr val="3333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04800" y="2220840"/>
              <a:ext cx="197748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33"/>
                  </a:solidFill>
                  <a:latin typeface="Symbol"/>
                  <a:ea typeface="Symbol"/>
                </a:rPr>
                <a:t></a:t>
              </a: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r>
                <a:rPr b="1" lang="en-US" sz="3200" spc="-1" strike="noStrike">
                  <a:solidFill>
                    <a:srgbClr val="333333"/>
                  </a:solidFill>
                  <a:latin typeface="Times New Roman"/>
                </a:rPr>
                <a:t>- </a:t>
              </a: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hladina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významnosti,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Times New Roman"/>
                </a:rPr>
                <a:t>obvykle 0.05</a:t>
              </a:r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5867280" y="5791320"/>
            <a:ext cx="3276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kritický obor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bor zamietnutia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24080" y="562932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g 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5791320"/>
            <a:ext cx="32767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kritický obor,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imes New Roman"/>
              </a:rPr>
              <a:t>obor zamietnutia H</a:t>
            </a:r>
            <a:r>
              <a:rPr b="1" lang="en-US" sz="24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3840" y="5181480"/>
            <a:ext cx="6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g 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4294-ABA4-4599-81E4-5034F06DB9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04920" y="457200"/>
            <a:ext cx="8839080" cy="62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Rozhodnutie o výsledku testu, zamietnutí resp. nezamietnutí nulovej hypotézy  H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závisí od voľby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hladiny významnosti </a:t>
            </a:r>
            <a:r>
              <a:rPr b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99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Times New Roman"/>
              </a:rPr>
              <a:t>hladina významnosti </a:t>
            </a:r>
            <a:r>
              <a:rPr b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rozdeľuje obor hodnô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veličiny G na obor prijatia a obory zamietnutia H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V pr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ípade, že H</a:t>
            </a:r>
            <a:r>
              <a:rPr b="1" lang="sk-SK" sz="28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: Q=Q</a:t>
            </a:r>
            <a:r>
              <a:rPr b="1" lang="sk-SK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 nezamietame, tvrdíme, že rozdiel medzi Q a Q</a:t>
            </a:r>
            <a:r>
              <a:rPr b="1" lang="sk-SK" sz="28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je štatisticky nepreukazný, t.j. nesignifikantn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Ak H</a:t>
            </a:r>
            <a:r>
              <a:rPr b="1" lang="sk-SK" sz="28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: Q=Q</a:t>
            </a:r>
            <a:r>
              <a:rPr b="1" lang="sk-SK" sz="2800" spc="-1" strike="noStrike" baseline="-25000">
                <a:solidFill>
                  <a:srgbClr val="333333"/>
                </a:solidFill>
                <a:latin typeface="Times New Roman"/>
              </a:rPr>
              <a:t>0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  na hladin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významnosti </a:t>
            </a:r>
            <a:r>
              <a:rPr b="1" lang="en-US" sz="2800" spc="-1" strike="noStrike">
                <a:solidFill>
                  <a:srgbClr val="990033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, zamietame,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rozdiel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medzi Q a Q</a:t>
            </a:r>
            <a:r>
              <a:rPr b="1" lang="sk-SK" sz="2800" spc="-1" strike="noStrike" baseline="-25000">
                <a:solidFill>
                  <a:srgbClr val="333333"/>
                </a:solidFill>
                <a:latin typeface="Times New Roman"/>
              </a:rPr>
              <a:t>0 </a:t>
            </a: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j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333333"/>
                </a:solidFill>
                <a:latin typeface="Times New Roman"/>
              </a:rPr>
              <a:t>štatisticky preukazný, t.j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ignifikantný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638680" y="3733920"/>
            <a:ext cx="2971800" cy="2450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oc.Ing. Zlata Sojková, CSc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FC4B-D54A-4EA7-945D-93125D14F9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3T17:17:33Z</dcterms:created>
  <dc:creator>FVS</dc:creator>
  <dc:description/>
  <dc:language>en-US</dc:language>
  <cp:lastModifiedBy>FVS</cp:lastModifiedBy>
  <cp:lastPrinted>2003-03-08T16:18:35Z</cp:lastPrinted>
  <dcterms:modified xsi:type="dcterms:W3CDTF">2003-03-10T16:54:54Z</dcterms:modified>
  <cp:revision>103</cp:revision>
  <dc:subject/>
  <dc:title>Testovanie štatistických hypotéz</dc:title>
</cp:coreProperties>
</file>