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6.wmf" ContentType="image/x-wmf"/>
  <Override PartName="/ppt/media/image29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5.wmf" ContentType="image/x-wmf"/>
  <Override PartName="/ppt/media/image28.wmf" ContentType="image/x-wmf"/>
  <Override PartName="/ppt/media/image3.wmf" ContentType="image/x-wmf"/>
  <Override PartName="/ppt/media/image27.png" ContentType="image/png"/>
  <Override PartName="/ppt/media/image14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EDD-3576-42E1-87A6-EC56E43B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D27-28B0-47A9-BAEF-A6E12F73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E96-42F1-465D-91C7-750C0B38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449-422B-40AB-AF88-96723ADE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591-9AFB-43E2-B5A0-06639A35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B13-2001-404A-9186-A8CA55D3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FB8-2E11-42D5-B5A7-28796D9E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1DA-6D25-4494-87ED-A7F6BFC9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295-1301-4CE6-AF01-C675EC21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012-6681-4BF6-A4A4-7EC06E09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77C-D124-4619-A356-B03FF890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1E1-730A-427A-91B3-83FA1F23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5ACE-671A-4225-AD88-0F529F6ABF1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„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Exkurzia” do </a:t>
            </a:r>
            <a:r>
              <a:rPr b="1" lang="sk-SK" sz="4000" spc="-1" strike="noStrike">
                <a:solidFill>
                  <a:srgbClr val="993300"/>
                </a:solidFill>
                <a:latin typeface="Times New Roman"/>
              </a:rPr>
              <a:t>teórie pravdepodobností (TP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5486400" cy="422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50840" y="2590920"/>
            <a:ext cx="359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es to bude náročné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81680" y="1523880"/>
            <a:ext cx="1752840" cy="152424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3733920"/>
            <a:ext cx="2590920" cy="1371600"/>
          </a:xfrm>
          <a:prstGeom prst="wedgeEllipseCallout">
            <a:avLst>
              <a:gd name="adj1" fmla="val -123712"/>
              <a:gd name="adj2" fmla="val 5115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kedy nebud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50A-7003-421F-B814-CDD3A8CAEC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57200" y="380880"/>
          <a:ext cx="8153280" cy="5943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0880"/>
                    <a:ext cx="81532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 flipV="1">
            <a:off x="3454560" y="51436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4648320"/>
            <a:ext cx="6098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42670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809880"/>
            <a:ext cx="114300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3505320"/>
            <a:ext cx="1371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124080"/>
            <a:ext cx="9144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28195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828440" y="2742840"/>
            <a:ext cx="16002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8006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C8D-3DCA-4A55-B982-44589D74FF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80880" y="457200"/>
          <a:ext cx="8286840" cy="558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57200"/>
                    <a:ext cx="828684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5482-6901-4E75-B425-66B536446D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(x) pre spojitú náhodnú veličinu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229600" y="2362320"/>
            <a:ext cx="577800" cy="124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09480" y="762120"/>
                <a:ext cx="708660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, pre  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14400" y="2209680"/>
            <a:ext cx="693432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402240" y="5562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6080" y="2590920"/>
            <a:ext cx="2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resli F(0),F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1C5-B9B5-45CA-B179-4B0A09E59E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693432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0"/>
                <a:ext cx="678168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153280" y="457200"/>
            <a:ext cx="577800" cy="124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08040" y="1371600"/>
            <a:ext cx="33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kresli do grafu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A42-08E0-403B-9442-2BCCAB0A15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19040" y="1143000"/>
                <a:ext cx="830592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&gt;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Vlastnosti distribučnej funkcie SNV: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1752480"/>
            <a:ext cx="3581280" cy="2210040"/>
          </a:xfrm>
          <a:prstGeom prst="wedgeEllipseCallout">
            <a:avLst>
              <a:gd name="adj1" fmla="val -31648"/>
              <a:gd name="adj2" fmla="val -7155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 SNV existu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dox nulov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vdepodobnost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X= x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5F4-92E6-413A-8FD6-39DA5FE680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Zhrnutie o F(x)</a:t>
            </a: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á distribučná funkcia je funkciou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klesajúcou, spojitou zľav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yhovujúcou podmienkam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-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ú funkciu,ktorá spĺňa uvedené podmienky možno pokladať za distribučnú funkci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1750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9C2-2E82-42B4-ACD1-19BDA8DF64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Vlastnosti funkcie hustoty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 f(x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x) je nezáporná, t.j. f(x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pretože je deriváciou neklesajúcej funkc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ie je však pravdepodobnosť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66680" y="3200400"/>
                <a:ext cx="396252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66680" y="4495680"/>
                <a:ext cx="495324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52F-74C8-41FA-A45B-1E0772A3A6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Základné modely rozdelení NV</a:t>
            </a: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oužívané v Štatistike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málne rozdele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ciálne rozdelen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ovo rozdelenie (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Í- kvadrát rozdelenie (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herovo - Snedecorovo rozdelenie (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629400" y="1523880"/>
            <a:ext cx="2050920" cy="2819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0" y="18288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slúž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 poz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s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057400"/>
            <a:ext cx="1524240" cy="485640"/>
          </a:xfrm>
          <a:prstGeom prst="leftArrow">
            <a:avLst>
              <a:gd name="adj1" fmla="val 50000"/>
              <a:gd name="adj2" fmla="val 78466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EC6A-A0EC-4840-9A34-881D67B9EA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6095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Normálne rozdelenie</a:t>
            </a:r>
            <a:br>
              <a:rPr sz="4000"/>
            </a:b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“Gaussovo - Laplaceovo”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adia sa ním spojité NV, ktoré vznikajú ako dôsledok pôsobenia väčšieho počtu nezávislých, resp. slebo závislých vplyvov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no ním aproximovať mnohé rozdelenia, aj rozdelenia D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íklad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úrody plodín, c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erania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219708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39A-A400-43A5-9940-3E43272E0E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Gaussovo Normálne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1295280"/>
          <a:ext cx="7162920" cy="520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95280"/>
                    <a:ext cx="716292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98F-9341-4AB3-A373-FC62B120AB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66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Často sa hovorí, že štatistika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 je “</a:t>
            </a:r>
            <a:r>
              <a:rPr b="1" lang="sk-SK" sz="4000" spc="-1" strike="noStrike">
                <a:solidFill>
                  <a:srgbClr val="3333cc"/>
                </a:solidFill>
                <a:latin typeface="Times New Roman"/>
              </a:rPr>
              <a:t>aplikovaný počet pravdepodobností”</a:t>
            </a:r>
            <a:br>
              <a:rPr sz="4000"/>
            </a:br>
            <a:br>
              <a:rPr sz="2800"/>
            </a:b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Š</a:t>
            </a:r>
            <a:r>
              <a:rPr b="1" lang="sk-SK" sz="3600" spc="-1" strike="noStrike">
                <a:solidFill>
                  <a:srgbClr val="006600"/>
                </a:solidFill>
                <a:latin typeface="Times New Roman"/>
              </a:rPr>
              <a:t>tatistika </a:t>
            </a:r>
            <a:br>
              <a:rPr sz="3600"/>
            </a:b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3333cc"/>
                </a:solidFill>
                <a:latin typeface="Times New Roman"/>
              </a:rPr>
              <a:t>popisná</a:t>
            </a: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vyčerpávajúce skúmanie (veda o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štáte, popisná aritmetika)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br>
              <a:rPr sz="3200"/>
            </a:b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3333cc"/>
                </a:solidFill>
                <a:latin typeface="Times New Roman"/>
              </a:rPr>
              <a:t>induktívna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- výberové skúmanie (štatistické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analýzy, výberové vzorky)   </a:t>
            </a: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br>
              <a:rPr sz="3200"/>
            </a:br>
            <a:r>
              <a:rPr b="0" lang="sk-SK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4266720"/>
            <a:ext cx="83822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Most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medzi oboma druhmi štatistiky tvorí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993300"/>
                </a:solidFill>
                <a:latin typeface="Times New Roman"/>
              </a:rPr>
              <a:t>teória pravdepodob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tvorí teoretický základ pre posudzovanie   spoľahlivosti a presnosti výberových postupo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67280" y="762120"/>
            <a:ext cx="3276720" cy="15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4564-B1A3-49BE-A4F2-213B655E07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9480" y="233280"/>
            <a:ext cx="7620120" cy="6145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76920" y="0"/>
            <a:ext cx="3657600" cy="1600200"/>
          </a:xfrm>
          <a:prstGeom prst="wedgeEllipseCallout">
            <a:avLst>
              <a:gd name="adj1" fmla="val -48435"/>
              <a:gd name="adj2" fmla="val 39486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t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meral obv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rude 5738 škótsk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jako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E1E-8D94-4001-B778-06F907016A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unkcia hustoty normálneho rozdelenia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039680" y="1320840"/>
                <a:ext cx="5284800" cy="18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-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85800" y="3505320"/>
            <a:ext cx="754380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re Normálneho rozdelen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tredná hodnota určuje polohu rozdel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merodajná odchýlka, určuje variabilit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varu rozdel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904080" y="1219320"/>
            <a:ext cx="19288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BB82-7128-4930-AE72-A519BD67A3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unkcia hustoty a distribučná funkcia normálneho rozdelenia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62120" y="1523880"/>
          <a:ext cx="7315200" cy="4683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523880"/>
                    <a:ext cx="731520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724280" y="1752480"/>
            <a:ext cx="27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čná funk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EAF-804F-4053-A3CD-0B1CFBEE55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304920"/>
          <a:ext cx="8077320" cy="586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4920"/>
                    <a:ext cx="80773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3E6-AF9D-4654-BFD8-1611810820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3520" y="457200"/>
          <a:ext cx="8153280" cy="5638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57200"/>
                    <a:ext cx="81532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745000" y="464832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1880" y="4648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3480" y="5105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2000" y="502920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7600" y="579132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560" y="5715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00400" y="46483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,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5257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5,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40280" y="59436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9,7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1219320"/>
            <a:ext cx="2133720" cy="190476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myslite 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ôsledne č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vorí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1143000"/>
            <a:ext cx="1295280" cy="838080"/>
          </a:xfrm>
          <a:prstGeom prst="rightArrow">
            <a:avLst>
              <a:gd name="adj1" fmla="val 50000"/>
              <a:gd name="adj2" fmla="val 38638"/>
            </a:avLst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0CE-B468-40AB-B82F-65B2114299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Normované normálne rozdelenie</a:t>
            </a:r>
            <a:br>
              <a:rPr sz="4000"/>
            </a:b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( štandardizované 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….N(µ,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(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álne rozdeleni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ovan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istuje nekonečne mno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normál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álnych rozdelení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zdeleni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e tabelované!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68720" y="1676520"/>
                <a:ext cx="2484360" cy="13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-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 flipH="1" flipV="1">
            <a:off x="1523520" y="2514240"/>
            <a:ext cx="3812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4495680" y="2590920"/>
            <a:ext cx="14479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08F-ABE0-4E19-AA62-C1DF094200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Tabelované hodnot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y </a:t>
            </a:r>
            <a:r>
              <a:rPr b="1" i="1" lang="sk-SK" sz="4000" spc="-1" strike="noStrike">
                <a:solidFill>
                  <a:srgbClr val="006600"/>
                </a:solidFill>
                <a:latin typeface="Times New Roman"/>
              </a:rPr>
              <a:t>F(u) a f(u)</a:t>
            </a: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 pre </a:t>
            </a:r>
            <a:r>
              <a:rPr b="1" i="1" lang="sk-SK" sz="4000" spc="-1" strike="noStrike">
                <a:solidFill>
                  <a:srgbClr val="006600"/>
                </a:solidFill>
                <a:latin typeface="Times New Roman"/>
              </a:rPr>
              <a:t>N(0,1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933960" cy="4496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241960" y="2057400"/>
            <a:ext cx="260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- u) = 1 - F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- u) = f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29160" y="57816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5791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995400" y="1066680"/>
            <a:ext cx="1928880" cy="2362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00800" y="3200400"/>
            <a:ext cx="1600200" cy="13716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34C-D105-402E-8E31-3A9DD843C8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Využitie rozdelenia N(0,1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aždé normálne rozdelen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me takto transformovať 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mované normál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ozdelenie a využívať tabuľkové hodnot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u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u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íkla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emern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sačný nominálny príjem občana SR predstavuje 11tis. Sk a má približne normálne rozdelenie so smerodajnou odchýlkou 6tis. Sk. Koľko percent občanov je pod hranicou priemerného príjmu 5 tis. Sk a koľko nad 17 tis.Sk? Odhadnite koľko percent občanov zarába v priemere viac ako 23tis. Sk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080200" y="2590920"/>
            <a:ext cx="106380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47E-F077-4B77-9686-2F56A3816E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CHÍ - kvadrát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2120" y="914400"/>
          <a:ext cx="77724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914400"/>
                    <a:ext cx="77724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16D-347B-48C7-BFD0-F5C062D451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724280" cy="3962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876920" y="1828800"/>
            <a:ext cx="3962160" cy="3962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52360" y="129528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.v. = 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43480" y="12193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.v. =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1828800"/>
            <a:ext cx="22860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943240" y="1828800"/>
            <a:ext cx="3049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CHÍ - kvadrát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236232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276360" y="4419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8360" y="40384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548640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36F-4493-4550-AC04-00B71AD1F3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993300"/>
                </a:solidFill>
                <a:latin typeface="Times New Roman"/>
              </a:rPr>
              <a:t>Náhodná veličina</a:t>
            </a:r>
            <a:r>
              <a:rPr b="0" lang="sk-SK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je premenná, ktorá môže nadobúdať rôzne hodnoty, alebo hodnoty z rôznych intervalov v závislosti na náhode. Náhodné veličiny budeme označovať X, a ich konkrétne hodnoty: x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, j=1,2…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a štatistické znaky môžme pozerať ako na náhodné veličiny…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členenie NV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diskrétne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(DNV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) -nadobúdajú izolované, väčšinou celočíselné hodnoty, napr. počet narodených chlapcov z 1000 narodených detí, počet chybných výrobkov…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spojité (SNV)</a:t>
            </a:r>
            <a:r>
              <a:rPr b="0" lang="sk-SK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-môžu nadobúdať ľubovoľné hodnoty z ohraničeného, alebo neohraničeného interval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apr.: hmotnosť, výška človeka, chyby merania,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ríjem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352680"/>
            <a:ext cx="1067040" cy="381240"/>
          </a:xfrm>
          <a:custGeom>
            <a:avLst/>
            <a:gdLst>
              <a:gd name="textAreaLeft" fmla="*/ 133200 w 1067040"/>
              <a:gd name="textAreaRight" fmla="*/ 933840 w 10670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EC3-9B77-4A8E-848B-CA34826A6D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3880" y="914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s.v.= 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914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s.v.=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428328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648320" y="1523880"/>
            <a:ext cx="4282920" cy="4572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>
            <a:off x="2666880" y="1523880"/>
            <a:ext cx="15264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1523880"/>
            <a:ext cx="2286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Studentovo rozdelenie (t)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64320" y="2514600"/>
            <a:ext cx="2872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|t| &gt;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s.v.)) =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5105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505320" y="44956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7080" y="411480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37400" y="571500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.v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229-2E1A-4D29-B84B-8DCAD1F9797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Fisherovo F - rozdeleni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838080" y="990720"/>
          <a:ext cx="777240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990720"/>
                    <a:ext cx="7772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3809880" y="3200400"/>
            <a:ext cx="45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F &gt;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.v.1;s.v.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)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343040" y="4267080"/>
            <a:ext cx="10666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2600" y="396252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5638680"/>
            <a:ext cx="254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.v.1;s.v.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FCB-FA14-48EE-8DA1-639C5EEB96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Koniec 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“exkurzie”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do teórie pravdepodobnosti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5029200" cy="416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D65-6BD9-4A37-8E06-C80BF2178D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Výberové skúmanie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54400" cy="4724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1066680"/>
            <a:ext cx="3505320" cy="3933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ždá skúška je výberovou analýzo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“debny” mozgu sú ťahané “guličky” vedomostí a nevedomostí a z nich sa usudzuje na celkový stav vedomostí v moz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3D8-0C5A-4BBA-AD63-AAC9F22341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43800" y="9144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Náhodná veličina je plne popísaná zákonom rozdelenia NV</a:t>
            </a:r>
            <a:br>
              <a:rPr sz="4000"/>
            </a:b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Zákon rozdelenia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NV je pravidlo, ktoré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každej hodnote náhodnej veličiny priradí pravdepodobnosť nadobudnutia danej hodnoty (DNV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alebo množine hodnôt z každého intervalu priradí pravdepodobnosť nadobudnutia hodnôt z intervalov (S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064-E384-4E54-BAB1-8793315B71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6600"/>
                </a:solidFill>
                <a:latin typeface="Times New Roman"/>
              </a:rPr>
              <a:t>Rozlišujeme 3 zákony rozdelenia NV:</a:t>
            </a:r>
            <a:br>
              <a:rPr sz="4000"/>
            </a:b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70000"/>
              </a:lnSpc>
              <a:spcBef>
                <a:spcPts val="799"/>
              </a:spcBef>
              <a:buClr>
                <a:srgbClr val="99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pravdepodobnostná tabuľka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1" lang="sk-SK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, p</a:t>
            </a:r>
            <a:r>
              <a:rPr b="1" lang="sk-SK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=P(X= x</a:t>
            </a:r>
            <a:r>
              <a:rPr b="1" lang="sk-SK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len pre D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99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distribučná funkcia</a:t>
            </a: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F(x) = P(X</a:t>
            </a:r>
            <a:r>
              <a:rPr b="1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x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re DNV, S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99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993300"/>
                </a:solidFill>
                <a:latin typeface="Times New Roman"/>
              </a:rPr>
              <a:t>funkcia hustoty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f(x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len pre S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3352680"/>
            <a:ext cx="1447920" cy="914400"/>
          </a:xfrm>
          <a:custGeom>
            <a:avLst/>
            <a:gdLst>
              <a:gd name="textAreaLeft" fmla="*/ 109080 w 1447920"/>
              <a:gd name="textAreaRight" fmla="*/ 1338840 w 1447920"/>
              <a:gd name="textAreaTop" fmla="*/ 109080 h 914400"/>
              <a:gd name="textAreaBottom" fmla="*/ 80532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1621" y="2577"/>
                </a:lnTo>
                <a:lnTo>
                  <a:pt x="2577" y="2577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1621" y="19023"/>
                </a:lnTo>
                <a:lnTo>
                  <a:pt x="31621" y="2577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2577" y="19023"/>
                </a:lnTo>
                <a:lnTo>
                  <a:pt x="31621" y="19023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2577" y="2577"/>
                </a:lnTo>
                <a:lnTo>
                  <a:pt x="2577" y="19023"/>
                </a:lnTo>
                <a:close/>
              </a:path>
              <a:path fill="darken" w="34198" h="21600">
                <a:moveTo>
                  <a:pt x="17099" y="14302"/>
                </a:moveTo>
                <a:arcTo wR="1287" hR="1287" stAng="16200000" swAng="-5400000"/>
                <a:arcTo wR="1287" hR="1287" stAng="10800000" swAng="-5400000"/>
                <a:arcTo wR="1287" hR="1287" stAng="5400000" swAng="-5400000"/>
                <a:arcTo wR="1287" hR="1287" stAng="0" swAng="-5400000"/>
                <a:close/>
              </a:path>
              <a:path fill="darken" w="34198" h="21600">
                <a:moveTo>
                  <a:pt x="18066" y="13846"/>
                </a:moveTo>
                <a:lnTo>
                  <a:pt x="18066" y="12132"/>
                </a:lnTo>
                <a:cubicBezTo>
                  <a:pt x="18066" y="11409"/>
                  <a:pt x="18355" y="10800"/>
                  <a:pt x="18881" y="10800"/>
                </a:cubicBezTo>
                <a:cubicBezTo>
                  <a:pt x="19870" y="10800"/>
                  <a:pt x="20655" y="9605"/>
                  <a:pt x="20655" y="8219"/>
                </a:cubicBezTo>
                <a:cubicBezTo>
                  <a:pt x="20655" y="6194"/>
                  <a:pt x="19033" y="4671"/>
                  <a:pt x="17099" y="4671"/>
                </a:cubicBezTo>
                <a:cubicBezTo>
                  <a:pt x="15165" y="4671"/>
                  <a:pt x="13703" y="6194"/>
                  <a:pt x="13703" y="8219"/>
                </a:cubicBezTo>
                <a:lnTo>
                  <a:pt x="15325" y="8219"/>
                </a:lnTo>
                <a:cubicBezTo>
                  <a:pt x="15325" y="7221"/>
                  <a:pt x="16132" y="6445"/>
                  <a:pt x="17099" y="6445"/>
                </a:cubicBezTo>
                <a:cubicBezTo>
                  <a:pt x="18066" y="6445"/>
                  <a:pt x="18881" y="7221"/>
                  <a:pt x="18881" y="8219"/>
                </a:cubicBezTo>
                <a:cubicBezTo>
                  <a:pt x="18881" y="8866"/>
                  <a:pt x="18469" y="9506"/>
                  <a:pt x="18066" y="9506"/>
                </a:cubicBezTo>
                <a:cubicBezTo>
                  <a:pt x="17099" y="9506"/>
                  <a:pt x="16132" y="10800"/>
                  <a:pt x="16132" y="12132"/>
                </a:cubicBezTo>
                <a:lnTo>
                  <a:pt x="16132" y="13846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46483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známk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V môžme tiež popísať pomoc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íselných charakteristík. Najčastejšími sú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edná hodnota a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rozpt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4952880"/>
            <a:ext cx="685800" cy="80028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EDB-F75F-4664-9653-AECCC80C99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Pravdepodobnostná tabuľka- rad rozdelenia pravdepodobností - </a:t>
            </a:r>
            <a:r>
              <a:rPr b="1" lang="sk-SK" sz="2800" spc="-1" strike="noStrike">
                <a:solidFill>
                  <a:srgbClr val="006600"/>
                </a:solidFill>
                <a:latin typeface="Times New Roman"/>
              </a:rPr>
              <a:t>popisuje len diskrétnu náhodnú veličinu (DNV)</a:t>
            </a:r>
            <a:br>
              <a:rPr sz="2800"/>
            </a:b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2133720"/>
          <a:ext cx="381312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133720"/>
                    <a:ext cx="38131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648320" y="1676520"/>
          <a:ext cx="4495680" cy="36576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1676520"/>
                    <a:ext cx="44956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724280" y="4876920"/>
            <a:ext cx="40388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X=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ógia relatívnych početnost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5BB-C29B-45C3-988A-9B8C974B20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Distribučná funkcia F(x) = P(X </a:t>
            </a:r>
            <a:r>
              <a:rPr b="1" lang="sk-SK" sz="3600" spc="-1" strike="noStrike">
                <a:solidFill>
                  <a:srgbClr val="006600"/>
                </a:solidFill>
                <a:latin typeface="Symbol"/>
                <a:ea typeface="Symbol"/>
              </a:rPr>
              <a:t></a:t>
            </a:r>
            <a:r>
              <a:rPr b="1" lang="sk-SK" sz="3200" spc="-1" strike="noStrike">
                <a:solidFill>
                  <a:srgbClr val="006600"/>
                </a:solidFill>
                <a:latin typeface="Times New Roman"/>
              </a:rPr>
              <a:t> x)</a:t>
            </a:r>
            <a:br>
              <a:rPr sz="3200"/>
            </a:br>
            <a:r>
              <a:rPr b="0" lang="sk-SK" sz="2800" spc="-1" strike="noStrike">
                <a:solidFill>
                  <a:srgbClr val="006600"/>
                </a:solidFill>
                <a:latin typeface="Times New Roman"/>
              </a:rPr>
              <a:t>slúži k popisu diskrétnej (DNV) aj spojitej (SNV) náhodnej veličiny</a:t>
            </a:r>
            <a:br>
              <a:rPr sz="2800"/>
            </a:b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001000" y="457200"/>
            <a:ext cx="577800" cy="1241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3808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 DNV plat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(x) = P(X </a:t>
            </a:r>
            <a:r>
              <a:rPr b="1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x) = </a:t>
            </a:r>
            <a:r>
              <a:rPr b="0" i="1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k-SK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pre všetky 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sk-SK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sk-SK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2895480"/>
          <a:ext cx="8534520" cy="4686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95480"/>
                    <a:ext cx="85345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909-9B1B-4BE1-8EEB-D47C067187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Spojitá náhodná veličina (SNV)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jitou náhodnou veličinou nazvem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re ktorú existuje funkcia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á, že distribučná funkci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e rovn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838080" y="2590920"/>
                <a:ext cx="71629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, pre  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28600" y="396252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 má distribučná funkci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 všetk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jitú deriváciu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x) = F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budeme veličinu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nazývať spojitá NV a funkciu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hust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pravdepodobnosti náhodnej veličiny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v bode </a:t>
            </a: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039-E289-47F6-911A-E3DB71B7DC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9T11:26:36Z</dcterms:created>
  <dc:creator>FEM KŠOV</dc:creator>
  <dc:description/>
  <dc:language>en-US</dc:language>
  <cp:lastModifiedBy>fem</cp:lastModifiedBy>
  <cp:lastPrinted>2001-02-23T16:59:05Z</cp:lastPrinted>
  <dcterms:modified xsi:type="dcterms:W3CDTF">2005-02-26T13:00:13Z</dcterms:modified>
  <cp:revision>141</cp:revision>
  <dc:subject/>
  <dc:title>  Často sa hovorí, že štatistika je “aplikovaný počet pravdepodobností”  Štatistika    popisná - vyčerpávajúce skúmanie (veda o    štáte, popisná aritmetika)    induktívna - výberové skúmanie (štatistické    analýzy, výberové vzorky     </dc:title>
</cp:coreProperties>
</file>