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E4C-252C-40BA-8554-330A7770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B68-8EA3-4C7F-80B1-5D3BD1AE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011-14F4-48C2-9E9B-E977F0D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056-21FC-49F4-B34A-DCEB917D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1BBE-D670-4ACD-B62F-7CA489CB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24D-7B9E-4BC8-8F1D-DF6E8682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B207-8B45-4B25-BD6C-55C777B0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2A09-7F09-42D3-BCC5-C239E8EB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0F0A-6EB4-4C31-AC48-FFDBF2FD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CEFF-E2B7-4FDC-8F59-66EB23C5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3DF-29C0-4366-92B1-0C4A1C2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1B6-68EF-442D-81AE-D0966FE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14B-16C1-4984-8D40-C098FA5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6B60-C700-4789-831D-36C37C7A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7F02-E4BA-44E6-80BB-6E4D2047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0200-2EA4-4E1F-BC26-28591A20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50D7-B1DC-4608-B3B6-2F82BEAC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45E-0D45-4E97-8D1E-BC7BC386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ADD-A5BC-4241-8AFD-1252169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C1D-F363-48EC-8D17-E78A312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F12-F132-4E2B-B01A-5ADB51A1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87F-3A4D-4D0D-94D9-22D7A7B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204-A1CA-4320-A992-1ED5E4BE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C52-6F0E-49D4-9C39-A94760E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4EC-75A8-4D8D-AF38-9F133F72D59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F98-B786-4139-9E32-2CB46686498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6094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4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ovani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905120"/>
            <a:ext cx="861048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štatistických  hypoté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037400"/>
            <a:ext cx="712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ehovor: “Objavil som pravdu!”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le radšej, “Objavil som jednu z právd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Kahlin Gibran “Prorok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8D8-6A97-4908-A0A9-486BE2A864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prvého druhu  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 druhého druhu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562720"/>
            <a:ext cx="7543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590920"/>
            <a:ext cx="4648320" cy="298440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590920"/>
            <a:ext cx="4647960" cy="283212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809880"/>
            <a:ext cx="0" cy="16765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4876560"/>
            <a:ext cx="4572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5105160"/>
            <a:ext cx="609840" cy="152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2000" y="53337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76920" y="48765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495680"/>
            <a:ext cx="4572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800600"/>
            <a:ext cx="685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5181480"/>
            <a:ext cx="1143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657600" y="4800240"/>
            <a:ext cx="45720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343400"/>
            <a:ext cx="240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495680"/>
            <a:ext cx="27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3520" y="3516480"/>
            <a:ext cx="9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3240" y="3505320"/>
            <a:ext cx="9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0840" y="24796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55000" y="26668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9528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avdepodobnosť prijatia správnej hypotéz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 -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…sila test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052640" cy="19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15640" y="5537160"/>
            <a:ext cx="44636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" y="5597280"/>
            <a:ext cx="432936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192-0239-4A17-82EB-9E978C8A91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5360" y="685800"/>
            <a:ext cx="8390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yba prvého druhu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chyba druhého druhu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 vzájomne previazanými chybami.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nižovanie chy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ého duhu vedie k zväčšovaniu chyby druhého druhu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 je potrebné nájsť kompromis medzi nim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 uvedeného dôvodu sa obvykle volí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 0,0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C56-B792-4E7D-8997-FFA0A55013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OTO2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407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962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Anjel ako “objednávateľ si chce byť istý, že bocian nedodá príli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veľa chlapcov. 52% alebo ešte viac sa mu zdá vo vzorovej zásielk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príliš mnoho. “Dodávatel</a:t>
            </a:r>
            <a:r>
              <a:rPr b="1" i="1" lang="sk-SK" sz="2400" spc="-1" strike="noStrike">
                <a:solidFill>
                  <a:srgbClr val="333333"/>
                </a:solidFill>
                <a:latin typeface="Times New Roman"/>
              </a:rPr>
              <a:t>ˇ“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bocian vie, že v priemere dodáva 51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chlapcov, ale pri prísnych podmienkach “prebierky” by bolo 16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jeho jeho zásielky odmietnuté, aj keď “celková produkcia” zodpovedá požiadavkám. Otázkou je ako je rozdelené riziko medzi dodávateľom a odberateľom. Na obrázku anjel neriskuje vôbec nič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110-094D-4E44-9EEB-2AF2934CBF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stup testovania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ákladnú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alternatívnu  hypotéz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volí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ladinu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počítame potrebné výberové charakteristiky a zvolíme správ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estovacie kritérium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ho hodnotu vypočí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hodneme o výsledku testu, t.j. 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amietnutí, resp. nezamietnutí nulovej hypotézy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rovnaním hodnoty testovacieho kritéria s kritickými hodnota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slušného rozdelenia (nájdené v tabuľkách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247-841C-485A-973D-108B0367B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strednej hodnot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514520"/>
            <a:ext cx="8382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y zhody strednej hodnoty so známou konštantou       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631960"/>
            <a:ext cx="8796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 X má  v základnom súbore  približne normálne rozdelenie ….N(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á stredná hodnot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a rovná známej konštante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t.j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66880" y="54100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5029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846-04B0-4227-91A8-DFB58A8765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 predpokladajme,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že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poznáme rozptyl       základného súboru </a:t>
            </a:r>
            <a:r>
              <a:rPr b="0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8896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om vytvoríme ako testovaciu chrakteristi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47920" y="2819520"/>
                <a:ext cx="28191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778360" y="31910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0133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me transformovali  na známe teoretické rozdelenie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CE4-5D9E-4716-8F28-B57BAB3863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90720" y="23623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3623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5146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6680" y="39736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6668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560" y="27432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756400" y="5859360"/>
                <a:ext cx="1136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974880" y="1260360"/>
            <a:ext cx="73310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hodnutie o výsledku testu: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62760" y="5638680"/>
            <a:ext cx="245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or prijatia 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9D7-610B-4394-97EC-97FE2B5E34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b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447920" y="2666880"/>
                <a:ext cx="259056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4160" y="205740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677840"/>
            <a:ext cx="642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ezamieta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B0E-ADFE-4139-BC87-315077DCBD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43000" y="2590920"/>
                <a:ext cx="27417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80880" y="704880"/>
            <a:ext cx="82868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je malý, n </a:t>
            </a:r>
            <a:r>
              <a:rPr b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743200"/>
            <a:ext cx="289548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ická hodnota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(n-1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 kvantil  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5080" y="43848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4876920"/>
            <a:ext cx="1347840" cy="1447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0" y="5257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10480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oplňte sami 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10960" y="2117520"/>
            <a:ext cx="24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68F-BC27-4A0B-BC07-01D21A4CF1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B. Testy hypotéz o zhode dvoch stredných hodnôt ne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360" y="202248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47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prvom základnom súbor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atistický znak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druhom základnom súbore  tie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é stredné hodnoty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ú  zhodné, t.j. testujem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28800" y="5562720"/>
                <a:ext cx="625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5105520"/>
                <a:ext cx="581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D2D-099F-4F8B-A52D-CA2D942DF2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estovanie </a:t>
            </a:r>
            <a:r>
              <a:rPr b="1" i="1" lang="sk-SK" sz="4400" spc="-1" strike="noStrike">
                <a:solidFill>
                  <a:srgbClr val="cc3300"/>
                </a:solidFill>
                <a:latin typeface="Times New Roman"/>
              </a:rPr>
              <a:t>š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atistických hypotéz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re základného súboru nepozná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eme však o nich vysloviť určité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edpoklad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y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 formulujeme ak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hypotézy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overujeme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ými postupmi -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testovanie štatistických hypotéz </a:t>
            </a:r>
            <a:r>
              <a:rPr b="0" i="1" lang="sk-SK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(TH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verovať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ožno nielen predpoklady o parametroch (napríklad strednej hodnote), ale aj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 tvare rozdelenia štatistického znak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napr. testovanie zhody empirického rozdelenia početností s normálnym rozdelení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422-B024-40D0-9768-0F87FFF28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poznám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aj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66400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590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ytvoríme ako testovaciu chrakteristiku 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33520" y="3429000"/>
                <a:ext cx="768960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055520" y="1219320"/>
                <a:ext cx="5820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584520" y="556272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to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rá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277-8FE0-41D8-BEE8-C9F990E540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8088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ale obidva výberové súbory majú dostatočn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,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môžeme použiť testovaciu chrakteristiku ako v bode a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ozptyly základných súborov nahradíme ich bodovými odhadmi: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5400" spc="-1" strike="noStrike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1FF-B536-47FA-B257-7EEACA4B18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k však môžeme predpokladať, že rozptyly sú zhodné, t.j.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,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použiť testovaciu chrakteristiku </a:t>
            </a:r>
            <a:r>
              <a:rPr b="1" i="1" lang="en-US" sz="2800" spc="-1" strike="noStrike">
                <a:solidFill>
                  <a:srgbClr val="004c2b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, ktorá má Studentovo rozdelenie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43000" y="2819520"/>
                <a:ext cx="662940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!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57200" y="5234400"/>
            <a:ext cx="801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u testovacieho kritéri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-vyp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rovnáme 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ritickou hodnotou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(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+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- 2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upne voľnost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69F-5DBF-4D1F-9E24-AF9D1ECB12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9220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však predpokladať zhodu rozptylov(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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)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(Overuje sa F-testom)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ôžeme použiť približný Behrens-Fischerov test zhody stredných hodnôt pri nehomogénnej variancii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507-3C56-45F8-B970-8EA4AF3F62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C. Test hypotézy o zhode dvoch stredných hodnôt 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641600"/>
            <a:ext cx="9058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dvakrát po sebe uskutočníme merania na tý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stých štatistických jednotkách, čím získame nasledovné merani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1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,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Údaje tvoria tzv. párov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zorovania -tzv. závisl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é výbery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e každú dvojicu, pár môžeme vypočítať diferenciu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2j ,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2743200"/>
            <a:ext cx="108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743200"/>
            <a:ext cx="1371600" cy="68580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019560" y="3276720"/>
            <a:ext cx="75960" cy="6094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324480" y="2895120"/>
            <a:ext cx="68580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2040" y="3854520"/>
            <a:ext cx="37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súboru meraní v č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 1,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406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poradia merani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 = 1,2,…,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48080" y="4876920"/>
                <a:ext cx="3897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 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832-59F5-4833-B14A-97D6E99F55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-317880"/>
            <a:ext cx="773424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ť bud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leb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cie kritérium bude mať Studentovo rozdelenie s (n - 1) stupňami 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447920" y="2209680"/>
                <a:ext cx="5410080" cy="23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sSub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04920" y="4214160"/>
            <a:ext cx="85341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&lt;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nezamietame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.zn. Stredné hodnoty závislých súborov sú zhodné, resp. stredná hodnota diferencií sa štatisticky významne nelíši od nul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zamietame…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B5C-0219-4F56-A8B1-61AA36C327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Pr</a:t>
            </a:r>
            <a:r>
              <a:rPr b="1" i="1" lang="sk-SK" sz="3200" spc="-1" strike="noStrike">
                <a:solidFill>
                  <a:srgbClr val="990033"/>
                </a:solidFill>
                <a:latin typeface="Times New Roman"/>
              </a:rPr>
              <a:t>íklady závislých výberov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720" y="1873080"/>
            <a:ext cx="8209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očkovacej látky proti slintačke u   ošípaných  na zníženie hmotnosti. Zatým účelom  náhodne vyberie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kusných zvierat a aplikujeme  im očkovacie sérum. Vážením pred očkovaním a dva týždne 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čkovaní získa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 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árových hodnô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reklamy na výšku tržieb za vybraný výrobok.   Náhodne vyberieme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predajní a zisťujueme tržby pred reklamou a tri týždne po spustení reklamy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6015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89E-86FA-4806-B424-E816B5B8D9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rozptyloch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00200"/>
            <a:ext cx="82296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 zhody rozptylu so známou  konštantou                               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43200" y="3276720"/>
                <a:ext cx="3048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93640" y="339408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2440" y="3225960"/>
            <a:ext cx="274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 (n-1) stupňam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952880"/>
            <a:ext cx="69343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4724280"/>
            <a:ext cx="0" cy="3049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4800600"/>
            <a:ext cx="0" cy="2286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4876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495288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5440" y="5105520"/>
            <a:ext cx="23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 prijatia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5638680"/>
            <a:ext cx="17528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61760" y="5638680"/>
            <a:ext cx="160020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48769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8006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B72-8924-4C42-AFC9-49A15C5F3C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. Test zhody dvoch rozptylov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, 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&gt;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, </a:t>
            </a:r>
            <a:r>
              <a:rPr b="1" lang="en-US" sz="2800" spc="-1" strike="noStrike" baseline="30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ednostrann</a:t>
            </a:r>
            <a:r>
              <a:rPr b="1" lang="sk-SK" sz="2800" spc="-1" strike="noStrike">
                <a:solidFill>
                  <a:srgbClr val="990033"/>
                </a:solidFill>
                <a:latin typeface="Times New Roman"/>
              </a:rPr>
              <a:t>ý test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0920" y="205740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19520" y="2057400"/>
                <a:ext cx="16254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648320" y="2133720"/>
            <a:ext cx="42670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Fischerovo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o stupňami voľnosti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, 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6576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zn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Do čitateľa dávame väčší ropzptyl, preto F&gt;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1 a alternatív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hypotéza môže byť iba jednostrann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4956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800600"/>
            <a:ext cx="77119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&lt;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 , rozptyly základných súborov môžeme považovať za zhodn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 , rozptyl prvého súboru (v čitateli) je signifikantne väčší od druhé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586-56D7-497F-9C01-CA1607B83C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000"/>
                </a:solidFill>
                <a:latin typeface="Times New Roman"/>
              </a:rPr>
              <a:t>Príklady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ceme overiť, či s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é výdavky na potraviny v r. 2000 významne zvýšili oproti r.1999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pričom na základe výberového skúmania predstavovali v r. 1999 34% a v r. 2000 36%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robca reflektorov uvádza, že ich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tredná životnosť predstavuje 70 hodí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Za tým účelom sa uskutočnilo výberové skúmanie 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vzork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flektorov sa zistil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á životnosť 67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ín 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výberová smerodajná odchýlka 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iny. Má výrobca pravdu ??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48B-5A16-4AB3-B8B1-209300EA00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východiskovú -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nulovú hypotézu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ktorá vždy tvrdí zhodu toho čo porovnávame - testujeme, napr. hpotézu o zhode strednej hodnoty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 znám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onštant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=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roti nulovej hypotéze formulujeme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alternatívnu hypotézu 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obojstranný tes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g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ednostranné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l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lová a alternatívna hypotéza sa musia vzájomne vylučovať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562360" y="5181120"/>
            <a:ext cx="53316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5562720"/>
            <a:ext cx="53352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888-260B-4861-A7EA-76FD7C348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6960" y="171360"/>
            <a:ext cx="844848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er základného súboru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 ktorom má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ú hypotézu nepoznáme,  iba ho odhadujeme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klade výberového súboru pomocou výberov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kteristiky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zamietnutí resp. nezamietnutí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lovej hypotézy uskutočňujeme na základ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ého výber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môžme ho urobiť s absolútn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snosťou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xistuj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riziko odhadu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 predpokladu, že platí nulová hypotéza , rovná sa parame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anej veličin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že est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=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rozdiel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u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e iba náhodnou chybou, spôsobenou náhodným výbero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C26-4502-434F-BF81-BB8062E623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985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79360"/>
            <a:ext cx="894384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však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platí , t.j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Q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sa rozdiel môže skladať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 náhodnej chyb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ystematickej chyby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odráža skutočný rozdiel 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arametrom  základného súboru Q a jeho predpoklada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ou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(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) + (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05320" y="3276720"/>
            <a:ext cx="685800" cy="3045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3200400"/>
            <a:ext cx="45720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6440" y="3505320"/>
            <a:ext cx="144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81280"/>
            <a:ext cx="21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ystematick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 - rozdi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530600"/>
            <a:ext cx="861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praxi nemožno zistiť , či rozdiel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sahuje iba náhodn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u, alebo aj systematickú. Ak je však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alé pripisujem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 iba náhodnosti výberu, ak prekročí určitú veľkosť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áme, že zahrňuje aj systematickú chybu - rozdiel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86D-DA31-46B7-80D1-E064050C5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609480"/>
            <a:ext cx="88376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hodnutie o zamietnutí, resp. nezamietnu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alosť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kritickej hodnoty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á rozdiel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delí na dve časti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menších ako kritická hodnot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ko kritická hodnota,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2819520"/>
            <a:ext cx="8502480" cy="37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konkrétnych prípadoch kolíše, je náhod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ličinou,. Preto sa snažíme transformovať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é je funkciou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parametra základného súbor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na veličin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m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áme teoretické rozdelenie (napr. Normované normálne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. Studentovo či iné rozdelenie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)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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G = f(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funkcia hustoty náhodnej premennej G j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f(g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chádzame z platnosti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Q =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  vypočítam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estovaciu  charakteristiku 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597-AA1C-4B77-8BD2-8DF638F446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47680"/>
            <a:ext cx="8458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Môžeme potom nájsť také kritické hodnoty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ej veličiny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 ktoré platí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1 -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2438280"/>
            <a:ext cx="7310520" cy="4228920"/>
            <a:chOff x="0" y="2438280"/>
            <a:chExt cx="7310520" cy="4228920"/>
          </a:xfrm>
        </p:grpSpPr>
        <p:sp>
          <p:nvSpPr>
            <p:cNvPr id="105" name=""/>
            <p:cNvSpPr/>
            <p:nvPr/>
          </p:nvSpPr>
          <p:spPr>
            <a:xfrm>
              <a:off x="2313000" y="2438280"/>
              <a:ext cx="4997520" cy="2538360"/>
            </a:xfrm>
            <a:custGeom>
              <a:avLst/>
              <a:gdLst/>
              <a:ahLst/>
              <a:rect l="l" t="t" r="r" b="b"/>
              <a:pathLst>
                <a:path w="2832" h="1272">
                  <a:moveTo>
                    <a:pt x="0" y="1016"/>
                  </a:moveTo>
                  <a:cubicBezTo>
                    <a:pt x="112" y="508"/>
                    <a:pt x="224" y="0"/>
                    <a:pt x="576" y="8"/>
                  </a:cubicBezTo>
                  <a:cubicBezTo>
                    <a:pt x="928" y="16"/>
                    <a:pt x="1736" y="856"/>
                    <a:pt x="2112" y="1064"/>
                  </a:cubicBezTo>
                  <a:cubicBezTo>
                    <a:pt x="2488" y="1272"/>
                    <a:pt x="2660" y="1264"/>
                    <a:pt x="2832" y="1256"/>
                  </a:cubicBezTo>
                </a:path>
              </a:pathLst>
            </a:custGeom>
            <a:noFill/>
            <a:ln w="57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2438280"/>
              <a:ext cx="0" cy="27781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5791320"/>
              <a:ext cx="3276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kritický obor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zamietnutia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96360" y="2220840"/>
            <a:ext cx="6685920" cy="3665520"/>
            <a:chOff x="1296360" y="2220840"/>
            <a:chExt cx="6685920" cy="3665520"/>
          </a:xfrm>
        </p:grpSpPr>
        <p:sp>
          <p:nvSpPr>
            <p:cNvPr id="109" name=""/>
            <p:cNvSpPr/>
            <p:nvPr/>
          </p:nvSpPr>
          <p:spPr>
            <a:xfrm>
              <a:off x="1973160" y="5024520"/>
              <a:ext cx="57596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7160" y="3395520"/>
              <a:ext cx="0" cy="16290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70520" y="4545000"/>
              <a:ext cx="0" cy="4795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08120" y="420696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6360" y="416232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4240" y="3471840"/>
              <a:ext cx="87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230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06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20960" y="5216400"/>
              <a:ext cx="279396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7480" y="5268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5311800"/>
              <a:ext cx="36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prijatia hypotézy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1120" y="550404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49440" y="5886360"/>
              <a:ext cx="9316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54760" y="5504040"/>
              <a:ext cx="0" cy="2872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4760" y="579132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4800" y="2220840"/>
              <a:ext cx="197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hladin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významnosti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vykle 0.0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24080" y="56293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3840" y="5181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525-7339-419A-AA6D-D889609F39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839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, zamietnutí resp. nezamietnutí nulovej hypotézy 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závisí od voľ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y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a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ľuje obor hodnô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eličiny G na obor prijatia a obory zamietnutia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 pr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pade, že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nezamietame, tvrdíme, že rozdiel 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štatisticky nepreukazný, t.j. ne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k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na hlad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zamie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diel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štatisticky preukazný, t.j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971800" cy="24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1CE-76E3-4A90-80F0-7B716EED8C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17:17:33Z</dcterms:created>
  <dc:creator>FVS</dc:creator>
  <dc:description/>
  <dc:language>en-US</dc:language>
  <cp:lastModifiedBy>FVS</cp:lastModifiedBy>
  <cp:lastPrinted>2003-03-08T16:18:35Z</cp:lastPrinted>
  <dcterms:modified xsi:type="dcterms:W3CDTF">2003-03-10T16:54:54Z</dcterms:modified>
  <cp:revision>103</cp:revision>
  <dc:subject/>
  <dc:title>Testovanie štatistických hypotéz</dc:title>
</cp:coreProperties>
</file>