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4.wmf" ContentType="image/x-wmf"/>
  <Override PartName="/ppt/media/image31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19.wmf" ContentType="image/x-wmf"/>
  <Override PartName="/ppt/media/image37.wmf" ContentType="image/x-wmf"/>
  <Override PartName="/ppt/media/image7.wmf" ContentType="image/x-wmf"/>
  <Override PartName="/ppt/media/image35.png" ContentType="image/png"/>
  <Override PartName="/ppt/media/image5.png" ContentType="image/png"/>
  <Override PartName="/ppt/media/image13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14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6.jpeg" ContentType="image/jpeg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01D-54F7-4341-B61E-31276212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AA-1F38-4BC3-9F6F-CA1A787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E7A-71E7-4B7D-BA01-382F4AA3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2E6-53B6-4E66-9262-E1D9ECD5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142A-5061-48F2-8D68-DEDCA1B2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EA87-7FFE-464C-953B-367EF42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895-3F53-4DDA-A498-28DD61F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700-071B-499E-A44D-AF110C1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DE9-F00A-406D-A4F9-74841B2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FE3-B6CE-48ED-9D81-E2A2A89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38F5-BCA6-464F-BC5A-96C1A749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E91-B280-40E9-B138-D08400C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81B4-D6C4-4CCF-AD99-BAD20F2E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7F49-B28F-4529-A95A-569FEB9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84D-A396-4D2A-8008-2FD5B55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31FA-C3D6-4577-81C5-8C1641B2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0EDA-D882-47F5-BB24-2D5EF91D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AF4-A9BE-4EA9-824A-AB7DF42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521-1CA1-45D2-AC4F-E138B9E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0E7-3EBE-434A-8FBA-963D1D4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BFB-7D87-47FC-BFD5-DD557B7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A4F-8183-4A9F-9E5F-366208F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CBF-0538-47E2-99F3-B8F1850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372-C2F2-4C08-AA25-F8972FF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37B-B7C3-4529-83C4-D941D46EAC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168-228E-4241-84A0-000A52CD3D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ISNÉ (DESKRIPTÍVNE) CHARAKTERISTI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17719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515-5059-45AE-A528-CCB12EF994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: vážený aritmetický prie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aždú známku musíme násobiť (vážiť) počtom študentov, až potom urobíme súčet (vážený súčet), ktorý podelíme počtom študent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133720"/>
          <a:ext cx="3276360" cy="282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27636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133720"/>
          <a:ext cx="373392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133720"/>
                    <a:ext cx="37339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5638680"/>
                <a:ext cx="15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3680" y="563868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riemerna známka bu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473-9203-40B5-A63D-55041BFF09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ýpočet aritmetického priemeru z intervalov. rozdelenia početností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523880"/>
          <a:ext cx="579096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7909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14400" y="5257800"/>
          <a:ext cx="2057400" cy="28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57800"/>
                    <a:ext cx="2057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282120" y="49849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emerný plat  pracovníka predstav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667 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237-B703-4429-896E-2D68315AE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osti aritmetického priemer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tálosť súčtu hodnô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odchýlok od priemeru sa rovná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štvorcov odchýlok od priemeru je minimál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81480" y="1523880"/>
                <a:ext cx="213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2743200"/>
                <a:ext cx="2514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00120" y="4800600"/>
                <a:ext cx="4011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3C7-3EAE-4FDB-8256-0DF19EB3ED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ritmetický priemer nem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äčšinou žiadny odraz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utočnost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á priemerná rod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2,2 dieťaťa, našťast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 neznamená to, čo vidíme na obrázk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0532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260-BDB8-4B46-BA97-FF61F08155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geometr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používa sa pri časových radoch (rast HDP za tri roky, vývoj inflácie za päť rokov..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2743200"/>
                <a:ext cx="51814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4495680"/>
                <a:ext cx="57913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ABD-8B5D-4E5E-8C11-9751A4218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Vývoj HNP SR za rr.95-99 v US$</a:t>
            </a:r>
            <a:r>
              <a:rPr b="0" lang="sk-SK" sz="2800" spc="-1" strike="noStrike">
                <a:solidFill>
                  <a:srgbClr val="990033"/>
                </a:solidFill>
                <a:latin typeface="Arial Black"/>
              </a:rPr>
              <a:t> na obyv a rok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76520"/>
          <a:ext cx="754380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4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7680" y="4765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na 108,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0481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8120"/>
            <a:ext cx="9907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3505320"/>
            <a:ext cx="38102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25780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o 8,1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50532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F3-56DA-4227-A1C3-B3C8BC7DBF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jednotlivých koeficientov rastu možno vypočíta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emerný koeficient rast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81080" y="28195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T-1 </m:t>
                        </m:r>
                      </m:deg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73392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,148.1,081. 1,003 . 0,97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obdobie rr. 95-99 HNP v SR rástol ročne približne o 4,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2CB-0964-48FB-9924-2B21E7B46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Úloh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pokladajme, že ideme 30 km ďaleko a prvých 1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jdeme rýchlosťou 15 km za hod. a druhých 15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ýchlosťou 75 km za hod. Akú priemernú rýchlosť sme dosiahli za hodi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324480" cy="29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609-8316-4469-83FE-2EDA6A584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monický priemer (jednoduchý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ú trať ideme rýchlosťou 15km/hod… k jej prejd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ujeme  práve 1hod. - 60 minút (15/1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hú trať (15 km) ideme rýchlosťou 75 km/ho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jej prejdeniu potrebujeme len 12 minút (15/7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ková doba jazdy je teda 72 minút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itmetický pri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ás zmýli výslekom (15+75)/2=</a:t>
            </a:r>
            <a:r>
              <a:rPr b="0" lang="sk-SK" sz="2400" spc="-1" strike="noStrike">
                <a:solidFill>
                  <a:srgbClr val="cc3300"/>
                </a:solidFill>
                <a:latin typeface="Tahoma"/>
              </a:rPr>
              <a:t>45km za hodi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 K zisteniu  priemernej doby jazdy pre oba úseky potrebujeme 60min+12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72/2 =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6 minút pre každý úsek jazdy, čo predstavuje priemernu rýchlosť 25 km /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90720" y="4724280"/>
                <a:ext cx="612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01-0B49-48CD-9DDB-E4BF5C908F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2.Ostatné stred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znam pri nesymetrických rozdeleniach u kvantitatívnych znakov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kvalitatívnych znako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ediá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- prostredná hodnota v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atistickom súbore usporiadanom podľa skúman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 napr. výška prostredného pracovní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90920" y="3200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C66-7EBC-45FF-AC3C-F6981F9BCE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ISNÉ (DESKRIPTÍVNE) CHARAKTER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sú číselné charakteristiky, ktoré koncentrovanou formou – jedným číslom – vyjadrujú určitú vlastnosť skúmaného štatistick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(väčšinou sú použiteľné pre kvantitatívne štatistické znaky, len niektoré pre kvalitatívne štatistické zna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E5B-7BDB-4D36-9F2A-A953DB5BA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Mediá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ostredná hodnota v usporiada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ickom súbore. Usporiadame ženy podľa výšky, a zistíme, ktorá z nich je prostredná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4389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F02-A522-4334-BC8A-DB83AC5FC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nepárny počet štatistických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- nepárny poč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3962520"/>
          <a:ext cx="259056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25905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5240160"/>
                <a:ext cx="1447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38280" y="5272200"/>
                <a:ext cx="2210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47920" y="594360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5023080" cy="181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388620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di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4572000"/>
                <a:ext cx="19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ED7-451B-4BC7-BA77-A8D2E7C9E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párny počet štat.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4191120"/>
                <a:ext cx="2514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5560920"/>
                <a:ext cx="3200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72000" y="4800600"/>
                <a:ext cx="3962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33520" y="1905120"/>
          <a:ext cx="38098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4483080" cy="183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15000" y="4267080"/>
            <a:ext cx="3808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520" y="4191120"/>
            <a:ext cx="3049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451-D43D-466C-8AC4-D875F8146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rčovanie mediánu pri intervalovom rozdelení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á sa určiť len mediánový interval, do ktorého       patrí, v rámci tohto intervalu potom medián    určíme približ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a základe absolútnych počet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dolná hranica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h</a:t>
            </a:r>
            <a:r>
              <a:rPr b="0" lang="sk-SK" sz="2400" spc="-1" strike="noStrike">
                <a:solidFill>
                  <a:srgbClr val="07080f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rozpätie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početnosť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 kumulat. početnosť po medián.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467480" y="1828800"/>
                <a:ext cx="42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29200" y="335268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5800" y="3733920"/>
                <a:ext cx="65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4720" y="4419720"/>
                <a:ext cx="966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91F-DCB2-47E8-9C3E-7DF3418188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ýpočet mediánu z interval. rozdel. početností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00600" y="114300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685800" y="1447920"/>
          <a:ext cx="388620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8862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57800" y="3124080"/>
          <a:ext cx="220968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124080"/>
                    <a:ext cx="2209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5029200"/>
          <a:ext cx="2667240" cy="3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029200"/>
                    <a:ext cx="2667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34600" y="5035680"/>
            <a:ext cx="516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redný plat je 11 869 SK, čo znamená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e 50% pracovníkov má vyšší a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ovníkov nižšší ako 11 869 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983-22C9-4B65-AD66-4EC0AA8D4D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odu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 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početnejšia alebo najčastejšie sa vyskytujúca hodnota v štat.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je definovaný v jednovrcholových rozdeleniach početností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1676520"/>
                <a:ext cx="32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81480" y="41911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1371600" y="3657600"/>
          <a:ext cx="2971800" cy="20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297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H="1">
            <a:off x="2286000" y="4419720"/>
            <a:ext cx="2819520" cy="22860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76176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CBD-F17D-4632-8652-0DA7262B33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prostredne sa dá určiť v štat. súbore, ak poznáme individuálne hodnoty znaku x a ich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ípade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intervalového rozdelenia početnos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sa priamo určí iba modálny interval, t.j. interval s najväčšou početnosťou v štat. súbore. V rámci tohto intervalu sa modus urč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5D1-D420-46B6-9FDE-6CDDD361B7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86200" y="24382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základe vzťahu početností modálneho a priľahlých intervalov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- dolná hranica modálneho interval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- rozpätie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predchádza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nasledu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19720" y="685800"/>
                <a:ext cx="28191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457200" y="990720"/>
          <a:ext cx="3352680" cy="29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52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5800" y="4191120"/>
          <a:ext cx="198108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9480" y="5791320"/>
          <a:ext cx="2286000" cy="3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22860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404520" y="553572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jpočetnejším platom je 12 175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48B-CB8A-4FF9-9C9F-F9DE88271C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zájomná poloha modusu, mediánu a aritmetického priemeru v štat. súb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pozi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ga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36B-3EF9-4E36-89FF-ABE257F6E2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Porovnanie modusu, mediánu a strednej hodno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38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749-F791-4F6C-94A7-6DFC132FE2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pisné charakteristi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                  najvi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variability             použív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ikm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pica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4120" y="2666880"/>
            <a:ext cx="1295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5000" y="2819520"/>
            <a:ext cx="990720" cy="533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064-E6DC-4554-9183-CAD15BC3F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valové rozdelenie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990720"/>
          <a:ext cx="57150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5715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5105520"/>
          <a:ext cx="191448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9144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9DC-4F62-48AC-93CD-BE6D673BFF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2. Charakteristiky vari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ariabilita – menlivosť hodnôt znaku v štatistickom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miery variabili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ery variability, ktorých veľkosť ovplyvňujú len niektoré hodnoty znaku v sú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variačn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n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á odchýl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A56-5147-4443-A27A-2E3FA815B4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ry variability, ktorých veľkosť ovplyvňuje každá hodnota znaku v súb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absolútne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rozp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smerodajná (štandardná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-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 relatívn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- pomerná 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variančný koe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A37-9D30-4C56-BB0A-A3243F956C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rozpty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k-SK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disperzia, varia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uhý centrálny moment, priemerný štvorec odchýlo k od priemeru, meria variabilitu v druhých mocninách mernej jednotky- pret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neinterpretovateľ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počíta sa ak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81280" y="3048120"/>
                <a:ext cx="3159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90920" y="4572000"/>
                <a:ext cx="3848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6DA-717D-4A5A-BFC0-97C3880D94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Smerodajná </a:t>
            </a:r>
            <a:r>
              <a:rPr b="0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(štandardná )</a:t>
            </a: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 odchýlk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jadruje variabilitu súboru v pôvodných merných jednotk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latívna miera vari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ariančný koefici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ria variabilitu v % (slúži na porovnávanie variability znakov vo viacerých súbor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1752480"/>
                <a:ext cx="21337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38280" y="4876920"/>
                <a:ext cx="2851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BC4-7C4A-4653-A94D-564788F657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riabilita v rozdelení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9907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4648320"/>
          <a:ext cx="2133720" cy="17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2133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713680" y="4627440"/>
            <a:ext cx="594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ajnou odchýlkou pred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uje 1 006 Sk, čo znamená, že za predpokladu jednovrchol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ého približne symetrického rozdel. Platov sa v interv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 767 Sk +-1 006 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achádza asi 68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ov pracovní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. odchýlkou predstavuje 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,55% z priemerneho pla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FB6-A80B-420D-AC13-B41146BC97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Charakteristiky šikm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earsonova miera šikmosti-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rčuje mieru asymetrie podľa vzájomnej polohy modusu a priemeru- je približ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=0  symetrické rozde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pozi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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 nega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52480" y="2021040"/>
                <a:ext cx="1752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886200" cy="29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22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FDC-96C0-429E-8108-CE6D7408C5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 koeficient šikm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asymetrie ) –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resnejšia (momentová) miera šikmosti,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rozmerné číslo, vyhodnocuje 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= 0 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pozitívna (ľavostranná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negatívna (pravostranná)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62320" y="3352680"/>
                <a:ext cx="27432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4343400"/>
                <a:ext cx="30366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24280" y="4422600"/>
                <a:ext cx="3353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6FE-E947-49BA-AA6F-7821DB326C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4.Charakteristika špicatos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bezrozmerné 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 0 normáln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l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ploch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 špicatej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3800" y="4267080"/>
                <a:ext cx="3370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68840" y="4297320"/>
                <a:ext cx="363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0DB-B1A2-437D-A495-7A7A7BDC65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1828800"/>
            <a:ext cx="4038840" cy="2057040"/>
            <a:chOff x="4495680" y="1828800"/>
            <a:chExt cx="4038840" cy="2057040"/>
          </a:xfrm>
        </p:grpSpPr>
        <p:sp>
          <p:nvSpPr>
            <p:cNvPr id="263" name=""/>
            <p:cNvSpPr/>
            <p:nvPr/>
          </p:nvSpPr>
          <p:spPr>
            <a:xfrm>
              <a:off x="4686120" y="2398320"/>
              <a:ext cx="3427560" cy="1429200"/>
            </a:xfrm>
            <a:custGeom>
              <a:avLst/>
              <a:gdLst/>
              <a:ahLst/>
              <a:rect l="l" t="t" r="r" b="b"/>
              <a:pathLst>
                <a:path w="5130" h="1907">
                  <a:moveTo>
                    <a:pt x="0" y="1850"/>
                  </a:moveTo>
                  <a:cubicBezTo>
                    <a:pt x="212" y="1800"/>
                    <a:pt x="850" y="1872"/>
                    <a:pt x="1275" y="1565"/>
                  </a:cubicBezTo>
                  <a:cubicBezTo>
                    <a:pt x="1700" y="1258"/>
                    <a:pt x="2110" y="0"/>
                    <a:pt x="2550" y="5"/>
                  </a:cubicBezTo>
                  <a:cubicBezTo>
                    <a:pt x="2990" y="10"/>
                    <a:pt x="3485" y="1283"/>
                    <a:pt x="3915" y="1595"/>
                  </a:cubicBezTo>
                  <a:cubicBezTo>
                    <a:pt x="4345" y="1907"/>
                    <a:pt x="4877" y="1821"/>
                    <a:pt x="5130" y="18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95680" y="3874680"/>
              <a:ext cx="403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920" y="234072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29000" y="232416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896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688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0880" y="183996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7760" y="2166120"/>
              <a:ext cx="0" cy="23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9920" y="2154960"/>
              <a:ext cx="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3960" y="2154960"/>
              <a:ext cx="0" cy="23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3809880"/>
            <a:ext cx="4495680" cy="2028960"/>
            <a:chOff x="685800" y="3809880"/>
            <a:chExt cx="4495680" cy="2028960"/>
          </a:xfrm>
        </p:grpSpPr>
        <p:sp>
          <p:nvSpPr>
            <p:cNvPr id="274" name=""/>
            <p:cNvSpPr/>
            <p:nvPr/>
          </p:nvSpPr>
          <p:spPr>
            <a:xfrm>
              <a:off x="685800" y="5838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4632120"/>
              <a:ext cx="3304800" cy="1160640"/>
            </a:xfrm>
            <a:custGeom>
              <a:avLst/>
              <a:gdLst/>
              <a:ahLst/>
              <a:rect l="l" t="t" r="r" b="b"/>
              <a:pathLst>
                <a:path w="5205" h="1828">
                  <a:moveTo>
                    <a:pt x="0" y="1780"/>
                  </a:moveTo>
                  <a:cubicBezTo>
                    <a:pt x="212" y="1727"/>
                    <a:pt x="838" y="1760"/>
                    <a:pt x="1275" y="1465"/>
                  </a:cubicBezTo>
                  <a:cubicBezTo>
                    <a:pt x="1712" y="1170"/>
                    <a:pt x="2158" y="0"/>
                    <a:pt x="2625" y="10"/>
                  </a:cubicBezTo>
                  <a:cubicBezTo>
                    <a:pt x="3092" y="20"/>
                    <a:pt x="3650" y="1222"/>
                    <a:pt x="4080" y="1525"/>
                  </a:cubicBezTo>
                  <a:cubicBezTo>
                    <a:pt x="4510" y="1828"/>
                    <a:pt x="4971" y="1762"/>
                    <a:pt x="5205" y="18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760" y="3809880"/>
              <a:ext cx="2438280" cy="1990800"/>
            </a:xfrm>
            <a:custGeom>
              <a:avLst/>
              <a:gdLst/>
              <a:ahLst/>
              <a:rect l="l" t="t" r="r" b="b"/>
              <a:pathLst>
                <a:path w="3840" h="3135">
                  <a:moveTo>
                    <a:pt x="0" y="3135"/>
                  </a:moveTo>
                  <a:cubicBezTo>
                    <a:pt x="235" y="3035"/>
                    <a:pt x="1070" y="3058"/>
                    <a:pt x="1410" y="2535"/>
                  </a:cubicBezTo>
                  <a:cubicBezTo>
                    <a:pt x="1750" y="2012"/>
                    <a:pt x="1828" y="0"/>
                    <a:pt x="2040" y="0"/>
                  </a:cubicBezTo>
                  <a:cubicBezTo>
                    <a:pt x="2252" y="0"/>
                    <a:pt x="2385" y="2015"/>
                    <a:pt x="2685" y="2535"/>
                  </a:cubicBezTo>
                  <a:cubicBezTo>
                    <a:pt x="2985" y="3055"/>
                    <a:pt x="3600" y="2998"/>
                    <a:pt x="3840" y="312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600" y="5060880"/>
              <a:ext cx="4143240" cy="712440"/>
            </a:xfrm>
            <a:custGeom>
              <a:avLst/>
              <a:gdLst/>
              <a:ahLst/>
              <a:rect l="l" t="t" r="r" b="b"/>
              <a:pathLst>
                <a:path w="6525" h="1122">
                  <a:moveTo>
                    <a:pt x="0" y="1120"/>
                  </a:moveTo>
                  <a:cubicBezTo>
                    <a:pt x="247" y="1063"/>
                    <a:pt x="970" y="972"/>
                    <a:pt x="1485" y="790"/>
                  </a:cubicBezTo>
                  <a:cubicBezTo>
                    <a:pt x="2000" y="608"/>
                    <a:pt x="2473" y="0"/>
                    <a:pt x="3090" y="25"/>
                  </a:cubicBezTo>
                  <a:cubicBezTo>
                    <a:pt x="3707" y="50"/>
                    <a:pt x="4617" y="758"/>
                    <a:pt x="5190" y="940"/>
                  </a:cubicBezTo>
                  <a:cubicBezTo>
                    <a:pt x="5763" y="1122"/>
                    <a:pt x="6247" y="1083"/>
                    <a:pt x="6525" y="11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8520" y="430488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240" y="474336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62240" y="4524120"/>
              <a:ext cx="5997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09960" y="4057200"/>
              <a:ext cx="771120" cy="36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45120" y="4981320"/>
              <a:ext cx="46656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21960" y="32004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8000" y="167652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ikm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B79-6F60-4F8B-A2D7-537FC9392A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Charakteristiky polo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stredné hodno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yjadrujú určitú úroveň (polohu) znaku, okolo ktorej sú ostatné hodnoty viac či menej koncentr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148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4057560"/>
            <a:ext cx="464832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605-5F8B-49CA-8A24-8D911865EA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íklady rozdelení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365120"/>
          <a:ext cx="8077320" cy="18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65120"/>
                    <a:ext cx="80773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299-B192-4C46-88FC-5B2E9A985A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afické zobrazen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85680" y="1521000"/>
          <a:ext cx="2765520" cy="20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21000"/>
                    <a:ext cx="27655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495680" y="1555920"/>
          <a:ext cx="2668680" cy="200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55920"/>
                    <a:ext cx="2668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38080" y="3733920"/>
          <a:ext cx="2822760" cy="211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22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572000" y="3728880"/>
          <a:ext cx="2481120" cy="186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28880"/>
                    <a:ext cx="2481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072-9DFC-4A1D-9C11-A9BB549D50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riemery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aritmet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geometr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harmon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ý môže byť jednoduchý alebo váže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statné stredné hodnot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mod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medi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BEE-C08A-474E-8C44-EA05FF1D1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harakteristiky poloh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last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ap Symbol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ypickou hodnotou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usia byť jednoznačne presne def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ýpočte sa do úvahy berú všetky jednotky šta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ľahko zistiteľ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li by slúžiť k porovnávaniu stredných hodnôt za niekoľko súb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čo najmenej podliehať náhodnostiam výbe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037-6AC4-4CC4-930A-174B293CB2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 predstavuje často rovnomernosť aleb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rmu, ktorá neexistuje. Keď v priemere každ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je hus, je možné, že niektorí zjedia dve, re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iac, iní žiad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61120" cy="35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3EF-239C-43D0-A68E-63891A02F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1. Priem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napr. priemerná mzda, priemerná denná teplota, atď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emerná mzda (jednoduchý aritm. priem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8 400 Sk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  6 5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9 6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10 0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1 2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2 7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9 200 Sk : 3 = 9 400 Sk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29 200 Sk : 3 = 9 4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4267080"/>
            <a:ext cx="5815800" cy="2209680"/>
            <a:chOff x="1828800" y="4267080"/>
            <a:chExt cx="5815800" cy="2209680"/>
          </a:xfrm>
        </p:grpSpPr>
        <p:sp>
          <p:nvSpPr>
            <p:cNvPr id="103" name=""/>
            <p:cNvSpPr/>
            <p:nvPr/>
          </p:nvSpPr>
          <p:spPr>
            <a:xfrm>
              <a:off x="3489480" y="4717800"/>
              <a:ext cx="1188360" cy="6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9 400 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prie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28800" y="5349240"/>
              <a:ext cx="5815800" cy="1127520"/>
              <a:chOff x="1828800" y="5349240"/>
              <a:chExt cx="5815800" cy="11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1828800" y="537696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6 5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46680" y="5349240"/>
                <a:ext cx="5497920" cy="1127520"/>
                <a:chOff x="2146680" y="5349240"/>
                <a:chExt cx="5497920" cy="1127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146680" y="5651640"/>
                  <a:ext cx="5303160" cy="825120"/>
                  <a:chOff x="2146680" y="5651640"/>
                  <a:chExt cx="5303160" cy="825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46680" y="5744880"/>
                    <a:ext cx="530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06656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17920" y="5836320"/>
                    <a:ext cx="1188360" cy="64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 4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priem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420640" y="5349240"/>
                  <a:ext cx="5223960" cy="485280"/>
                  <a:chOff x="2420640" y="5349240"/>
                  <a:chExt cx="5223960" cy="4852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42064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08372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0628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1228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 0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624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 7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2407680" y="4267080"/>
              <a:ext cx="3893040" cy="472320"/>
              <a:chOff x="2407680" y="4267080"/>
              <a:chExt cx="3893040" cy="47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3160440" y="4647960"/>
                <a:ext cx="26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74840" y="4554720"/>
                <a:ext cx="0" cy="182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43320" y="45547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2932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6628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36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11 2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94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9 6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76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8 4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4E1-ED46-4199-A6B1-DA68376942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 – počet pozorovan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.....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j=1,2,3,....n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1295280"/>
                <a:ext cx="307980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2971800"/>
                <a:ext cx="42674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5DA-645B-4362-AEA8-F0BDB932FF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4-02-23T07:23:34Z</cp:lastPrinted>
  <dcterms:modified xsi:type="dcterms:W3CDTF">2005-02-05T16:23:20Z</dcterms:modified>
  <cp:revision>86</cp:revision>
  <dc:subject/>
  <dc:title>PowerPoint Presentation</dc:title>
</cp:coreProperties>
</file>