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1B1-1E17-44AE-8D05-49DCD2A5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641-6511-4987-863A-62FE0297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043-B02A-4379-8587-A383D1D0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FB6-512B-42FF-BCF6-63EE6C85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8415-EB7D-4D0D-8F82-22583F16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2098-CA20-4B15-985C-811490D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88F-BA2C-4AB6-B912-6FF39DA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ECD-4242-42E8-9D32-F189F7F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77A-4439-4AEF-9704-5422382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0154-B214-4AE5-B9C6-C44C622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046-D9BB-40D9-ACA6-EF26D41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F6B-A4F8-48B6-950A-74AE560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CC97-F5C1-478D-9DC1-9FF8DA0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5DBC-796B-41C6-A7FB-1249123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9A7-743D-432A-8C8C-9C9E4C91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7CA-8693-47B4-BFC2-8FC0A65F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89D-F9EF-4596-B351-3F4BC9D7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733-2EE1-4330-8E3B-56EB0BB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711-C83C-4895-AF73-E7A22F8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D6C-FC1B-490F-83F7-EEE58D69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5C9-A346-4DF2-B08F-E82F1782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DB1-9852-4971-8646-D9880C5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09F-FF7D-4C18-8DDC-DEB36506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20F-B688-4BD9-82AC-0FDEDD10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1af91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6B47-FBF8-4D4E-A525-4B6ECCABE728}" type="slidenum"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8DBB-C8F7-499B-901D-10B97BC405E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743200" y="1981080"/>
          <a:ext cx="2779560" cy="27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981080"/>
                    <a:ext cx="27795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83076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321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14300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Štatistick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ndukc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2860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m pred seb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recko orechov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ahnem dovnút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iahnem orech, rozlúsknem ho a je prázdny. Čo z toho môžem usúdiť?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Optimist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vie: “No toto! Jediný zlý orech a práve ten si musím vytiahnuť ja. Nech, aspoň sme sa ho zbavili.”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Pesimista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vie: ”Toho som sa obával , vrecko je plné zlých orechov”. A čo povie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štatisti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 Najskôr prizná, že pravdu môže mať aj pesimista a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ista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Untitled-3" descr=""/>
          <p:cNvPicPr/>
          <p:nvPr/>
        </p:nvPicPr>
        <p:blipFill>
          <a:blip r:embed="rId5"/>
          <a:stretch/>
        </p:blipFill>
        <p:spPr>
          <a:xfrm>
            <a:off x="7391520" y="3808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A75-A54E-44FB-848E-CA41E64F8F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odový odhad parametra Q  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známy parameter Q odhadujeme jedným číslom, geometricky jedným bod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stimátor, skrátene est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apisujem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est Q  =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Najčastejšie odhadujeme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strednú hodnot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rozptyl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a smerodajnú odchýlk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A03-6D5E-4227-8059-C47C9825D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lastnosti bodového odhad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bodových odhadov požadujeme splnenie nasledovných vlastnost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skreslenosť (nevychýlenosť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konzist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ýdat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ufici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1320" y="3733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vé d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las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i vysvetlí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D92-A8E7-445E-93B2-1AD4267CA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Neskreslenosť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Q) = 0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 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= Q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každom konkrétnom prípade výberového skúmania sa dopúšťame chyby, avšak požadujeme aby stredná hodnota chýb bola rovná nule (t.j. aby sa  v priemere nulovali…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91320" y="2743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32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3600" y="1752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05720" y="18288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15000" y="27432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95880" y="11430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0" y="29718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943600" y="23623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86600" y="25146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48520" y="20574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12952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05720" y="2362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04920" y="4495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ymptoticky neskreslený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výberová charakteristika, pre ktorú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5120" y="54864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53080" y="25909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9E8-605F-476A-97EF-006ED7F24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Kon</a:t>
            </a: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istenc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65320" y="1219320"/>
                <a:ext cx="4984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Q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4880" y="2362320"/>
            <a:ext cx="614988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konzistencie je v zá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ých čísel. Konzistencia zabezpeč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štatistickej praxi pri veľkých výbero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veľkú chybu odhadu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ačujúcou podmienkou konzistencie 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ymptotická neskreslenosť odhad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 splnenie vzťah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0400" y="5105520"/>
                <a:ext cx="3429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184-4560-4951-BC4C-675C4594E5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ýdatnosť B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aždá výberová charakteristika je náhodná veličina, ktorej variabilitu meriame rozptylo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a výdatný bodový odhad považujeme tú charakteristiku (ak máme k dispozícii niekoľko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torá má najmenší rozpty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396252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1148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03E-D5CB-40CC-B571-766EEEE44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strednej hodnoty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5920" y="1219320"/>
                <a:ext cx="84470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 ,   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4290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     dáva neskreslený odhad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3505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06640" y="3962520"/>
                <a:ext cx="593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860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splnená postačujúca podmienka konzistencie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neskresleným a konzistentným odhadom strednej 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5943600"/>
                <a:ext cx="162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96080" y="2362320"/>
            <a:ext cx="101124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1952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21337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19520" y="2438280"/>
            <a:ext cx="54864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nazý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edná, resp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štandardná chyba priem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2286000" cy="1067040"/>
          </a:xfrm>
          <a:prstGeom prst="wedgeEllipseCallout">
            <a:avLst>
              <a:gd name="adj1" fmla="val 74236"/>
              <a:gd name="adj2" fmla="val -26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9588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001000" y="5181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023-BBA8-490C-A72C-9C2C575E82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rozptylu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36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,</a:t>
            </a:r>
            <a:r>
              <a:rPr b="1" lang="en-US" sz="36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resp.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6040" y="1371600"/>
                <a:ext cx="694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[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743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ie je neskreslený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poskytuje negatívne skreslený odh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eslenie predstavu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358128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5257800"/>
                <a:ext cx="52912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34340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je asympto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skresleným odhadom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D52-D9DC-40CD-A142-789F3BF8A7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76280"/>
            <a:ext cx="8282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skreslený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bodovým odhadom rozptylu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u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výberový rozptyl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160" y="1752480"/>
                <a:ext cx="5121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90720" y="1828800"/>
            <a:ext cx="838080" cy="129528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8800" y="2895480"/>
            <a:ext cx="45720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960" y="3276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sselova opr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37339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iel medzi s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s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tým menší, čím je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äčši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pr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siahlých výberový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och je zanedbateľ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 už pri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 &gt; 50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4133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956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ve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48120" y="4572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5105520"/>
                <a:ext cx="227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716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7DA-E3BF-44BC-A81F-CBEB1E5505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80880"/>
            <a:ext cx="802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U 400 náhodne vybraných domácností v určitom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óne SR boli zisťované výdavky na alkoholické nápoj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cigarety. Z týchto údajov bol zistený výberový 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973 Sk a výberová smerodajná odchýlka s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286 Sk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utočníme bodový odhad strednej hodnoty a smerodajn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ky výdavkov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560" y="15238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" y="2819520"/>
                <a:ext cx="3276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91120" y="2743200"/>
                <a:ext cx="3733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3581280"/>
                <a:ext cx="3429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66360" y="4994280"/>
            <a:ext cx="83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hadnutá stredná chyba priemeru je relatívne  malá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stavuje len 1.5% priemeru. 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Môžeme teda očakávať, že s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pri odhadoch priemernych výdavkov na alkoholick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nápoje a cigarety nedopúšťame veľkej chyb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777600" cy="23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9F6-4EC6-4D8A-AC82-0D367D0737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rovnanie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štatistického znaku  X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v základnom súbore a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výberového priemeru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2286000"/>
            <a:ext cx="6933960" cy="3709800"/>
            <a:chOff x="1371600" y="2286000"/>
            <a:chExt cx="6933960" cy="3709800"/>
          </a:xfrm>
        </p:grpSpPr>
        <p:sp>
          <p:nvSpPr>
            <p:cNvPr id="192" name=""/>
            <p:cNvSpPr/>
            <p:nvPr/>
          </p:nvSpPr>
          <p:spPr>
            <a:xfrm>
              <a:off x="3565800" y="3474360"/>
              <a:ext cx="4739760" cy="2496600"/>
            </a:xfrm>
            <a:custGeom>
              <a:avLst/>
              <a:gdLst/>
              <a:ahLst/>
              <a:rect l="l" t="t" r="r" b="b"/>
              <a:pathLst>
                <a:path w="2592" h="1496">
                  <a:moveTo>
                    <a:pt x="0" y="1448"/>
                  </a:moveTo>
                  <a:cubicBezTo>
                    <a:pt x="220" y="1256"/>
                    <a:pt x="440" y="1064"/>
                    <a:pt x="624" y="824"/>
                  </a:cubicBezTo>
                  <a:cubicBezTo>
                    <a:pt x="808" y="584"/>
                    <a:pt x="920" y="0"/>
                    <a:pt x="1104" y="8"/>
                  </a:cubicBezTo>
                  <a:cubicBezTo>
                    <a:pt x="1288" y="16"/>
                    <a:pt x="1480" y="624"/>
                    <a:pt x="1728" y="872"/>
                  </a:cubicBezTo>
                  <a:cubicBezTo>
                    <a:pt x="1976" y="1120"/>
                    <a:pt x="2440" y="1384"/>
                    <a:pt x="2592" y="149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9280" y="5730480"/>
              <a:ext cx="613800" cy="1065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cubicBezTo>
                    <a:pt x="148" y="32"/>
                    <a:pt x="296" y="64"/>
                    <a:pt x="336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371600" y="2286000"/>
            <a:ext cx="6495120" cy="3709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286000"/>
                      <a:ext cx="6495120" cy="37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2424600" y="5169600"/>
              <a:ext cx="50907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70160" y="2606400"/>
                  <a:ext cx="13165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709720" y="4034880"/>
                  <a:ext cx="1272600" cy="63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H="1">
              <a:off x="4706640" y="2846880"/>
              <a:ext cx="87840" cy="224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2680" y="2846880"/>
              <a:ext cx="0" cy="2322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800" y="5249880"/>
              <a:ext cx="5263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4800" y="5490360"/>
              <a:ext cx="16675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9320" y="541008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179960" y="4128120"/>
                  <a:ext cx="70236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209320" y="16765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A80-6732-4661-BBF8-D34EB847B9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8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chceme ved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ť ako chutí víno, ulož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v hektolitrovom sude, nemusíme vypiť celý sud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tačí malý dúšok k posúdeniu jeho kvalit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057400"/>
            <a:ext cx="88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však chceme zistiť, či náklad orechov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nákladnom aute je z veľkej časti pokazený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čí keď vyberieme pár orechov z rôznych mies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ákladu a rozlúskeneme ich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však tomu je, ak majú byť opytovaní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stovaní a zaraďovaní ľudia, alebo domácnosti? Nedelia sa predsa len na “dobrých” a “zlých” ako orech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948-C8C5-48D2-B8AB-F8FCC9B43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parametra Q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8001000" cy="495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8001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847800" y="1447920"/>
            <a:ext cx="7294320" cy="4604400"/>
            <a:chOff x="847800" y="1447920"/>
            <a:chExt cx="7294320" cy="4604400"/>
          </a:xfrm>
        </p:grpSpPr>
        <p:sp>
          <p:nvSpPr>
            <p:cNvPr id="210" name=""/>
            <p:cNvSpPr/>
            <p:nvPr/>
          </p:nvSpPr>
          <p:spPr>
            <a:xfrm>
              <a:off x="206856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3600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510552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029200"/>
              <a:ext cx="0" cy="458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2640" y="3543480"/>
              <a:ext cx="2822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1 -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poľahlivosť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5920" y="25891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2360" y="39654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200" y="4041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0200" y="4572000"/>
              <a:ext cx="552600" cy="839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30920" y="4651200"/>
              <a:ext cx="470160" cy="7639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1447920"/>
              <a:ext cx="4941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Q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 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 = 1-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5040" y="2440080"/>
              <a:ext cx="219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rizik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7800" y="2363760"/>
              <a:ext cx="2711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,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 dolná</a:t>
              </a:r>
              <a:r>
                <a:rPr b="0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a horná hranic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intervalu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52680" y="2438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(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FB4-A670-456B-AEC5-414DE29BF0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strednej hodnoty 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743120"/>
            <a:ext cx="9070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dpokladajme, že štatistický znak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základnom súbo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…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ak vytvoríme výberový súbor o rozsahu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n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tom aj       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valy spoľahlivosti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rčujeme rôzn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poznáme rozptyl základného súbor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teoretické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východisko), vytvoríme normovanú premennú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4800600"/>
                <a:ext cx="1904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43760" y="4819680"/>
            <a:ext cx="35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rozdelenie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ávislé od stredn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91120" y="5257440"/>
            <a:ext cx="914400" cy="1522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 rot="10800000">
                <a:off x="1676520" y="2590560"/>
                <a:ext cx="455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F09-B90C-4B02-9230-FA3C0D7B28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38360" y="0"/>
                <a:ext cx="7819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990720" y="25909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5880" y="5964120"/>
                <a:ext cx="101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6680" y="42022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8954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60" y="29718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AA4-7F2D-4038-B182-0D9BBA41D9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2120" y="1066680"/>
                <a:ext cx="8381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08040" y="704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6640" y="5335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úprav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066680"/>
            <a:ext cx="1676160" cy="1600200"/>
          </a:xfrm>
          <a:prstGeom prst="wedgeEllipseCallout">
            <a:avLst>
              <a:gd name="adj1" fmla="val 44981"/>
              <a:gd name="adj2" fmla="val 58629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819520"/>
            <a:ext cx="396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pustná chyba odhad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86200"/>
            <a:ext cx="541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polovicou šírky interval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uje presnosť odhad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rvalový odhad je vlast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dový odhad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8280" y="5715000"/>
                <a:ext cx="137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10080" y="4648320"/>
            <a:ext cx="342900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5720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43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57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9E0-AD8E-48C7-BAE5-DC25F09F6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380880"/>
            <a:ext cx="7223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62120" y="1752480"/>
                <a:ext cx="3124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" y="3429000"/>
            <a:ext cx="8001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</a:t>
            </a:r>
            <a:r>
              <a:rPr b="0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5800" y="4648320"/>
                <a:ext cx="41371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86400" y="4952880"/>
            <a:ext cx="2895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(n-1)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9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D8E-4164-499C-8E2D-07147752A0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7136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odový odhad výdavkov domácností regiónu 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kohol a cigarety doplníme o 95 %-ný interval spoľahliv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066680"/>
                <a:ext cx="23619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10920" y="3429000"/>
            <a:ext cx="805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1.96 * 14.3 = 28.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973 - 28.03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973 + 28.03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.j    944.97 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 1 001.03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%-nou spoľahlivosťou odhadujeme priemerné výdavk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intervale od 945 Sk po 1001 Sk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=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240" y="990720"/>
                <a:ext cx="2057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479840" y="2000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1600200"/>
                <a:ext cx="3557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64000" y="2590920"/>
                <a:ext cx="4327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13360" y="354636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Excel... NORMSINV(0.97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968-A4EA-482E-BC9F-E97404DAF2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422280"/>
            <a:ext cx="8820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ol uskutočnený prieskum na zistenie k akej strat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a hmotnosti mrkvy dochádza po týždennom skladovaní v sklad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alyzovaných bolo 20 vzoriek o hmotnosti 1kg na začiatk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ladnenia a zistené straty na hmotnosti. Zo vzoriek bo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istená priemerná strata hmotnosti 49g a výber. smerodajná odchýlka 4g. Predpokladáme, že straty na hmotnosti majú normálne rozdel.Uskutočníte odhad priemernej stra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motnosti s 95% spoľahlivosťou. Preto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že n&lt;30, použijeme</a:t>
            </a:r>
            <a:r>
              <a:rPr b="0" lang="sk-SK" sz="2400" spc="-1" strike="noStrike">
                <a:solidFill>
                  <a:srgbClr val="333333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3581280"/>
                <a:ext cx="322272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 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038480" y="3657600"/>
            <a:ext cx="41148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33"/>
                </a:solidFill>
                <a:latin typeface="Times New Roman"/>
              </a:rPr>
              <a:t>(n-1)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ozdelenia, t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0.05(19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2.0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NV(0.05;19) - Exc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765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 % spoľahlivosťou odhaduje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rednú stratu hmotnosti kilov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zorky mrkvy v interva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 47.1g po 50.9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66040" y="24382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1B5-D1CD-4E91-8E67-C8D8BA0448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Od čoho závisí veľkosť prípustnej chyby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?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0964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" y="1077840"/>
            <a:ext cx="74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zvolenej spoľahlivosti odhadu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(1-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ednej - štandardnej chyby priemeru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torá je ovplyvnená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7360" y="4286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6120" y="2714760"/>
            <a:ext cx="685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ou znaku - nemôžeme ju ovplyvniť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osťou výberového súboru, ktor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plyvniť môžme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4495680"/>
                <a:ext cx="30481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43040" y="4257720"/>
            <a:ext cx="49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rebný rozsa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 vopred zvolenej spoľahliv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ožadovanej presnos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určiť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190512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81F-A0A8-47B8-A896-E207D6BFE1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 spoľahlivosti pre rozptyl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40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676520" y="2133720"/>
                <a:ext cx="6661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724280" y="838080"/>
                <a:ext cx="26672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9600" y="12096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voríme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8120" y="2971800"/>
            <a:ext cx="6792480" cy="3580920"/>
            <a:chOff x="618120" y="2971800"/>
            <a:chExt cx="6792480" cy="3580920"/>
          </a:xfrm>
        </p:grpSpPr>
        <p:sp>
          <p:nvSpPr>
            <p:cNvPr id="287" name=""/>
            <p:cNvSpPr/>
            <p:nvPr/>
          </p:nvSpPr>
          <p:spPr>
            <a:xfrm>
              <a:off x="1604880" y="2971800"/>
              <a:ext cx="0" cy="306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964120"/>
              <a:ext cx="58676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4648320"/>
              <a:ext cx="0" cy="1346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5410080"/>
              <a:ext cx="0" cy="5986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2120" y="44784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960" y="41148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56760" y="4179960"/>
              <a:ext cx="9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3120" y="5964120"/>
              <a:ext cx="16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-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6760" y="5964120"/>
              <a:ext cx="117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20" y="29718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f(</a:t>
              </a:r>
              <a:r>
                <a:rPr b="0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0" lang="en-US" sz="32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 rot="10800000">
                  <a:off x="6705720" y="5943240"/>
                  <a:ext cx="70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981080" y="3352680"/>
              <a:ext cx="4800600" cy="2590920"/>
            </a:xfrm>
            <a:custGeom>
              <a:avLst/>
              <a:gdLst/>
              <a:ahLst/>
              <a:rect l="l" t="t" r="r" b="b"/>
              <a:pathLst>
                <a:path w="3360" h="1712">
                  <a:moveTo>
                    <a:pt x="0" y="1664"/>
                  </a:moveTo>
                  <a:cubicBezTo>
                    <a:pt x="284" y="912"/>
                    <a:pt x="568" y="160"/>
                    <a:pt x="960" y="80"/>
                  </a:cubicBezTo>
                  <a:cubicBezTo>
                    <a:pt x="1352" y="0"/>
                    <a:pt x="1952" y="912"/>
                    <a:pt x="2352" y="1184"/>
                  </a:cubicBezTo>
                  <a:cubicBezTo>
                    <a:pt x="2752" y="1456"/>
                    <a:pt x="3184" y="1616"/>
                    <a:pt x="3360" y="1712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4724280"/>
              <a:ext cx="380880" cy="914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67280" y="5105520"/>
              <a:ext cx="4572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622840" y="3114720"/>
            <a:ext cx="32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vantily CH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Í-kvadr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047760" y="2971800"/>
            <a:ext cx="25146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62360" y="2895480"/>
            <a:ext cx="7596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688-333C-45B4-98E5-F750A171C0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odvodení dostáva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3520" y="1371600"/>
                <a:ext cx="8367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9280" y="4259160"/>
                <a:ext cx="8507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533520" y="3200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lebo interval pre smerodajnú odchýl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5A0-4EF7-4D62-A782-F162575A44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ýberové skúmanie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Untitled-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52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1066680"/>
            <a:ext cx="3733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ieľo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úmania je pomocou výberového súboru odhadnúť vlastnosti základného súboru.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ýberový súbor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by mal byť </a:t>
            </a: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reprezentatívno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vzorko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boru. Na obrázku tomu tak nie j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80A-BB16-4E68-BD90-027CA5963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Otázky na zamysl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čom sa odlišuje bodový a intervalový odhad parametrov základného súbor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ovplyvňuje zvolená spoľahlivosť presnosť odhad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možno zaistiť intervalový odhad strednej hodnoty s vopred zvolenou spľahlivosťou a s vopred stanovenou presnosťo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7560" y="838080"/>
            <a:ext cx="1077840" cy="3276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124080" y="5029200"/>
            <a:ext cx="22100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5F3-A220-4095-801F-6173D266D7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ríklady výberového skúmani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Štatistika rodinných účtov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rketingový prieskum spotrebiteľských zvyklostí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ýberové skúmanie u podnikov vybraného sektora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eskum verejnej mienk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ontrola kv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3D5-189B-42B4-B3D0-7E2BCC9B6F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dstata výberového skúmania a základné 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828800"/>
            <a:ext cx="3886200" cy="350532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438280"/>
            <a:ext cx="1752480" cy="152424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ýber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1523880"/>
            <a:ext cx="5121000" cy="51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značeni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rametre základn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 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rakteristiky výberov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...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491508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438280" y="5029200"/>
            <a:ext cx="1219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3429000"/>
            <a:ext cx="274320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6120" y="3962520"/>
            <a:ext cx="23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áklad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 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920" y="2362320"/>
            <a:ext cx="17524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CD0-E1F3-4150-B3DA-DD0C53C502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Základné úloh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a odhadu (T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náme parametre základného súboru odhadujeme pomocou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stovanie štatistických hypotéz (T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slovujeme predpoklady o neznámych parametroch základného súboru, ktoré formulujeme ako štatistické hypotézy a ich platnosť overujeme štatistickými postup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Štatistická indukcia (Š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84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EB1-7DF0-424C-A2D4-7C6A0659F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Sprievodné úlohy Š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ovanie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sah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ho súbor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enie spôsobu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h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u jednotie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ďže výberové charakteristiky sú z hľadiska základného súboru NV,  je potrebné zvoliť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rávny model rozdeleni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480-47C2-4383-A8F3-B531CC7E9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ruhy výberu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kritérií pre výber jednotiek rozlišujeme vý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mer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743200"/>
            <a:ext cx="798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opakovateľnosti jednotiek vo výber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s opakovaní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bez 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19680"/>
            <a:ext cx="1235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76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dľa členenia základného súboru pri výb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oduchý vý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ložený, ktorý môže byť 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upinov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lastný (stratifikovaný) a i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993-9205-48FB-A598-C1C3D74F68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ória štatistického odhadu (TO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0920" y="31237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valový odha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1430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dstatou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e odhadu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je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nezná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parametr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základného súboru odhadova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mocou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výberových charakteristí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4880" y="3124080"/>
            <a:ext cx="21254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65B-6AAF-4056-A470-67C6B4DC14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02:27Z</dcterms:created>
  <dc:creator>FVS</dc:creator>
  <dc:description/>
  <dc:language>en-US</dc:language>
  <cp:lastModifiedBy>FVS</cp:lastModifiedBy>
  <cp:lastPrinted>2001-03-03T16:48:30Z</cp:lastPrinted>
  <dcterms:modified xsi:type="dcterms:W3CDTF">2004-03-09T09:55:56Z</dcterms:modified>
  <cp:revision>98</cp:revision>
  <dc:subject/>
  <dc:title>No Slide Title</dc:title>
</cp:coreProperties>
</file>