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C536-3A44-4B89-9F1E-27E4A74B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21C9-6113-47D1-88CB-80C79FA2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6997-2A01-4FF0-99DF-E6D124AE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18C-FC77-4F9A-AAAC-6A914A52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2786-DF50-42C7-97B0-11CB301B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8D2F-9965-4379-9948-3DFB71EB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2CC5-B4A0-4416-BCB8-7685ED7D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2E10-5A0B-4DA0-BB99-37EFB803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DBE9-6C9D-4F4C-92CF-47B6B42D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CCCB-F22C-4582-9D4D-5CFAF899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0981-DD7F-4631-BE78-378B85AD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9883-4976-45E4-AB76-0AF6C549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039D-FAFD-484D-A669-3B686AC4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B1FB-0ADE-47B1-BE0A-AA26FAA6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BCAD-2EE3-4076-9ACA-EB5E0470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A267-D498-4F15-BFB3-1A00AC79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975B-9ECE-42BD-8D32-EC7A9098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4D3B-5EB0-4DF6-AEDF-C474D03A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D705-F673-4224-94C3-A99EE5CC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A322-60EB-494C-BF19-10B6B537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79B4-253D-48CC-9D8F-8D81F11D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3588-66F3-430B-83E6-B9F89750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BDB6-FD8E-437A-983F-F2148937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575-E007-4A72-88A0-A4DDE025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2F21-68B5-4581-AA2E-E7DB7222ADC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8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3427-39D6-4290-8434-696EF117741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3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4c2b"/>
                </a:solidFill>
                <a:latin typeface="Times New Roman"/>
              </a:rPr>
              <a:t>Prednášky zo štatistiky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4038840" cy="317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F568-BD6E-4C51-95D0-AB98FD50D86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4c2b"/>
                </a:solidFill>
                <a:latin typeface="Times New Roman"/>
              </a:rPr>
              <a:t>Základný súbor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ahoma"/>
              </a:rPr>
              <a:t>Súbor všetkých štatist. jednotiek, ktoré z hľadiska vecného, časového a priestorového vymedzenia do súboru patria</a:t>
            </a:r>
            <a:r>
              <a:rPr b="0" lang="sk-SK" sz="3200" spc="-1" strike="noStrike">
                <a:solidFill>
                  <a:srgbClr val="33333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1240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4c2b"/>
                </a:solidFill>
                <a:latin typeface="Times New Roman"/>
              </a:rPr>
              <a:t>Výberový súbo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3962520"/>
            <a:ext cx="78483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ahoma"/>
              </a:rPr>
              <a:t>Vybraná časť jednotiek zo základného súboru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ahoma"/>
              </a:rPr>
              <a:t>predstavuje reprezentatívnu vzorku základného súboru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39C2-5443-4D33-8116-0CF1AF235CA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4c2b"/>
                </a:solidFill>
                <a:latin typeface="Times New Roman"/>
              </a:rPr>
              <a:t>Štatistické znaky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sú vlastnosti štatististických jednotie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Môžeme ich rozdeľovať z rôznych hľadísk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Times New Roman"/>
              </a:rPr>
              <a:t>a)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podľa toho, či sa nachádzajú na všetkých štat. jednotkách daného súboru ich delíme n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spoločné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vymedzujú štatist. súbo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variabilné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sú predmetom štat. skúma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B5ED-1DDB-409A-97AF-8F244AB99E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800000"/>
                </a:solidFill>
                <a:latin typeface="Times New Roman"/>
              </a:rPr>
              <a:t>b)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podľa toho, ako charakterizujú vlastnosti štat. jednotiek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nepriame,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zistiteľné len nepriamo, napr. meranie kvality výrobk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priame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- priamo merateľné, napr. príje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800000"/>
                </a:solidFill>
                <a:latin typeface="Times New Roman"/>
              </a:rPr>
              <a:t>c)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podľa charakteru n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vecn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- časov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- priestorov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3DB1-C4B1-4638-9246-C2C90A392C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Times New Roman"/>
              </a:rPr>
              <a:t>d)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vecné štat. znaky delíme podľa ich charakteru n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kvantitatívne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merateľné, môžu byť: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spojité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- nadobúdajú ľubovoľné hodnoty z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ohraničeného alebo neohraničeného intervalu,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napr. mesačný príjem, výdavky n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potraviny, výška žien a pod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diskrétne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- nadobúdajú izolované, väčšinou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celočíselné hodnoty, napr. vek, počet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nezaopatrených detí, počet rokov praxe v odbore.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238880" y="2362320"/>
          <a:ext cx="685800" cy="21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2362320"/>
                    <a:ext cx="68580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6629400" y="2819520"/>
          <a:ext cx="47772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2819520"/>
                    <a:ext cx="4777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8077320" y="1905120"/>
          <a:ext cx="838080" cy="2590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077320" y="1905120"/>
                    <a:ext cx="83808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4756-6D60-4195-9546-0480F1CB2B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kvalitatívne znaky,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slovné, môžu byť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dichotomické-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alternatívn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napr. pohlavi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polynomické -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multinomické, množné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napr. vzdelanie, alebo…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391520" y="914400"/>
          <a:ext cx="1143000" cy="25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914400"/>
                    <a:ext cx="1143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172200" y="1219320"/>
          <a:ext cx="698400" cy="243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72200" y="1219320"/>
                    <a:ext cx="6984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6705720" y="4267080"/>
            <a:ext cx="1828800" cy="973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4038480" y="4267080"/>
            <a:ext cx="2590920" cy="1359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762120" y="4419720"/>
            <a:ext cx="2438280" cy="85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B4A1-4FA5-4CB1-BBCB-3F4D3BF2E5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20720" y="762120"/>
            <a:ext cx="4078440" cy="261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33"/>
                </a:solidFill>
                <a:latin typeface="Times New Roman"/>
              </a:rPr>
              <a:t>Rozdelenie štatistických znakov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68640" y="2809800"/>
            <a:ext cx="3009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33680" y="1119240"/>
            <a:ext cx="253368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ŠTATISTICKÉ</a:t>
            </a:r>
            <a:r>
              <a:rPr b="1" lang="cs-CZ" sz="1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ZNAK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85800" y="2165400"/>
            <a:ext cx="2487600" cy="261720"/>
            <a:chOff x="685800" y="2165400"/>
            <a:chExt cx="2487600" cy="261720"/>
          </a:xfrm>
        </p:grpSpPr>
        <p:sp>
          <p:nvSpPr>
            <p:cNvPr id="130" name=""/>
            <p:cNvSpPr/>
            <p:nvPr/>
          </p:nvSpPr>
          <p:spPr>
            <a:xfrm>
              <a:off x="685800" y="2165400"/>
              <a:ext cx="1047960" cy="26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7111" dir="202140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40404"/>
                  </a:solidFill>
                  <a:latin typeface="Times New Roman"/>
                </a:rPr>
                <a:t>SPOLOČNÉ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94760" y="2165400"/>
              <a:ext cx="1178640" cy="26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7111" dir="202140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40404"/>
                  </a:solidFill>
                  <a:latin typeface="Times New Roman"/>
                </a:rPr>
                <a:t>VARIABILNÉ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6051600" y="2165400"/>
            <a:ext cx="78588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PRIAM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59480" y="2165400"/>
            <a:ext cx="104796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NEPRIAM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47800" y="3083040"/>
            <a:ext cx="91764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ČASOVÉ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97480" y="3081240"/>
            <a:ext cx="138420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PRIESTOROVÉ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87800" y="3083040"/>
            <a:ext cx="78588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33"/>
                </a:solidFill>
                <a:latin typeface="Times New Roman"/>
              </a:rPr>
              <a:t>VECNÉ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55760" y="4127400"/>
            <a:ext cx="144000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KVALITATÍVN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65720" y="4129200"/>
            <a:ext cx="170172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KVANTITATÍVN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85920" y="5043600"/>
            <a:ext cx="149364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ALTERNATÍVN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03720" y="5043600"/>
            <a:ext cx="91584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MNOŽNÉ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41920" y="5043600"/>
            <a:ext cx="91764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SPOJITÉ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73960" y="5043600"/>
            <a:ext cx="117936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DISKRÉTN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63720" y="1773360"/>
            <a:ext cx="536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09600" y="1903320"/>
            <a:ext cx="1440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43640" y="1903320"/>
            <a:ext cx="1440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647440" y="1903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424200" y="1903320"/>
            <a:ext cx="1800" cy="26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51600" y="2819520"/>
            <a:ext cx="1440" cy="250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038040" y="3865680"/>
            <a:ext cx="3240" cy="25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51600" y="3865680"/>
            <a:ext cx="1440" cy="25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89000" y="4781520"/>
            <a:ext cx="648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692160" y="4781520"/>
            <a:ext cx="3240" cy="2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1640" y="3865680"/>
            <a:ext cx="3009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94040" y="4781520"/>
            <a:ext cx="1701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35400" y="4781520"/>
            <a:ext cx="1963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928960" y="4419720"/>
            <a:ext cx="1440" cy="344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51600" y="4459320"/>
            <a:ext cx="144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52560" y="1776240"/>
            <a:ext cx="14400" cy="1224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2206"/>
                </a:moveTo>
                <a:lnTo>
                  <a:pt x="0" y="0"/>
                </a:lnTo>
                <a:lnTo>
                  <a:pt x="0" y="15441"/>
                </a:lnTo>
                <a:lnTo>
                  <a:pt x="18750" y="15441"/>
                </a:lnTo>
                <a:lnTo>
                  <a:pt x="18750" y="19853"/>
                </a:lnTo>
                <a:lnTo>
                  <a:pt x="0" y="2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52560" y="1776240"/>
            <a:ext cx="1800" cy="12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15120" y="1771560"/>
            <a:ext cx="4680" cy="136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89560" y="1405080"/>
            <a:ext cx="1440" cy="245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84480" y="280980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70680" y="1917720"/>
            <a:ext cx="3240" cy="24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7520" y="1901880"/>
            <a:ext cx="3240" cy="26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37200" y="4781520"/>
            <a:ext cx="6480" cy="2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7073640" y="4781520"/>
            <a:ext cx="3240" cy="2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3048120"/>
            <a:ext cx="8384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VECNÉ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D1AF-EE01-4F58-8BCF-6F29EBF8DE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4c2b"/>
                </a:solidFill>
                <a:latin typeface="Times New Roman"/>
              </a:rPr>
              <a:t>1.3. Etapy štat. skúmania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Štat. skúmanie sa skladá z troch etáp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867040" y="2657520"/>
            <a:ext cx="3000240" cy="3362400"/>
            <a:chOff x="2867040" y="2657520"/>
            <a:chExt cx="3000240" cy="3362400"/>
          </a:xfrm>
        </p:grpSpPr>
        <p:sp>
          <p:nvSpPr>
            <p:cNvPr id="171" name=""/>
            <p:cNvSpPr/>
            <p:nvPr/>
          </p:nvSpPr>
          <p:spPr>
            <a:xfrm>
              <a:off x="3252240" y="5409000"/>
              <a:ext cx="2333880" cy="61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7111" dir="202140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33"/>
                  </a:solidFill>
                  <a:latin typeface="Times New Roman"/>
                </a:rPr>
                <a:t>štatistický rozbor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17320" y="4095360"/>
              <a:ext cx="2333880" cy="55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7111" dir="202140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33"/>
                  </a:solidFill>
                  <a:latin typeface="Times New Roman"/>
                </a:rPr>
                <a:t>spracovani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67040" y="2657520"/>
              <a:ext cx="3000240" cy="58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7111" dir="202140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33"/>
                  </a:solidFill>
                  <a:latin typeface="Times New Roman"/>
                </a:rPr>
                <a:t>štatistické zisťovani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33440" y="4713480"/>
              <a:ext cx="556560" cy="67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333333"/>
                  </a:solidFill>
                  <a:latin typeface="Wingdings"/>
                  <a:ea typeface="Wingdings"/>
                </a:rPr>
                <a:t>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15800" y="3326040"/>
              <a:ext cx="556560" cy="67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333333"/>
                  </a:solidFill>
                  <a:latin typeface="Wingdings"/>
                  <a:ea typeface="Wingdings"/>
                </a:rPr>
                <a:t>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B5FF-F982-42E0-8C94-D9F6365DBF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4572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Formy štat. zisťovania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: výkazníctv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súpis – cenzu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anketa i in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Štat. zisťovanie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: z hľadiska počtu jednotiek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vyčerpávajúce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ak zisťujeme informácie o jednotkách celého základného súbor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výberové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ak zisťujeme informácie len o výberovom súbore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95CF-7FC7-418C-A747-6CB3B89DAB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Podľa dĺžky resp.  periodicity časového intervalu štatistického zisťovania poznám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štatistické zisťovani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jednorázov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bežné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periodické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pravidelne sa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opakujú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                 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nepravidelné -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opakujúce sa v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nepravidelných intervaloc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A138-DD57-47D7-B578-F4A028FA4D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4c2b"/>
                </a:solidFill>
                <a:latin typeface="Times New Roman"/>
              </a:rPr>
              <a:t>Štatistické triedenie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Prvá fáza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spracovania štatististických údajov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usporiadanie jednotiek štatistického súboru do skupín (tried) podľa určitého štat. znaku alebo znakov, vymezenie typiských skupín..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štatist. znak, ktorý je kritério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pri triedení nazývam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800000"/>
                </a:solidFill>
                <a:latin typeface="Times New Roman"/>
              </a:rPr>
              <a:t>triediacim znakom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400800" y="4094280"/>
            <a:ext cx="2209680" cy="211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FAE1-F459-44F7-A685-84B64FA4E1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sk-SK" sz="4000" spc="-1" strike="noStrike">
                <a:solidFill>
                  <a:srgbClr val="800000"/>
                </a:solidFill>
                <a:latin typeface="Times New Roman"/>
              </a:rPr>
              <a:t>Štatistika</a:t>
            </a:r>
            <a:r>
              <a:rPr b="0" lang="sk-SK" sz="4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004c2b"/>
                </a:solidFill>
                <a:latin typeface="Times New Roman"/>
              </a:rPr>
              <a:t>ako vedná disciplína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33"/>
                </a:solidFill>
                <a:latin typeface="Times New Roman"/>
              </a:rPr>
              <a:t>Definuj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eme ju ako vedu o </a:t>
            </a:r>
            <a:r>
              <a:rPr b="1" lang="sk-SK" sz="3200" spc="-1" strike="noStrike">
                <a:solidFill>
                  <a:srgbClr val="800000"/>
                </a:solidFill>
                <a:latin typeface="Times New Roman"/>
              </a:rPr>
              <a:t>metóda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800000"/>
                </a:solidFill>
                <a:latin typeface="Times New Roman"/>
              </a:rPr>
              <a:t>kvantitatívneho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hodnotenia </a:t>
            </a:r>
            <a:r>
              <a:rPr b="1" lang="sk-SK" sz="3200" spc="-1" strike="noStrike">
                <a:solidFill>
                  <a:srgbClr val="800000"/>
                </a:solidFill>
                <a:latin typeface="Times New Roman"/>
              </a:rPr>
              <a:t>vlastností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hromadných javov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3 významy pojmu „štatistika“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praktická činnosť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štatistické údaj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0000"/>
                </a:solidFill>
                <a:latin typeface="Times New Roman"/>
              </a:rPr>
              <a:t>vedná disciplín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CE4A-8D7A-40D4-AD68-5A8867F8102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9072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Základné kritériá pri triedení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zásada úplnosti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triedy musia byť vytvorené tak, aby každá jednotka mala šancu byť do niektorej z tried zatriedená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zásada jednoznačnosti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triedy musia byť vytvorené tak, aby o každej jednotke bolo jednoznačne rozhodnuté do ktorej z tried má byť zaradená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39DC-486D-4C8C-A02B-347A716E09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Klasifikácia triedenia podľa druh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triediaceho znaku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z hľadiska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časového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vytvorenie časových radov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z hľadiska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vecnéh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o   - </a:t>
            </a:r>
            <a:r>
              <a:rPr b="1" i="1" lang="sk-SK" sz="3200" spc="-1" strike="noStrike">
                <a:solidFill>
                  <a:srgbClr val="333333"/>
                </a:solidFill>
                <a:latin typeface="Times New Roman"/>
              </a:rPr>
              <a:t>kvalitatív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i="1" lang="sk-SK" sz="3200" spc="-1" strike="noStrike">
                <a:solidFill>
                  <a:srgbClr val="333333"/>
                </a:solidFill>
                <a:latin typeface="Times New Roman"/>
              </a:rPr>
              <a:t>kvantitatív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z hľadiska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priestorového -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priestorové zoskupenie jednotiek, napr. regionálne zatriedenie podnikov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934320" y="2209680"/>
            <a:ext cx="1904760" cy="221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AB49-001B-41EA-80BC-26A305870B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Rozdelenie podľa počtu triediaci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znakov:- jednostupňov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viacstupňov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Triedenie podľa hĺbky: - typologick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prehĺben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analytick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36B3-3107-4C07-86E2-CA666A33F0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4c2b"/>
                </a:solidFill>
                <a:latin typeface="Times New Roman"/>
              </a:rPr>
              <a:t>Triedenie podľa kvalitatívnych. znakov </a:t>
            </a:r>
            <a:r>
              <a:rPr b="0" lang="sk-SK" sz="4000" spc="-1" strike="noStrike">
                <a:solidFill>
                  <a:srgbClr val="004c2b"/>
                </a:solidFill>
                <a:latin typeface="Times New Roman"/>
              </a:rPr>
              <a:t>(asociačné triedenie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Označenie kvalitatívnych znakov - A, B, C, ..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Varianty,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obmeny  znakov označujeme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napr. dichotomické -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a, </a:t>
            </a:r>
            <a:r>
              <a:rPr b="1" lang="sk-SK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alebo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1" lang="sk-SK" sz="32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 , a</a:t>
            </a:r>
            <a:r>
              <a:rPr b="1" lang="sk-SK" sz="32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polynomické –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1" lang="sk-SK" sz="32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, a</a:t>
            </a:r>
            <a:r>
              <a:rPr b="1" lang="sk-SK" sz="32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, a</a:t>
            </a:r>
            <a:r>
              <a:rPr b="1" lang="sk-SK" sz="3200" spc="-1" strike="noStrike" baseline="-25000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...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trieda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– určitá skupina štat. jednotiek, ktorá má rovnakú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obmenu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(variant) alebo kombináciu obmien štat. znak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04920" y="4038480"/>
          <a:ext cx="698400" cy="24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038480"/>
                    <a:ext cx="69840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8001000" y="3962520"/>
          <a:ext cx="1143000" cy="2590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01000" y="3962520"/>
                    <a:ext cx="114300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D13B-DD34-41B8-B531-94C006F5D8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90720" y="380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íklad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máme 81 pracovníkov a evidujeme u nich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- pohlavie, B - vzdelanie, C - funkci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každý znak má len dve obmen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-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 mu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ži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b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- VŠ       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vo funkci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- ženy          b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ez VŠ          c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ez funkcie</a:t>
            </a:r>
            <a:r>
              <a:rPr b="0" lang="cs-CZ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Označenie triedy – triednym symbol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a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= 38       (b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= 17      (c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= 14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a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= 43       (b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= 64      (c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=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riedny symbol                   triedna početnosť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4800600"/>
            <a:ext cx="152640" cy="380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4648320"/>
            <a:ext cx="1143000" cy="533160"/>
          </a:xfrm>
          <a:prstGeom prst="line">
            <a:avLst/>
          </a:prstGeom>
          <a:ln w="38160">
            <a:solidFill>
              <a:srgbClr val="3333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2B32-FA8A-4A4E-9565-12A11311E4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99072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Podvojné triedeni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kombinovanie 2 triediacich znakov súčasne, výsledkom sú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asociačné tabuľky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rozmer 2 x 2),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oba triediace znaky sú alternatívne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kontigenčné tabuľky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aspoň jeden zo znakov má viac ako 2 varianty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BF6B-F49C-4A64-B323-E795867B23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sociačná tabuľka 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výsledok triedenia podľa pohlavia (A) a funkcie (C)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523880" y="2590920"/>
          <a:ext cx="6242040" cy="1828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2590920"/>
                    <a:ext cx="62420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371600" y="2362320"/>
          <a:ext cx="6242040" cy="3504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71600" y="2362320"/>
                    <a:ext cx="624204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57200" y="1981080"/>
          <a:ext cx="8191440" cy="44769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1981080"/>
                    <a:ext cx="8191440" cy="44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1210-B002-4802-A2F1-19678F935C0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Zamyslenie nad výsledkom </a:t>
            </a:r>
            <a:br>
              <a:rPr sz="3600"/>
            </a:b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asociačnej tabuľky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ožno konštatovať, že približ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vnomerne sú vo funkciách zastúpení muži aj ženy A/N ?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k áno, tak prečo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k nie, čo sa Vám žiada prepočítať…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k ste prepočítali niečo naviac, napr. percentá, tak aká je teraz vaša odpoveď.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a niečo ste zrejme zabudli !!!!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sociačná tabuľka umožňuje analyzovať súvislosti medzi znakm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209680" cy="2170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5257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cc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AFEA-CF5B-41AF-9742-B8D7729CE67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4c2b"/>
                </a:solidFill>
                <a:latin typeface="Times New Roman"/>
              </a:rPr>
              <a:t>Triedenie podľa kvantitatívnych  znakov - variačné triedenie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Kvantitatívne znaky označujeme písmenami  z konca abecedy – X, Y, Z, ..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ich obmeny – x</a:t>
            </a:r>
            <a:r>
              <a:rPr b="0" lang="sk-SK" sz="32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, x</a:t>
            </a:r>
            <a:r>
              <a:rPr b="0" lang="sk-SK" sz="32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, x</a:t>
            </a:r>
            <a:r>
              <a:rPr b="0" lang="sk-SK" sz="3200" spc="-1" strike="noStrike" baseline="-25000">
                <a:solidFill>
                  <a:srgbClr val="333333"/>
                </a:solidFill>
                <a:latin typeface="Times New Roman"/>
              </a:rPr>
              <a:t>3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, ..x</a:t>
            </a:r>
            <a:r>
              <a:rPr b="0" lang="sk-SK" sz="3200" spc="-1" strike="noStrike" baseline="-25000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.. x</a:t>
            </a:r>
            <a:r>
              <a:rPr b="0" lang="sk-SK" sz="32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Triedenie súboru o rozsahu </a:t>
            </a:r>
            <a:r>
              <a:rPr b="1" i="1" lang="sk-SK" sz="3600" spc="-1" strike="noStrike">
                <a:solidFill>
                  <a:srgbClr val="800000"/>
                </a:solidFill>
                <a:latin typeface="Times New Roman"/>
              </a:rPr>
              <a:t>n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na</a:t>
            </a:r>
            <a:r>
              <a:rPr b="1" i="1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sk-SK" sz="3600" spc="-1" strike="noStrike">
                <a:solidFill>
                  <a:srgbClr val="800000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poč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tried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Rozlišujem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triedenie jednoduch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- rozdelenie početnost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- skupinové - intervalové rozdelenie početnost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724280" y="4495680"/>
            <a:ext cx="990720" cy="381240"/>
          </a:xfrm>
          <a:prstGeom prst="line">
            <a:avLst/>
          </a:prstGeom>
          <a:ln w="1260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29ED-1842-4F75-9949-75EB82D8848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Rozdelenie početností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Použijeme ho vtedy,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keď triediaci znak je diskrétny s malým počtom obmien, variantov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n </a:t>
            </a:r>
            <a:r>
              <a:rPr b="1" lang="sk-SK" sz="32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– absolútne početnosti ( poč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nezaopatrených detí)    i=1,2,3,4....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x </a:t>
            </a:r>
            <a:r>
              <a:rPr b="1" lang="sk-SK" sz="32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– hodnota znak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E6F7-B529-43CC-BBBA-8AB6EBD5248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6858000" y="228600"/>
            <a:ext cx="1976400" cy="1981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4c2b"/>
                </a:solidFill>
                <a:latin typeface="Times New Roman"/>
              </a:rPr>
              <a:t>Etapy vývoja štatistiky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3 etapy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popisná štatistika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- popis štátu, „status“  stav, resp. štát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politická aritmetika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- úplný popis obyvateľstva, natalita, mortalita, vývoj obyvateľstva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induktívna štatistika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(moderná,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analytická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), výberové skúmanie, napr. štatistika rodinných účtov a pod., marketingový priesku, výskum verejnej mienky a pod.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3AF8-7ACA-4F1C-92B4-E0E7FFE3290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Rozdelenie početností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581280" y="17524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Použijeme ho vtedy,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keď triediaci znak je diskrétny s malým počtom obmien, variantov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1" i="1" lang="sk-SK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– absolútne početnosti (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počet nezaopatrených detí) 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i=1,2,3,4.…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počet tried, obmie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1" i="1" lang="sk-SK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– hodnota, obmena znak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09480" y="1828800"/>
          <a:ext cx="388476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828800"/>
                    <a:ext cx="3884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990720" y="1752480"/>
          <a:ext cx="2076480" cy="3943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1752480"/>
                    <a:ext cx="207648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9FCF-C88B-47B8-973A-ABDE85390D2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48006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4419720"/>
            <a:ext cx="4191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ahoma"/>
              </a:rPr>
              <a:t>Počet intervalov </a:t>
            </a:r>
            <a:r>
              <a:rPr b="0" i="1" lang="sk-SK" sz="3200" spc="-1" strike="noStrike">
                <a:solidFill>
                  <a:srgbClr val="333333"/>
                </a:solidFill>
                <a:latin typeface="Tahoma"/>
              </a:rPr>
              <a:t>(m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ahoma"/>
              </a:rPr>
              <a:t>Rozpätie intervalu </a:t>
            </a:r>
            <a:r>
              <a:rPr b="0" i="1" lang="sk-SK" sz="3200" spc="-1" strike="noStrike">
                <a:solidFill>
                  <a:srgbClr val="333333"/>
                </a:solidFill>
                <a:latin typeface="Tahoma"/>
              </a:rPr>
              <a:t>(h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9572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39720" y="1295280"/>
                <a:ext cx="786276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≈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</m:e>
                        </m:rad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Intervalové rozdelenie početností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D128-3BC0-4CC7-8A82-2E84CE943EC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Rozdelenie platov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09480" y="1905120"/>
          <a:ext cx="7239240" cy="4132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905120"/>
                    <a:ext cx="72392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4419720" y="112680"/>
          <a:ext cx="3581280" cy="17985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19720" y="112680"/>
                    <a:ext cx="35812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6A9A-D581-47A5-88DD-71BB24E8C48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Rozdelenie platov - histogram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990720" y="1828800"/>
          <a:ext cx="6933960" cy="41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69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48EC-AD42-455E-87FA-1E813482A35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4c2b"/>
                </a:solidFill>
                <a:latin typeface="Times New Roman"/>
              </a:rPr>
              <a:t>1.2. Základné pojmy</a:t>
            </a:r>
            <a:r>
              <a:rPr b="0" lang="cs-CZ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Nevyhnutným predpokladom každéh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štatistického skúmania je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hromadnosť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pozorovani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Pri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hromadnom pozorovaní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môže ísť o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jednoduché pozorovanie -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získanie údajov pozorovaním, meraním, .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Experiment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najmä v biologických a iných pokusoc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2938-0F4E-4F3B-BA26-248F3845F18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Hromadný jav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sa skladá z mnohý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individuálnych javov. Nositelia týchto javov sa nazývajú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štatistickými jednotkami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2860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ahoma"/>
              </a:rPr>
              <a:t>Predmetom skúmania je hromadný jav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856F-B4E3-4526-93AB-55845C912C2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4c2b"/>
                </a:solidFill>
                <a:latin typeface="Times New Roman"/>
              </a:rPr>
              <a:t>Štatistická jednotka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371600"/>
            <a:ext cx="7543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ahoma"/>
              </a:rPr>
              <a:t>-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je základný prvok, na ktorom možno skúmať konkrétny prejav určitého hromadného javu a je základným a presne vymedzeným objektom pozorovani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ahoma"/>
              </a:rPr>
              <a:t>Výber štatistickej jednotky je určený cieľom skúma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ahoma"/>
              </a:rPr>
              <a:t>Napr.: sociálne slabšie rodiny v SR v r.200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F9F2-FC20-41E2-A541-EF30547ED35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4c2b"/>
                </a:solidFill>
                <a:latin typeface="Times New Roman"/>
              </a:rPr>
              <a:t>Vymedzenie štatistických jednotiek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3600" spc="-1" strike="noStrike">
                <a:solidFill>
                  <a:srgbClr val="333333"/>
                </a:solidFill>
                <a:latin typeface="Times New Roman"/>
              </a:rPr>
              <a:t>priestorové </a:t>
            </a:r>
            <a:r>
              <a:rPr b="0" lang="sk-SK" sz="36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musí byť presne      vymedzený priestor, napr. Slovensk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3600" spc="-1" strike="noStrike">
                <a:solidFill>
                  <a:srgbClr val="333333"/>
                </a:solidFill>
                <a:latin typeface="Times New Roman"/>
              </a:rPr>
              <a:t>časové -</a:t>
            </a:r>
            <a:r>
              <a:rPr b="0" lang="sk-SK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vymedzenie obdobia, resp. okamihu, napr. kalendárny rok 200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3600" spc="-1" strike="noStrike">
                <a:solidFill>
                  <a:srgbClr val="333333"/>
                </a:solidFill>
                <a:latin typeface="Times New Roman"/>
              </a:rPr>
              <a:t>vecné</a:t>
            </a:r>
            <a:r>
              <a:rPr b="0" lang="sk-SK" sz="36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obsahové vymedzenie , napr. domácností s čistým  príjmom pod 2500 Sk na 1 člen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E722-AB66-4253-A38E-9077BE9A621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sk-SK" sz="4400" spc="-1" strike="noStrike">
                <a:solidFill>
                  <a:srgbClr val="004c2b"/>
                </a:solidFill>
                <a:latin typeface="Times New Roman"/>
              </a:rPr>
              <a:t>Št</a:t>
            </a:r>
            <a:r>
              <a:rPr b="1" lang="sk-SK" sz="4000" spc="-1" strike="noStrike">
                <a:solidFill>
                  <a:srgbClr val="004c2b"/>
                </a:solidFill>
                <a:latin typeface="Times New Roman"/>
              </a:rPr>
              <a:t>atistický súbor</a:t>
            </a:r>
            <a:br>
              <a:rPr sz="4000"/>
            </a:b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je množina štatistických jednotiek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z ktorých  každá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vyhovuje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určitým vlastnostiam, ktoré vymedzujú štatistický súbor z hľadiska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časového priestorového a vecného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a v iných vlastnostiach sa štatistické jednotky l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íšia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Vlastnosti, v ktorých sa štatistické jednotky líšia sú predmetom skúmania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4c2b"/>
                </a:solidFill>
                <a:latin typeface="Times New Roman"/>
              </a:rPr>
              <a:t>Rozsah štatistického súbor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počet štat. jednotiek v štat. súbor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9FEB-32C4-4389-B755-FB96267684F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Štatistický súbor býkov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55627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 štatistický súbor býkov môžu byť  spoločné nasledovné vlastnosti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lemen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e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bdobie chov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úbor býkov sa však bude líšiť napr. v hmotnosti, výkonnosti a pod. Tieto vlastnosti môžu byť predmetom skúma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410080" y="1981080"/>
          <a:ext cx="3429000" cy="312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1981080"/>
                    <a:ext cx="342900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1430-43E5-4F33-9019-73DCBE0097E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m</cp:lastModifiedBy>
  <cp:lastPrinted>2001-02-15T18:08:48Z</cp:lastPrinted>
  <dcterms:modified xsi:type="dcterms:W3CDTF">2005-02-14T11:09:18Z</dcterms:modified>
  <cp:revision>68</cp:revision>
  <dc:subject/>
  <dc:title>Prezentace aplikace PowerPoint</dc:title>
</cp:coreProperties>
</file>