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7.png" ContentType="image/png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DF2-A8FF-492C-92A3-EF895237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060-3FA2-4E13-9E9C-B287D824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1E1-CBDE-47AE-A301-3ACE0989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7D2-1339-4173-8EA8-30F5F458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1D5-E81B-42FE-8A30-F1D7ED2C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BD5-B08F-4B63-A926-368F14DA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F5E-C081-4335-88F5-AB8F5DF7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64C-D28B-4BF4-B0ED-00A78E8E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492-134B-46AE-8416-2BFA8992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766-C773-4D1A-9D03-B783949A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EE0-8D52-4D96-AD6C-B767DC8B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F23-8FCA-4A92-B705-EF90338E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DAD7-F40E-43B7-88E6-E61EE0D63F9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„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Exkurzia” do </a:t>
            </a:r>
            <a:r>
              <a:rPr b="1" lang="sk-SK" sz="4000" spc="-1" strike="noStrike">
                <a:solidFill>
                  <a:srgbClr val="993300"/>
                </a:solidFill>
                <a:latin typeface="Times New Roman"/>
              </a:rPr>
              <a:t>teórie pravdepodobností (TP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5486400" cy="422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50840" y="259092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es to bude náročné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1523880"/>
            <a:ext cx="1752840" cy="15242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3733920"/>
            <a:ext cx="2590920" cy="1371600"/>
          </a:xfrm>
          <a:prstGeom prst="wedgeEllipseCallout">
            <a:avLst>
              <a:gd name="adj1" fmla="val -123712"/>
              <a:gd name="adj2" fmla="val 5115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edy nebud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1DF-88C4-43B2-A4AA-5906E623C9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57200" y="380880"/>
          <a:ext cx="8153280" cy="594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81532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flipV="1">
            <a:off x="3454560" y="5143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464832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42670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809880"/>
            <a:ext cx="114300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50532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1240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28195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828440" y="2742840"/>
            <a:ext cx="1600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8006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4F7-A7A4-42F3-B6AC-3A9B85BF44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457200"/>
          <a:ext cx="8286840" cy="558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828684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860-F17C-4B40-9197-9E500141B5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(x) pre spojitú náhodnú veličinu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29600" y="2362320"/>
            <a:ext cx="577800" cy="124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762120"/>
                <a:ext cx="708660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, pre  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14400" y="2209680"/>
            <a:ext cx="693432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402240" y="5562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6080" y="259092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resli F(0),F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6BE-842D-4B3B-943A-C7EC269169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693432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0"/>
                <a:ext cx="678168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153280" y="457200"/>
            <a:ext cx="577800" cy="124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08040" y="137160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kresli do grafu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E09-CDE3-4D59-9D74-30499DCC51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19040" y="1143000"/>
                <a:ext cx="830592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lastnosti distribučnej funkcie SNV: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1752480"/>
            <a:ext cx="3581280" cy="2210040"/>
          </a:xfrm>
          <a:prstGeom prst="wedgeEllipseCallout">
            <a:avLst>
              <a:gd name="adj1" fmla="val -31648"/>
              <a:gd name="adj2" fmla="val -7155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 SNV existu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dox nulov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vdepodobnost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X= x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16F-0ACB-455D-8FDC-9624A3D6AA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Zhrnutie o F(x)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á distribučná funkcia je funkciou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klesajúcou, spojitou zľav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yhovujúcou podmienkam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-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ú funkciu,ktorá spĺňa uvedené podmienky možno pokladať za distribučnú funkci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1750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31E-0EDF-478B-8661-DE960E2D43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lastnosti funkcie hustoty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 f(x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x) je nezáporná, t.j. f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pretože je deriváciou neklesajúcej funk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ie je však pravdepodobnosť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3200400"/>
                <a:ext cx="39625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4495680"/>
                <a:ext cx="495324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CE7-1D85-4F20-B5BD-2AE30CAF45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Základné modely rozdelení NV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oužívané v Štatistike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álne rozdel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ciálne rozdele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ovo rozdelenie (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- kvadrát rozdelenie (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erovo - Snedecorovo rozdelenie 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629400" y="1523880"/>
            <a:ext cx="2050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0" y="18288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lú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poz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s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057400"/>
            <a:ext cx="1524240" cy="485640"/>
          </a:xfrm>
          <a:prstGeom prst="leftArrow">
            <a:avLst>
              <a:gd name="adj1" fmla="val 50000"/>
              <a:gd name="adj2" fmla="val 78466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57A-A621-4105-AFE5-23855F593C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6095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Normálne rozdelenie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“Gaussovo - Laplaceovo”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adia sa ním spojité NV, ktoré vznikajú ako dôsledok pôsobenia väčšieho počtu nezávislých, resp. slebo závislých vplyvov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no ním aproximovať mnohé rozdelenia, aj rozdelenia 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íklad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rody plodín, c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erani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219708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FB4-869B-4D90-926D-82A9FA7DFB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Gaussovo Normálne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1295280"/>
          <a:ext cx="7162920" cy="52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95280"/>
                    <a:ext cx="716292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411-0C1B-4D09-803B-C1A3BDB02D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66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Často sa hovorí, že štatistika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 je “</a:t>
            </a: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aplikovaný počet pravdepodobností”</a:t>
            </a:r>
            <a:br>
              <a:rPr sz="4000"/>
            </a:br>
            <a:br>
              <a:rPr sz="28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Š</a:t>
            </a:r>
            <a:r>
              <a:rPr b="1" lang="sk-SK" sz="3600" spc="-1" strike="noStrike">
                <a:solidFill>
                  <a:srgbClr val="006600"/>
                </a:solidFill>
                <a:latin typeface="Times New Roman"/>
              </a:rPr>
              <a:t>tatistika </a:t>
            </a:r>
            <a:br>
              <a:rPr sz="36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cc"/>
                </a:solidFill>
                <a:latin typeface="Times New Roman"/>
              </a:rPr>
              <a:t>popisná</a:t>
            </a: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vyčerpávajúce skúmanie (veda o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štáte, popisná aritmetika)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cc"/>
                </a:solidFill>
                <a:latin typeface="Times New Roman"/>
              </a:rPr>
              <a:t>induktívna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- výberové skúmanie (štatistické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analýzy, výberové vzorky)  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4266720"/>
            <a:ext cx="8382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Most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medzi oboma druhmi štatistiky tvorí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993300"/>
                </a:solidFill>
                <a:latin typeface="Times New Roman"/>
              </a:rPr>
              <a:t>teória pravdepodob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tvorí teoretický základ pre posudzovanie   spoľahlivosti a presnosti výberových postup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67280" y="762120"/>
            <a:ext cx="327672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44F-B827-4B53-957E-9464C1C3F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480" y="233280"/>
            <a:ext cx="7620120" cy="614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76920" y="0"/>
            <a:ext cx="3657600" cy="1600200"/>
          </a:xfrm>
          <a:prstGeom prst="wedgeEllipseCallout">
            <a:avLst>
              <a:gd name="adj1" fmla="val -48435"/>
              <a:gd name="adj2" fmla="val 39486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t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meral obv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ude 5738 škótsk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jak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12A-4EB8-4D78-854F-383237B94F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unkcia hustoty normálneho rozdelenia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039680" y="1320840"/>
                <a:ext cx="528480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-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5800" y="3505320"/>
            <a:ext cx="75438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re Normálneho rozdele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tredná hodnota určuje polohu rozdel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merodajná odchýlka, určuje variabilit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aru rozdel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904080" y="1219320"/>
            <a:ext cx="19288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5B6-50B2-406B-B935-52E7B4CBDC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unkcia hustoty a distribučná funkcia normálneho rozdelenia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1523880"/>
          <a:ext cx="7315200" cy="468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523880"/>
                    <a:ext cx="73152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724280" y="1752480"/>
            <a:ext cx="27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čná funk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305-F6C2-443C-9EDF-1D502EC95B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304920"/>
          <a:ext cx="8077320" cy="58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8077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C88-BBB6-4C06-A417-27F3E88E3C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457200"/>
          <a:ext cx="8153280" cy="563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1532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745000" y="464832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1880" y="4648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3480" y="5105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2000" y="502920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600" y="57913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560" y="5715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0400" y="46483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,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5257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5,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40280" y="59436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,7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1219320"/>
            <a:ext cx="2133720" cy="190476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myslite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ôsledne č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vorí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143000"/>
            <a:ext cx="1295280" cy="838080"/>
          </a:xfrm>
          <a:prstGeom prst="rightArrow">
            <a:avLst>
              <a:gd name="adj1" fmla="val 50000"/>
              <a:gd name="adj2" fmla="val 38638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CA3-3B11-4DFE-A7B1-9B263E3563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Normované normálne rozdelenie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( štandardizované 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….N(µ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álne rozdelen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ovan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istuje nekonečne mno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ormál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álnych rozdelení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zdelen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e tabelované!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68720" y="1676520"/>
                <a:ext cx="2484360" cy="13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-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 flipH="1" flipV="1">
            <a:off x="1523520" y="2514240"/>
            <a:ext cx="3812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495680" y="2590920"/>
            <a:ext cx="14479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03D-4C18-4B00-9B79-3CCE174EE0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Tabelované hodnot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y </a:t>
            </a:r>
            <a:r>
              <a:rPr b="1" i="1" lang="sk-SK" sz="4000" spc="-1" strike="noStrike">
                <a:solidFill>
                  <a:srgbClr val="006600"/>
                </a:solidFill>
                <a:latin typeface="Times New Roman"/>
              </a:rPr>
              <a:t>F(u) a f(u)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 pre </a:t>
            </a:r>
            <a:r>
              <a:rPr b="1" i="1" lang="sk-SK" sz="4000" spc="-1" strike="noStrike">
                <a:solidFill>
                  <a:srgbClr val="006600"/>
                </a:solidFill>
                <a:latin typeface="Times New Roman"/>
              </a:rPr>
              <a:t>N(0,1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933960" cy="4496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41960" y="2057400"/>
            <a:ext cx="26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- u) = 1 - F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- u) = f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9160" y="57816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5791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95400" y="1066680"/>
            <a:ext cx="1928880" cy="2362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00800" y="3200400"/>
            <a:ext cx="1600200" cy="13716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A9F-882C-4405-80ED-C7CD06369C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yužitie rozdelenia N(0,1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aždé normálne rozdelen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me takto transformovať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ované normál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zdelenie a využívať tabuľkové hodnot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u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íkla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emern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ačný nominálny príjem občana SR predstavuje 11tis. Sk a má približne normálne rozdelenie so smerodajnou odchýlkou 6tis. Sk. Koľko percent občanov je pod hranicou priemerného príjmu 5 tis. Sk a koľko nad 17 tis.Sk? Odhadnite koľko percent občanov zarába v priemere viac ako 23tis. S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080200" y="2590920"/>
            <a:ext cx="10638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249-15AD-48E3-B25B-E05953C6EC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CHÍ - kvadrát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914400"/>
          <a:ext cx="77724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14400"/>
                    <a:ext cx="77724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B7C-439C-43BA-BFFA-015722A438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724280" cy="3962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52360" y="129528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.v. =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43480" y="12193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.v. =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1828800"/>
            <a:ext cx="2286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43240" y="1828800"/>
            <a:ext cx="3049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CHÍ - kvadrát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3623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76360" y="4419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8360" y="40384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54864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4D5-2F29-4CEC-99D7-BDAF82D15C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993300"/>
                </a:solidFill>
                <a:latin typeface="Times New Roman"/>
              </a:rPr>
              <a:t>Náhodná veličina</a:t>
            </a:r>
            <a:r>
              <a:rPr b="0" lang="sk-SK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je premenná, ktorá môže nadobúdať rôzne hodnoty, alebo hodnoty z rôznych intervalov v závislosti na náhode. Náhodné veličiny budeme označovať X, a ich konkrétne hodnoty: x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, j=1,2…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štatistické znaky môžme pozerať ako na náhodné veličiny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členenie N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diskrétne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(DNV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) -nadobúdajú izolované, väčšinou celočíselné hodnoty, napr. počet narodených chlapcov z 1000 narodených detí, počet chybných výrobkov…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spojité (SNV)</a:t>
            </a:r>
            <a:r>
              <a:rPr b="0" lang="sk-SK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-môžu nadobúdať ľubovoľné hodnoty z ohraničeného, alebo neohraničeného interval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pr.: hmotnosť, výška človeka, chyby merania,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íjem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352680"/>
            <a:ext cx="1067040" cy="381240"/>
          </a:xfrm>
          <a:custGeom>
            <a:avLst/>
            <a:gdLst>
              <a:gd name="textAreaLeft" fmla="*/ 133200 w 1067040"/>
              <a:gd name="textAreaRight" fmla="*/ 933840 w 10670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99C-9DD2-4FB2-AFD6-F7A90587E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3880" y="914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s.v.=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914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s.v.=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28328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428292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2666880" y="1523880"/>
            <a:ext cx="15264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1523880"/>
            <a:ext cx="228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Studentovo rozdelenie (t)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64320" y="2514600"/>
            <a:ext cx="287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|t| &gt;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s.v.)) =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05320" y="44956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411480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7400" y="571500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667-202F-4F0A-921E-9EDFFFD3A8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isherovo F -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38080" y="990720"/>
          <a:ext cx="777240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7772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3809880" y="320040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F &gt;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1;s.v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)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343040" y="426708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2600" y="39625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5638680"/>
            <a:ext cx="25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1;s.v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0CC-6BFE-417F-886A-FC7D40CDB8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Koniec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“exkurzie”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do teórie pravdepodobnosti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5029200" cy="41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709-503A-4866-9722-84F9500E9C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Výberové skúmanie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5440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1066680"/>
            <a:ext cx="3505320" cy="3933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ždá skúška je výberovou analýz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“debny” mozgu sú ťahané “guličky” vedomostí a nevedomostí a z nich sa usudzuje na celkový stav vedomostí v moz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C64-7830-4B1A-9A82-A5822C415A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43800" y="9144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Náhodná veličina je plne popísaná zákonom rozdelenia NV</a:t>
            </a:r>
            <a:br>
              <a:rPr sz="4000"/>
            </a:b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Zákon rozdelenia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NV je pravidlo, ktoré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každej hodnote náhodnej veličiny priradí pravdepodobnosť nadobudnutia danej hodnoty (DNV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lebo množine hodnôt z každého intervalu priradí pravdepodobnosť nadobudnutia hodnôt z intervalov (S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1FA-2DF3-491C-9213-39DCD5FCE7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Rozlišujeme 3 zákony rozdelenia NV:</a:t>
            </a:r>
            <a:br>
              <a:rPr sz="4000"/>
            </a:b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7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pravdepodobnostná tabuľka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, p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=P(X= x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len pre 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distribučná funkcia</a:t>
            </a: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F(x) = P(X</a:t>
            </a:r>
            <a:r>
              <a:rPr b="1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x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DNV, S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funkcia hustoty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f(x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len pre S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3352680"/>
            <a:ext cx="1447920" cy="914400"/>
          </a:xfrm>
          <a:custGeom>
            <a:avLst/>
            <a:gdLst>
              <a:gd name="textAreaLeft" fmla="*/ 109080 w 1447920"/>
              <a:gd name="textAreaRight" fmla="*/ 1338840 w 1447920"/>
              <a:gd name="textAreaTop" fmla="*/ 109080 h 914400"/>
              <a:gd name="textAreaBottom" fmla="*/ 80532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1621" y="2577"/>
                </a:lnTo>
                <a:lnTo>
                  <a:pt x="2577" y="2577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1621" y="19023"/>
                </a:lnTo>
                <a:lnTo>
                  <a:pt x="31621" y="2577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2577" y="19023"/>
                </a:lnTo>
                <a:lnTo>
                  <a:pt x="31621" y="19023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2577" y="2577"/>
                </a:lnTo>
                <a:lnTo>
                  <a:pt x="2577" y="19023"/>
                </a:lnTo>
                <a:close/>
              </a:path>
              <a:path fill="darken" w="34198" h="21600">
                <a:moveTo>
                  <a:pt x="17099" y="14302"/>
                </a:moveTo>
                <a:arcTo wR="1287" hR="1287" stAng="16200000" swAng="-5400000"/>
                <a:arcTo wR="1287" hR="1287" stAng="10800000" swAng="-5400000"/>
                <a:arcTo wR="1287" hR="1287" stAng="5400000" swAng="-5400000"/>
                <a:arcTo wR="1287" hR="1287" stAng="0" swAng="-5400000"/>
                <a:close/>
              </a:path>
              <a:path fill="darken" w="34198" h="21600">
                <a:moveTo>
                  <a:pt x="18066" y="13846"/>
                </a:moveTo>
                <a:lnTo>
                  <a:pt x="18066" y="12132"/>
                </a:lnTo>
                <a:cubicBezTo>
                  <a:pt x="18066" y="11409"/>
                  <a:pt x="18355" y="10800"/>
                  <a:pt x="18881" y="10800"/>
                </a:cubicBezTo>
                <a:cubicBezTo>
                  <a:pt x="19870" y="10800"/>
                  <a:pt x="20655" y="9605"/>
                  <a:pt x="20655" y="8219"/>
                </a:cubicBezTo>
                <a:cubicBezTo>
                  <a:pt x="20655" y="6194"/>
                  <a:pt x="19033" y="4671"/>
                  <a:pt x="17099" y="4671"/>
                </a:cubicBezTo>
                <a:cubicBezTo>
                  <a:pt x="15165" y="4671"/>
                  <a:pt x="13703" y="6194"/>
                  <a:pt x="13703" y="8219"/>
                </a:cubicBezTo>
                <a:lnTo>
                  <a:pt x="15325" y="8219"/>
                </a:lnTo>
                <a:cubicBezTo>
                  <a:pt x="15325" y="7221"/>
                  <a:pt x="16132" y="6445"/>
                  <a:pt x="17099" y="6445"/>
                </a:cubicBezTo>
                <a:cubicBezTo>
                  <a:pt x="18066" y="6445"/>
                  <a:pt x="18881" y="7221"/>
                  <a:pt x="18881" y="8219"/>
                </a:cubicBezTo>
                <a:cubicBezTo>
                  <a:pt x="18881" y="8866"/>
                  <a:pt x="18469" y="9506"/>
                  <a:pt x="18066" y="9506"/>
                </a:cubicBezTo>
                <a:cubicBezTo>
                  <a:pt x="17099" y="9506"/>
                  <a:pt x="16132" y="10800"/>
                  <a:pt x="16132" y="12132"/>
                </a:cubicBezTo>
                <a:lnTo>
                  <a:pt x="16132" y="13846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6483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známk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V môžme tiež popísať pomoc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íselných charakteristík. Najčastejšími sú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edná hodnota a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ozp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952880"/>
            <a:ext cx="685800" cy="8002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67A-4081-4165-9B6D-BF6FA55701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Pravdepodobnostná tabuľka- rad rozdelenia pravdepodobností - </a:t>
            </a:r>
            <a:r>
              <a:rPr b="1" lang="sk-SK" sz="2800" spc="-1" strike="noStrike">
                <a:solidFill>
                  <a:srgbClr val="006600"/>
                </a:solidFill>
                <a:latin typeface="Times New Roman"/>
              </a:rPr>
              <a:t>popisuje len diskrétnu náhodnú veličinu (DNV)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2133720"/>
          <a:ext cx="381312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33720"/>
                    <a:ext cx="38131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48320" y="1676520"/>
          <a:ext cx="4495680" cy="3657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1676520"/>
                    <a:ext cx="44956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24280" y="4876920"/>
            <a:ext cx="40388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X=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ógia relatívnych početnost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1BA-2BA6-44F4-A382-3D584C8367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Distribučná funkcia F(x) = P(X </a:t>
            </a:r>
            <a:r>
              <a:rPr b="1" lang="sk-SK" sz="3600" spc="-1" strike="noStrike">
                <a:solidFill>
                  <a:srgbClr val="006600"/>
                </a:solidFill>
                <a:latin typeface="Symbol"/>
                <a:ea typeface="Symbol"/>
              </a:rPr>
              <a:t></a:t>
            </a: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 x)</a:t>
            </a:r>
            <a:br>
              <a:rPr sz="32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slúži k popisu diskrétnej (DNV) aj spojitej (SNV) náhodnej veličiny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01000" y="457200"/>
            <a:ext cx="577800" cy="1241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DNV plat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) = P(X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x) = </a:t>
            </a:r>
            <a:r>
              <a:rPr b="0" i="1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e všetky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2895480"/>
          <a:ext cx="8534520" cy="4686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95480"/>
                    <a:ext cx="85345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537-E5D6-4024-8A61-3E3F54EE9E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Spojitá náhodná veličina (SNV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jitou náhodnou veličinou nazvem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e ktorú existuje funkcia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á, že distribučná funkci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e rovn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2590920"/>
                <a:ext cx="7162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, pre  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28600" y="39625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 má distribučná funkci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 všetk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jitú deriváciu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 = F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budeme veličinu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azývať spojitá NV a funkciu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hust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avdepodobnosti náhodnej veličiny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v bode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688-C320-4FF4-88B4-B226605856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11:26:36Z</dcterms:created>
  <dc:creator>FEM KŠOV</dc:creator>
  <dc:description/>
  <dc:language>en-US</dc:language>
  <cp:lastModifiedBy>fem</cp:lastModifiedBy>
  <cp:lastPrinted>2001-02-23T16:59:05Z</cp:lastPrinted>
  <dcterms:modified xsi:type="dcterms:W3CDTF">2005-02-26T13:00:13Z</dcterms:modified>
  <cp:revision>141</cp:revision>
  <dc:subject/>
  <dc:title>  Často sa hovorí, že štatistika je “aplikovaný počet pravdepodobností”  Štatistika    popisná - vyčerpávajúce skúmanie (veda o    štáte, popisná aritmetika)    induktívna - výberové skúmanie (štatistické    analýzy, výberové vzorky     </dc:title>
</cp:coreProperties>
</file>