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908-6C19-48D5-A96B-F404460F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93B-3330-4235-B8A1-7DE4861F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988-0521-4EB8-910A-0513E5B7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9AA-D9F7-4C9D-8C57-36B93167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F7AA-6533-45B0-8061-865D815A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45CF-9192-4CCB-998D-F124ABE1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78E6-61C4-4930-96C5-8C9F155E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A618-B7F4-4961-9F5E-908C57D9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FB81-6CF3-47FB-96A2-AC0AB787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031B-BE07-4485-B548-B387DAAD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B6FF-E838-42C3-B3AC-239C03E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941-5FBC-4757-A4F0-9E4B36E9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D7FD-56AF-41F5-817D-5FA3DF6B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3AA8-2D78-47BD-81DD-3E443C9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B003-2F26-417B-9DE8-DC0038DC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8EF3-B6FA-4232-89E6-F687F850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4018-265C-4377-B28C-5966EB4A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14C-5EBF-4036-8DD2-0E8FF4D0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F16-8E2E-47D7-82C7-4643A1B9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CF3-FA6A-4374-8762-F4BA0DBC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B62-F987-4B6C-A6C7-D87D56B8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1ED-418E-404F-8721-981D86EF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D26-0F25-4538-88A5-DB28758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A2B-B5A2-42CB-A1DF-7C4AC4D8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F040-1A9A-430B-84AE-E9A06CCDF77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8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9523-64F5-4FAA-829E-6A68DEBBCC4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4c2b"/>
                </a:solidFill>
                <a:latin typeface="Times New Roman"/>
              </a:rPr>
              <a:t>Prednášky zo štatistiky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4038840" cy="31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2A17-EFAC-41C3-B347-1DE3FA6310D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Základný súbor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Súbor všetkých štatist. jednotiek, ktoré z hľadiska vecného, časového a priestorového vymedzenia do súboru patria</a:t>
            </a: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1240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Výberový súb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962520"/>
            <a:ext cx="7848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Vybraná časť jednotiek zo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predstavuje reprezentatívnu vzorku základného súbor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CDD-ABAB-4189-9319-A8B9367E76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Štatistické znak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ú vlastnosti štatististických jednotie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Môžeme ich rozdeľovať z rôznych hľadísk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a)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dľa toho, či sa nachádzajú na všetkých štat. jednotkách daného súboru ich delíme n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spoločné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medzujú štatist. súbo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ariabilné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 predmetom štat.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37E-F42B-48D7-9914-FF9C9552D3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Times New Roman"/>
              </a:rPr>
              <a:t>b)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podľa toho, ako charakterizujú vlastnosti štat. jednotiek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nepriame,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zistiteľné len nepriamo, napr. meranie kvality výrob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riam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priamo merateľné, napr. príje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Times New Roman"/>
              </a:rPr>
              <a:t>c)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podľa charakteru n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časov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priestorov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3BB-5A15-48A5-B21D-DC057033DC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d)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vecné štat. znaky delíme podľa ich charakteru n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vantitatívn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merateľné, môžu byť: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spojité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nadobúdajú ľubovoľné hodnoty z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hraničeného alebo neohraničeného intervalu,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mesačný príjem, výdavky n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traviny, výška žien a pod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diskrétn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 nadobúdajú izolované, väčšinou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celočíselné hodnoty, napr. vek, počet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ezaopatrených detí, počet rokov praxe v odbore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238880" y="2362320"/>
          <a:ext cx="68580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2362320"/>
                    <a:ext cx="6858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629400" y="2819520"/>
          <a:ext cx="47772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2819520"/>
                    <a:ext cx="4777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077320" y="1905120"/>
          <a:ext cx="838080" cy="259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77320" y="1905120"/>
                    <a:ext cx="8380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93A-D2A4-41CC-A938-C677332D77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valitatívne znaky,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lovné, môžu byť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dichotomické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alternatív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pohlav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lynomické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multinomické, množné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vzdelanie, alebo…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391520" y="914400"/>
          <a:ext cx="114300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914400"/>
                    <a:ext cx="1143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172200" y="1219320"/>
          <a:ext cx="6984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1219320"/>
                    <a:ext cx="698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705720" y="4267080"/>
            <a:ext cx="1828800" cy="97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4038480" y="4267080"/>
            <a:ext cx="2590920" cy="135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762120" y="4419720"/>
            <a:ext cx="2438280" cy="85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A7B-7B26-442A-A1F5-AAD82BA52B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20720" y="762120"/>
            <a:ext cx="407844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33"/>
                </a:solidFill>
                <a:latin typeface="Times New Roman"/>
              </a:rPr>
              <a:t>Rozdelenie štatistických znakov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8640" y="2809800"/>
            <a:ext cx="3009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3680" y="1119240"/>
            <a:ext cx="253368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ŠTATISTICKÉ</a:t>
            </a:r>
            <a:r>
              <a:rPr b="1" lang="cs-CZ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ZNAK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5800" y="2165400"/>
            <a:ext cx="2487600" cy="261720"/>
            <a:chOff x="685800" y="2165400"/>
            <a:chExt cx="2487600" cy="261720"/>
          </a:xfrm>
        </p:grpSpPr>
        <p:sp>
          <p:nvSpPr>
            <p:cNvPr id="130" name=""/>
            <p:cNvSpPr/>
            <p:nvPr/>
          </p:nvSpPr>
          <p:spPr>
            <a:xfrm>
              <a:off x="685800" y="2165400"/>
              <a:ext cx="1047960" cy="26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40404"/>
                  </a:solidFill>
                  <a:latin typeface="Times New Roman"/>
                </a:rPr>
                <a:t>SPOLOČNÉ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94760" y="2165400"/>
              <a:ext cx="1178640" cy="26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40404"/>
                  </a:solidFill>
                  <a:latin typeface="Times New Roman"/>
                </a:rPr>
                <a:t>VARIABILNÉ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51600" y="2165400"/>
            <a:ext cx="78588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PRIAM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59480" y="2165400"/>
            <a:ext cx="104796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NEPRIAM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7800" y="3083040"/>
            <a:ext cx="917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ČASOV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97480" y="3081240"/>
            <a:ext cx="138420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PRIESTOROV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87800" y="3083040"/>
            <a:ext cx="78588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55760" y="4127400"/>
            <a:ext cx="144000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KVALIT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65720" y="4129200"/>
            <a:ext cx="170172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KVANTIT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85920" y="5043600"/>
            <a:ext cx="1493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ALTERN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5043600"/>
            <a:ext cx="9158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MNOŽN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41920" y="5043600"/>
            <a:ext cx="917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SPOJIT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73960" y="5043600"/>
            <a:ext cx="117936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DISKRÉT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1773360"/>
            <a:ext cx="536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09600" y="1903320"/>
            <a:ext cx="1440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43640" y="1903320"/>
            <a:ext cx="1440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47440" y="1903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424200" y="1903320"/>
            <a:ext cx="180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51600" y="2819520"/>
            <a:ext cx="1440" cy="25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038040" y="3865680"/>
            <a:ext cx="324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51600" y="3865680"/>
            <a:ext cx="144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89000" y="4781520"/>
            <a:ext cx="648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692160" y="4781520"/>
            <a:ext cx="324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1640" y="3865680"/>
            <a:ext cx="3009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94040" y="4781520"/>
            <a:ext cx="1701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35400" y="4781520"/>
            <a:ext cx="1963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928960" y="4419720"/>
            <a:ext cx="1440" cy="3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51600" y="4459320"/>
            <a:ext cx="144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52560" y="1776240"/>
            <a:ext cx="14400" cy="122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2206"/>
                </a:moveTo>
                <a:lnTo>
                  <a:pt x="0" y="0"/>
                </a:lnTo>
                <a:lnTo>
                  <a:pt x="0" y="15441"/>
                </a:lnTo>
                <a:lnTo>
                  <a:pt x="18750" y="15441"/>
                </a:lnTo>
                <a:lnTo>
                  <a:pt x="18750" y="19853"/>
                </a:lnTo>
                <a:lnTo>
                  <a:pt x="0" y="2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2560" y="1776240"/>
            <a:ext cx="1800" cy="12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15120" y="1771560"/>
            <a:ext cx="468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89560" y="1405080"/>
            <a:ext cx="1440" cy="24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84480" y="2809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70680" y="1917720"/>
            <a:ext cx="324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7520" y="1901880"/>
            <a:ext cx="324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37200" y="4781520"/>
            <a:ext cx="648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7073640" y="4781520"/>
            <a:ext cx="324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048120"/>
            <a:ext cx="8384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VECN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D1D-AC57-405C-A2FC-B2DEB1DF13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4c2b"/>
                </a:solidFill>
                <a:latin typeface="Times New Roman"/>
              </a:rPr>
              <a:t>1.3. Etapy štat. skúmani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. skúmanie sa skladá z troch etáp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67040" y="2657520"/>
            <a:ext cx="3000240" cy="3362400"/>
            <a:chOff x="2867040" y="2657520"/>
            <a:chExt cx="3000240" cy="3362400"/>
          </a:xfrm>
        </p:grpSpPr>
        <p:sp>
          <p:nvSpPr>
            <p:cNvPr id="171" name=""/>
            <p:cNvSpPr/>
            <p:nvPr/>
          </p:nvSpPr>
          <p:spPr>
            <a:xfrm>
              <a:off x="3252240" y="5409000"/>
              <a:ext cx="233388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štatistický rozb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17320" y="4095360"/>
              <a:ext cx="2333880" cy="5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spracovan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67040" y="2657520"/>
              <a:ext cx="3000240" cy="58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štatistické zisťovan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3440" y="4713480"/>
              <a:ext cx="55656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333333"/>
                  </a:solidFill>
                  <a:latin typeface="Wingdings"/>
                  <a:ea typeface="Wingdings"/>
                </a:rPr>
                <a:t>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5800" y="3326040"/>
              <a:ext cx="55656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333333"/>
                  </a:solidFill>
                  <a:latin typeface="Wingdings"/>
                  <a:ea typeface="Wingdings"/>
                </a:rPr>
                <a:t>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A44-896E-47F2-B8E2-FAE5DD99E9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Formy štat. zisťovani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: výkazníct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úpis – cenzu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anketa i i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Štat. zisťovani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: z hľadiska počtu jednotiek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yčerpávajúce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k zisťujeme informácie o jednotkách celého základného súbo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ýberové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k zisťujeme informácie len o výberovom súbore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775-5DAB-4999-A570-5B6658F0BD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dľa dĺžky resp.  periodicity časového intervalu štatistického zisťovania pozná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ické zisťovani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jednoráz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bežné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periodické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ravidelne sa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pakujú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       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nepravidelné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pakujúce sa v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epravidelných intervalo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F34-CF57-4FC3-A898-3F9414AAA3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Štatistické tried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rvá fáz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spracovania štatististických údajov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usporiadanie jednotiek štatistického súboru do skupín (tried) podľa určitého štat. znaku alebo znakov, vymezenie typiských skupín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. znak, ktorý je kritéri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 triedení nazývam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triediacim znakom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4094280"/>
            <a:ext cx="2209680" cy="21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403-F064-494E-AF58-3D18B2586B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sk-SK" sz="4000" spc="-1" strike="noStrike">
                <a:solidFill>
                  <a:srgbClr val="800000"/>
                </a:solidFill>
                <a:latin typeface="Times New Roman"/>
              </a:rPr>
              <a:t>Štatistika</a:t>
            </a:r>
            <a:r>
              <a:rPr b="0" lang="sk-SK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004c2b"/>
                </a:solidFill>
                <a:latin typeface="Times New Roman"/>
              </a:rPr>
              <a:t>ako vedná disciplín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Times New Roman"/>
              </a:rPr>
              <a:t>Definuj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eme ju ako vedu o </a:t>
            </a: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metód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kvantitatívneho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hodnotenia </a:t>
            </a: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vlastnost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hromadných javo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3 významy pojmu „štatistika“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raktická činnosť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štatistické úda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0000"/>
                </a:solidFill>
                <a:latin typeface="Times New Roman"/>
              </a:rPr>
              <a:t>vedná disciplí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E75-3234-4731-A1F3-BD3CBD5426E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7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kladné kritériá pri triedení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sada úplnost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triedy musia byť vytvorené tak, aby každá jednotka mala šancu byť do niektorej z tried zatrieden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sada jednoznačnosti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triedy musia byť vytvorené tak, aby o každej jednotke bolo jednoznačne rozhodnuté do ktorej z tried má byť zaraden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F0F-847C-495F-B8E1-58419CFCA1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lasifikácia triedenia podľa druh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triediaceho znak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časového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tvorenie časových rad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ecnéh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   - 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kvalitatív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kvantitatív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riestorového -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estorové zoskupenie jednotiek, napr. regionálne zatriedenie podniko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934320" y="2209680"/>
            <a:ext cx="190476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FC2-419A-4DDD-A458-92E2344B6F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Rozdelenie podľa počtu triediaci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nakov:- jednostupň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viacstupň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enie podľa hĺbky: - typologick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prehĺbe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analytick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E65-05DA-4E4D-AF7E-3F53154FB7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Triedenie podľa kvalitatívnych. znakov </a:t>
            </a:r>
            <a:r>
              <a:rPr b="0" lang="sk-SK" sz="4000" spc="-1" strike="noStrike">
                <a:solidFill>
                  <a:srgbClr val="004c2b"/>
                </a:solidFill>
                <a:latin typeface="Times New Roman"/>
              </a:rPr>
              <a:t>(asociačné triedenie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značenie kvalitatívnych znakov - A, B, C, 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arianty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obmeny  znakov označujeme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apr. dichotomické 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, </a:t>
            </a:r>
            <a:r>
              <a:rPr b="1" lang="sk-SK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lebo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lynomické –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.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tried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určitá skupina štat. jednotiek, ktorá má rovnakú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obmenu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(variant) alebo kombináciu obmien štat. znak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4920" y="4038480"/>
          <a:ext cx="698400" cy="24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038480"/>
                    <a:ext cx="6984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8001000" y="3962520"/>
          <a:ext cx="1143000" cy="25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3962520"/>
                    <a:ext cx="11430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637-0CCA-446E-80F0-F1EC1D2DB4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9072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íklad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máme 81 pracovníkov a evidujeme u nich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- pohlavie, B - vzdelanie, C - funkc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každý znak má len dve obmen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mu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ži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- VŠ      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vo funkci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- ženy          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ez VŠ          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ez funkcie</a:t>
            </a:r>
            <a:r>
              <a:rPr b="0" lang="cs-CZ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značenie triedy – triednym symbol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38       (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17      (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14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43       (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64      (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riedny symbol                   triedna početnosť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800600"/>
            <a:ext cx="15264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648320"/>
            <a:ext cx="1143000" cy="533160"/>
          </a:xfrm>
          <a:prstGeom prst="line">
            <a:avLst/>
          </a:prstGeom>
          <a:ln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8BA-55AF-4113-8EBB-F96322E7D7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odvojné trieden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kombinovanie 2 triediacich znakov súčasne, výsledkom sú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sociačné tabuľky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rozmer 2 x 2)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ba triediace znaky sú alternatívne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ontigenčné tabuľky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spoň jeden zo znakov má viac ako 2 variant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88C-47F8-4561-A698-DC50DC0B78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sociačná tabuľka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výsledok triedenia podľa pohlavia (A) a funkcie (C)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3880" y="2590920"/>
          <a:ext cx="6242040" cy="182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2420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371600" y="2362320"/>
          <a:ext cx="6242040" cy="350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2362320"/>
                    <a:ext cx="62420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57200" y="1981080"/>
          <a:ext cx="8191440" cy="4476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1981080"/>
                    <a:ext cx="819144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A41-D25D-460F-BC46-FC9241D480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Zamyslenie nad výsledkom </a:t>
            </a:r>
            <a:br>
              <a:rPr sz="36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asociačnej tabuľky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žno konštatovať, že približ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vnomerne sú vo funkciách zastúpení muži aj ženy A/N 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áno, tak prečo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nie, čo sa Vám žiada prepočítať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ste prepočítali niečo naviac, napr. percentá, tak aká je teraz vaša odpoveď.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 niečo ste zrejme zabudli !!!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sociačná tabuľka umožňuje analyzovať súvislosti medzi znakm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209680" cy="2170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525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E42-84BF-421F-9095-08E5877B0A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Triedenie podľa kvantitatívnych  znakov - variačné tried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Kvantitatívne znaky označujeme písmenami  z konca abecedy – X, Y, Z, 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ich obmeny –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..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.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enie súboru o rozsahu </a:t>
            </a:r>
            <a:r>
              <a:rPr b="1" i="1" lang="sk-SK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na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sk-SK" sz="36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poč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Rozlišuje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triedenie jednoduch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rozdelenie početnost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skupinové - intervalové rozdelenie početnost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724280" y="4495680"/>
            <a:ext cx="990720" cy="38124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63D-5367-42E5-8102-C22599EA1A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Rozdelenie početností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užijeme ho vtedy,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keď triediaci znak je diskrétny s malým počtom obmien, varian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n 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absolútne početnosti ( poč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ezaopatrených detí)    i=1,2,3,4....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hodnota znak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0D9-6949-48E0-9946-7BE42B93E7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858000" y="228600"/>
            <a:ext cx="1976400" cy="1981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Etapy vývoja štatistik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3 etapy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pisná štatis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popis štátu, „status“  stav, resp. štát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litická aritme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 úplný popis obyvateľstva, natalita, mortalita, vývoj obyvateľstva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induktívna štatis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(moderná,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analytická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), výberové skúmanie, napr. štatistika rodinných účtov a pod., marketingový priesku, výskum verejnej mienky a pod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5EC-92D7-43C0-9CDE-C209F03E6D2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Rozdelenie početností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81280" y="17524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užijeme ho vtedy,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keď triediaci znak je diskrétny s malým počtom obmien, varian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i="1" lang="sk-SK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– absolútne početnosti (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nezaopatrených detí)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i=1,2,3,4.…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tried, obmie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i="1" lang="sk-SK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– hodnota, obmena zna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9480" y="1828800"/>
          <a:ext cx="388476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3884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990720" y="1752480"/>
          <a:ext cx="2076480" cy="3943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1752480"/>
                    <a:ext cx="20764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F8E-C9F4-4BD4-895D-7430809B0C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4800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4419720"/>
            <a:ext cx="4191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Počet intervalov </a:t>
            </a:r>
            <a:r>
              <a:rPr b="0" i="1" lang="sk-SK" sz="3200" spc="-1" strike="noStrike">
                <a:solidFill>
                  <a:srgbClr val="333333"/>
                </a:solidFill>
                <a:latin typeface="Tahoma"/>
              </a:rPr>
              <a:t>(m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Rozpätie intervalu </a:t>
            </a:r>
            <a:r>
              <a:rPr b="0" i="1" lang="sk-SK" sz="3200" spc="-1" strike="noStrike">
                <a:solidFill>
                  <a:srgbClr val="333333"/>
                </a:solidFill>
                <a:latin typeface="Tahoma"/>
              </a:rPr>
              <a:t>(h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957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39720" y="1295280"/>
                <a:ext cx="78627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é rozdelenie početností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0B9-1150-4FE1-B59A-55D4036BD0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Rozdelenie platov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1905120"/>
          <a:ext cx="7239240" cy="4132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905120"/>
                    <a:ext cx="72392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419720" y="112680"/>
          <a:ext cx="3581280" cy="1798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112680"/>
                    <a:ext cx="35812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958-CA59-4C6F-A73A-C5D642B131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Rozdelenie platov - histogram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90720" y="1828800"/>
          <a:ext cx="693396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69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9E6-625B-4480-8F69-6B06B4CEB7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1.2. Základné pojmy</a:t>
            </a:r>
            <a:r>
              <a:rPr b="0" lang="cs-CZ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evyhnutným predpokladom každéh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ického skúmania je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os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zorovan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om pozorovaní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môže ísť 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jednoduché pozorovanie -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získanie údajov pozorovaním, meraním, 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Experiment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jmä v biologických a iných pokuso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DCB-2F94-4DF3-B655-02BE81125D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ý jav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sa skladá z mnohý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individuálnych javov. Nositelia týchto javov sa nazývajú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štatistickými jednotkami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2860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Predmetom skúmania je hromadný jav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96D-FED3-400C-844E-063F32F8C2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4c2b"/>
                </a:solidFill>
                <a:latin typeface="Times New Roman"/>
              </a:rPr>
              <a:t>Štatistická jednotk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3716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-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je základný prvok, na ktorom možno skúmať konkrétny prejav určitého hromadného javu a je základným a presne vymedzeným objektom pozorovan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Výber štatistickej jednotky je určený cieľom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Napr.: sociálne slabšie rodiny v SR v r.200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344-5C7D-4498-BC2E-56AE54E023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4c2b"/>
                </a:solidFill>
                <a:latin typeface="Times New Roman"/>
              </a:rPr>
              <a:t>Vymedzenie štatistických jednotiek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priestorové 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musí byť presne      vymedzený priestor, napr. Slovensk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časové -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medzenie obdobia, resp. okamihu, napr. kalendárny rok 200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bsahové vymedzenie , napr. domácností s čistým  príjmom pod 2500 Sk na 1 čle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39C-97E5-427F-9FE6-F4C3047F4E5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004c2b"/>
                </a:solidFill>
                <a:latin typeface="Times New Roman"/>
              </a:rPr>
              <a:t>Št</a:t>
            </a: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atistický súbor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je množina štatistických jednotiek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z ktorých  každá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yhovuj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určitým vlastnostiam, ktoré vymedzujú štatistický súbor z hľadiska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časového priestorového a vecného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a v iných vlastnostiach sa štatistické jednotky l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íši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lastnosti, v ktorých sa štatistické jednotky líšia sú predmetom skúmani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4c2b"/>
                </a:solidFill>
                <a:latin typeface="Times New Roman"/>
              </a:rPr>
              <a:t>Rozsah štatistického súbo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štat. jednotiek v štat. súbo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873-B2E8-4C02-9061-B3C6504A2BD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Štatistický súbor býkov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5562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štatistický súbor býkov môžu byť  spoločné nasledovné vlastnosti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lemen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dobie chov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 býkov sa však bude líšiť napr. v hmotnosti, výkonnosti a pod. Tieto vlastnosti môžu byť predmetom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410080" y="1981080"/>
          <a:ext cx="342900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1981080"/>
                    <a:ext cx="34290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C0B-E3C3-435A-B2C8-B205CE1C63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m</cp:lastModifiedBy>
  <cp:lastPrinted>2001-02-15T18:08:48Z</cp:lastPrinted>
  <dcterms:modified xsi:type="dcterms:W3CDTF">2005-02-14T11:09:18Z</dcterms:modified>
  <cp:revision>68</cp:revision>
  <dc:subject/>
  <dc:title>Prezentace aplikace PowerPoint</dc:title>
</cp:coreProperties>
</file>