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4C3-7230-444D-B076-279F2A00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F96-45DE-4AF3-8CFF-6E82A603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874-4093-4855-9568-FAD6B687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12D-D766-4C7B-B965-859A63E2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663B-F073-4FDC-9958-35F83772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F10E-1B5B-4552-B44C-8D1886C7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2F9C-0FB8-4316-9954-0A8EAC64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8638-D458-4843-BC97-03366C08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58CD-7515-40D3-BC56-507D33EA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4E30-597C-424B-A659-7327D4F1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75DC-17AC-4F57-82F5-6E05DD5A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DC3-6AB2-4893-85C4-6568CD1E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C1B0-045B-4DB6-9345-48A5E661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91D3-DC51-448B-9DB0-7FC4A079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109D-009B-4619-B5C1-DE625414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6E6D-1071-45FB-B9B7-862EA924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562C-AA19-4AEF-8613-D2B45983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C71-8D19-4352-96DD-458B9633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927-9E29-4C59-A347-60E33556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7BC-7515-4687-A206-0CEFC878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60D-1172-43D8-8CAF-DA22DF93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DFFA-E294-4372-B455-0F312C7C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2FA-C77C-48F4-975C-83E84327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CAA-D2EC-4C66-8929-CFBD929F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55E0-D3DF-4FE2-BE8B-D5A405539B6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12F8-FA54-4DFC-A4B2-34DE1A322EA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43000" y="609480"/>
            <a:ext cx="480060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4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stovani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905120"/>
            <a:ext cx="861048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štatistických  hypoté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037400"/>
            <a:ext cx="712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Nehovor: “Objavil som pravdu!”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ale radšej, “Objavil som jednu z právd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Kahlin Gibran “Prorok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048-80DB-48B5-B4BE-816AE6B3E8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Chyba prvého druhu   </a:t>
            </a:r>
            <a:r>
              <a:rPr b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chyba  druhého druhu </a:t>
            </a:r>
            <a:r>
              <a:rPr b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5562720"/>
            <a:ext cx="75438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590920"/>
            <a:ext cx="4648320" cy="2984400"/>
          </a:xfrm>
          <a:custGeom>
            <a:avLst/>
            <a:gdLst/>
            <a:ahLst/>
            <a:rect l="l" t="t" r="r" b="b"/>
            <a:pathLst>
              <a:path w="2928" h="1496">
                <a:moveTo>
                  <a:pt x="0" y="1496"/>
                </a:moveTo>
                <a:cubicBezTo>
                  <a:pt x="260" y="1284"/>
                  <a:pt x="520" y="1072"/>
                  <a:pt x="768" y="824"/>
                </a:cubicBezTo>
                <a:cubicBezTo>
                  <a:pt x="1016" y="576"/>
                  <a:pt x="1256" y="16"/>
                  <a:pt x="1488" y="8"/>
                </a:cubicBezTo>
                <a:cubicBezTo>
                  <a:pt x="1720" y="0"/>
                  <a:pt x="1920" y="552"/>
                  <a:pt x="2160" y="776"/>
                </a:cubicBezTo>
                <a:cubicBezTo>
                  <a:pt x="2400" y="1000"/>
                  <a:pt x="2816" y="1264"/>
                  <a:pt x="2928" y="1352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2590920"/>
            <a:ext cx="4647960" cy="2832120"/>
          </a:xfrm>
          <a:custGeom>
            <a:avLst/>
            <a:gdLst/>
            <a:ahLst/>
            <a:rect l="l" t="t" r="r" b="b"/>
            <a:pathLst>
              <a:path w="2928" h="1496">
                <a:moveTo>
                  <a:pt x="0" y="1496"/>
                </a:moveTo>
                <a:cubicBezTo>
                  <a:pt x="260" y="1284"/>
                  <a:pt x="520" y="1072"/>
                  <a:pt x="768" y="824"/>
                </a:cubicBezTo>
                <a:cubicBezTo>
                  <a:pt x="1016" y="576"/>
                  <a:pt x="1256" y="16"/>
                  <a:pt x="1488" y="8"/>
                </a:cubicBezTo>
                <a:cubicBezTo>
                  <a:pt x="1720" y="0"/>
                  <a:pt x="1920" y="552"/>
                  <a:pt x="2160" y="776"/>
                </a:cubicBezTo>
                <a:cubicBezTo>
                  <a:pt x="2400" y="1000"/>
                  <a:pt x="2816" y="1264"/>
                  <a:pt x="2928" y="1352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809880"/>
            <a:ext cx="0" cy="16765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95680" y="4876560"/>
            <a:ext cx="457200" cy="1522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5680" y="5105160"/>
            <a:ext cx="609840" cy="1522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572000" y="5333760"/>
            <a:ext cx="685800" cy="1522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876920" y="4876560"/>
            <a:ext cx="685800" cy="1522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4495680"/>
            <a:ext cx="4572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800600"/>
            <a:ext cx="6858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5181480"/>
            <a:ext cx="1143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657600" y="4800240"/>
            <a:ext cx="45720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4343400"/>
            <a:ext cx="240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P(H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/H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4495680"/>
            <a:ext cx="274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P(H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/H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23520" y="3516480"/>
            <a:ext cx="98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3240" y="3505320"/>
            <a:ext cx="9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0840" y="2479680"/>
            <a:ext cx="81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(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55000" y="2666880"/>
            <a:ext cx="81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(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29528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…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avdepodobnosť prijatia správnej hypotéz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 - 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…sila test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467480" y="1981080"/>
            <a:ext cx="1052640" cy="1981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715640" y="5537160"/>
            <a:ext cx="446364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avdepodobnosť prija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eď platí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0" y="5597280"/>
            <a:ext cx="432936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avdepodobnosť prija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eď platí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B79-1E90-4A87-A170-F93F08C63A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5360" y="685800"/>
            <a:ext cx="83905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yba prvého druhu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 chyba druhého druhu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 vzájomne previazanými chybami.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nižovanie chyb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dného duhu vedie k zväčšovaniu chyby druhého druhu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to je potrebné nájsť kompromis medzi nim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 uvedeného dôvodu sa obvykle volí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= 0,0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385-5D0D-44F9-B272-8ED46382FD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FOTO2" descr=""/>
          <p:cNvPicPr/>
          <p:nvPr/>
        </p:nvPicPr>
        <p:blipFill>
          <a:blip r:embed="rId2"/>
          <a:stretch/>
        </p:blipFill>
        <p:spPr>
          <a:xfrm>
            <a:off x="380880" y="0"/>
            <a:ext cx="8382240" cy="4078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39625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Anjel ako “objednávateľ si chce byť istý, že bocian nedodá príli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veľa chlapcov. 52% alebo ešte viac sa mu zdá vo vzorovej zásielk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príliš mnoho. “Dodávatel</a:t>
            </a:r>
            <a:r>
              <a:rPr b="1" i="1" lang="sk-SK" sz="2400" spc="-1" strike="noStrike">
                <a:solidFill>
                  <a:srgbClr val="333333"/>
                </a:solidFill>
                <a:latin typeface="Times New Roman"/>
              </a:rPr>
              <a:t>ˇ“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bocian vie, že v priemere dodáva 51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chlapcov, ale pri prísnych podmienkach “prebierky” by bolo 16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jeho jeho zásielky odmietnuté, aj keď “celková produkcia” zodpovedá požiadavkám. Otázkou je ako je rozdelené riziko medzi dodávateľom a odberateľom. Na obrázku anjel neriskuje vôbec nič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119-558E-4346-A5C5-97EAF459F2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ostup testovania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ormulujem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základnú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alternatívnu  hypotéz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volím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ladinu významnosti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počítame potrebné výberové charakteristiky a zvolíme správn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testovacie kritérium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ktorého hodnotu vypočítame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hodneme o výsledku testu, t.j. o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zamietnutí, resp. nezamietnutí nulovej hypotézy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rovnaním hodnoty testovacieho kritéria s kritickými hodnotam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íslušného rozdelenia (nájdené v tabuľkách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63A-299C-4578-BC74-DB3D1B9A06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esty hypotéz o strednej hodnot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514520"/>
            <a:ext cx="83822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. Testy zhody strednej hodnoty so známou konštantou       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631960"/>
            <a:ext cx="87966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ch štatistický znak X má  v základnom súbore  približne normálne rozdelenie ….N(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pokladajme, že odhadovaná stredná hodnota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sa rovná známej konštante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t.j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proti alternatívnej hypotéze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 obostrannom tes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st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čom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… N(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/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02160" y="3346560"/>
                <a:ext cx="139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666880" y="54100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47920" y="50292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432-E007-4955-B495-4CF31F0FC5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) predpokladajme,</a:t>
            </a: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že</a:t>
            </a: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poznáme rozptyl       základného súboru </a:t>
            </a:r>
            <a:r>
              <a:rPr b="0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teoretický predpoklad)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48896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tom vytvoríme ako testovaciu chrakteristik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áhodnú veličin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47920" y="2819520"/>
                <a:ext cx="281916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- 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5778360" y="31910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á …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0133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me transformovali  na známe teoretické rozdelenie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4D8-844B-4814-8F3B-EEB8D1BDCF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990720" y="2362320"/>
          <a:ext cx="7162560" cy="380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362320"/>
                    <a:ext cx="7162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514600" y="52578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52578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46680" y="3973680"/>
            <a:ext cx="123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666880"/>
            <a:ext cx="0" cy="289584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560" y="27432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f(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28800" y="5859360"/>
                <a:ext cx="15238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756400" y="5859360"/>
                <a:ext cx="11365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974880" y="1260360"/>
            <a:ext cx="733104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|u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vyp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u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1-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/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=&gt; H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ezamieta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|u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vyp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| &gt; u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1-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/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=&gt; H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zamieta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Rozhodnutie o výsledku testu: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62760" y="5638680"/>
            <a:ext cx="245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bor prijatia 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D36-7C57-4292-B64B-FFBE2D3BEF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b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br>
              <a:rPr sz="3200"/>
            </a:b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súboru n &gt; 30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447920" y="2666880"/>
                <a:ext cx="259056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- 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4574160" y="205740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me použiť 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4677840"/>
            <a:ext cx="6426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Ak |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vyp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1-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/2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=&gt; H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ezamietam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ak |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vyp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| &gt; 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1-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/2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=&gt; H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zamieta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B2F-9452-4647-A0C8-8262BC46CC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143000" y="2590920"/>
                <a:ext cx="274176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- 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380880" y="704880"/>
            <a:ext cx="828684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br>
              <a:rPr sz="3200"/>
            </a:b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súboru je malý, n </a:t>
            </a:r>
            <a:r>
              <a:rPr b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 3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2743200"/>
            <a:ext cx="289548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Kritická hodnota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(n-1)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- kvantil   Studentov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dele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5080" y="43848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yhodnotenie testu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066680" y="4876920"/>
            <a:ext cx="1347840" cy="1447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58000" y="52578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5104800"/>
            <a:ext cx="31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oplňte sami !!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210960" y="2117520"/>
            <a:ext cx="249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estovac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kritérium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75F-EE20-4883-B7D1-65488E3E3A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B. Testy hypotéz o zhode dvoch stredných hodnôt nezávislých súborov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4360" y="2022480"/>
            <a:ext cx="26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447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ch štatistický znak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X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á  v prvom základnom súbor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bližne normálne rozdelenie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….N(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Štatistický znak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á  v druhom základnom súbore  tie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bližne normálne rozdelenie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….N(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pokladajme, že odhadované stredné hodnoty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sú  zhodné, t.j. testujeme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proti alternatívnej hypotéze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 obostrannom tes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st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… N(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/n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st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… N(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/n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828800" y="5562720"/>
                <a:ext cx="625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905120" y="5105520"/>
                <a:ext cx="581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EB0-9EAC-4D89-AE0E-B1C057981C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Testovanie </a:t>
            </a:r>
            <a:r>
              <a:rPr b="1" i="1" lang="sk-SK" sz="4400" spc="-1" strike="noStrike">
                <a:solidFill>
                  <a:srgbClr val="cc3300"/>
                </a:solidFill>
                <a:latin typeface="Times New Roman"/>
              </a:rPr>
              <a:t>š</a:t>
            </a: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tatistických hypotéz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ametre základného súboru nepozná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eme však o nich vysloviť určité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predpoklad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y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ktoré formulujeme ako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hypotézy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overujeme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štatistickými postupmi - </a:t>
            </a:r>
            <a:r>
              <a:rPr b="1" i="1" lang="sk-SK" sz="2800" spc="-1" strike="noStrike">
                <a:solidFill>
                  <a:srgbClr val="990033"/>
                </a:solidFill>
                <a:latin typeface="Times New Roman"/>
              </a:rPr>
              <a:t>testovanie štatistických hypotéz </a:t>
            </a:r>
            <a:r>
              <a:rPr b="0" i="1" lang="sk-SK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sk-SK" sz="2800" spc="-1" strike="noStrike">
                <a:solidFill>
                  <a:srgbClr val="990033"/>
                </a:solidFill>
                <a:latin typeface="Times New Roman"/>
              </a:rPr>
              <a:t>(TH)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Overovať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možno nielen predpoklady o parametroch (napríklad strednej hodnote), ale aj 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o tvare rozdelenia štatistického znaku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(napr. testovanie zhody empirického rozdelenia početností s normálnym rozdelení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11CC-7F30-4289-BE4F-3BF8C6653C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predpokladajme, že poznáme rozptyly  základných súborov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teoretický predpoklad)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otom aj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266400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2590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ytvoríme ako testovaciu chrakteristiku náhodnú veličin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33520" y="3429000"/>
                <a:ext cx="768960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-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-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055520" y="1219320"/>
                <a:ext cx="58201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584520" y="5562720"/>
            <a:ext cx="29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kto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rá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á …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DAF-1EC7-4F81-9ACD-4644A0C303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-38088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predpokladajme, že rozptyly  základných súborov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nepoznáme, ale obidva výberové súbory majú dostatočný rozsah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&gt;30,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&gt;30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otom môžeme použiť testovaciu chrakteristiku ako v bode a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ozptyly základných súborov nahradíme ich bodovými odhadmi: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5400" spc="-1" strike="noStrike">
                <a:solidFill>
                  <a:srgbClr val="9e1438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8B9-20B1-4A5D-AD66-222327A461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predpokladajme, že rozptyly  základných súborov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nepoznáme, pričom aspoň jeden z výberových súborov má malý rozsah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30,  alebo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30 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k však môžeme predpokladať, že rozptyly sú zhodné, t.j.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,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ôžeme použiť testovaciu chrakteristiku </a:t>
            </a:r>
            <a:r>
              <a:rPr b="1" i="1" lang="en-US" sz="2800" spc="-1" strike="noStrike">
                <a:solidFill>
                  <a:srgbClr val="004c2b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, ktorá má Studentovo rozdelenie: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143000" y="2819520"/>
                <a:ext cx="6629400" cy="23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!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57200" y="5234400"/>
            <a:ext cx="8018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dnotu testovacieho kritéria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t -vyp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orovnáme 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ritickou hodnotou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t 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(n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+n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- 2)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upne voľnost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4ED-5465-4D4D-82EC-98E0DA335D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9220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predpokladajme, že rozptyly  základných súborov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nepoznáme, pričom aspoň jeden z výberových súborov má malý rozsah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30,  alebo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30 </a:t>
            </a:r>
            <a:br>
              <a:rPr sz="2800"/>
            </a:b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N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ôžeme však predpokladať zhodu rozptylov(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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) </a:t>
            </a:r>
            <a:br>
              <a:rPr sz="3200"/>
            </a:b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(Overuje sa F-testom)</a:t>
            </a:r>
            <a:br>
              <a:rPr sz="3200"/>
            </a:b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ôžeme použiť približný Behrens-Fischerov test zhody stredných hodnôt pri nehomogénnej variancii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066-F4E7-4DBC-AA24-950B2852A0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C. Test hypotézy o zhode dvoch stredných hodnôt závislých súborov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641600"/>
            <a:ext cx="90583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pokladajme, že dvakrát po sebe uskutočníme merania na tý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stých štatistických jednotkách, čím získame nasledovné merania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1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…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j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, …, 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…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j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…, 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Údaje tvoria tzv. párové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zorovania -tzv. závisl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áhodné výbery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Pre každú dvojicu, pár môžeme vypočítať diferenciu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1j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2j ,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2743200"/>
            <a:ext cx="108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j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2743200"/>
            <a:ext cx="1371600" cy="685800"/>
          </a:xfrm>
          <a:prstGeom prst="ellipse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019560" y="3276720"/>
            <a:ext cx="75960" cy="6094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324480" y="2895120"/>
            <a:ext cx="685800" cy="304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2040" y="3854520"/>
            <a:ext cx="37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dex súboru meraní v č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= 1,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4066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dex poradia merani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j = 1,2,…,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548080" y="4876920"/>
                <a:ext cx="3897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 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D87-37C6-4EFB-BF18-9441BC355C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8600" y="-317880"/>
            <a:ext cx="773424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estovať budem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,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lebo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d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proti alternatívnej hypotéze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d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 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estovacie kritérium bude mať Studentovo rozdelenie s (n - 1) stupňami voľ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447920" y="2209680"/>
                <a:ext cx="5410080" cy="23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sSub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</m:acc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304920" y="4214160"/>
            <a:ext cx="85341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Vyhodnotenie testu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Ak |t vyp.| &lt; t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 (n-1)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nezamietame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t.zn. Stredné hodnoty závislých súborov sú zhodné, resp. stredná hodnota diferencií sa štatisticky významne nelíši od nuly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Ak |t vyp.|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 (n-1)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zamietame…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BFF-BCED-4769-A50A-35FC1A7046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Pr</a:t>
            </a:r>
            <a:r>
              <a:rPr b="1" i="1" lang="sk-SK" sz="3200" spc="-1" strike="noStrike">
                <a:solidFill>
                  <a:srgbClr val="990033"/>
                </a:solidFill>
                <a:latin typeface="Times New Roman"/>
              </a:rPr>
              <a:t>íklady závislých výberov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7720" y="1873080"/>
            <a:ext cx="8209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kúmame vplyv očkovacej látky proti slintačke u   ošípaných  na zníženie hmotnosti. Zatým účelom  náhodne vyberieme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kusných zvierat a aplikujeme  im očkovacie sérum. Vážením pred očkovaním a dva týždne 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čkovaní získame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n -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árových hodnô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kúmame vplyv reklamy na výšku tržieb za vybraný výrobok.   Náhodne vyberieme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-predajní a zisťujueme tržby pred reklamou a tri týždne po spustení reklamy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60156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585-DBD4-441F-96FD-9C4A661C2D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esty hypotéz o rozptyloch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600200"/>
            <a:ext cx="82296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. Test zhody rozptylu so známou  konštantou                                 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9e143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oproti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743200" y="3276720"/>
                <a:ext cx="304812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93640" y="3394080"/>
            <a:ext cx="18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estovac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kritériu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22440" y="3225960"/>
            <a:ext cx="274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á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rozdelen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 (n-1) stupňam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oľnost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4952880"/>
            <a:ext cx="693432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4724280"/>
            <a:ext cx="0" cy="30492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5880" y="4800600"/>
            <a:ext cx="0" cy="22860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4876920"/>
            <a:ext cx="12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 1-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/2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4952880"/>
            <a:ext cx="102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/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5440" y="5105520"/>
            <a:ext cx="23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bor prijatia 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5638680"/>
            <a:ext cx="175284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62320" y="548640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61760" y="5638680"/>
            <a:ext cx="160020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10280" y="48769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b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zamietnut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48006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b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zamietnut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98D-3D37-4BD3-8BC0-1DE0A9CA99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B. Test zhody dvoch rozptylov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,  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oproti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&gt;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, </a:t>
            </a:r>
            <a:r>
              <a:rPr b="1" lang="en-US" sz="2800" spc="-1" strike="noStrike" baseline="30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jednostrann</a:t>
            </a:r>
            <a:r>
              <a:rPr b="1" lang="sk-SK" sz="2800" spc="-1" strike="noStrike">
                <a:solidFill>
                  <a:srgbClr val="990033"/>
                </a:solidFill>
                <a:latin typeface="Times New Roman"/>
              </a:rPr>
              <a:t>ý test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0920" y="205740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estovaci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kritérium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819520" y="2057400"/>
                <a:ext cx="162540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648320" y="2133720"/>
            <a:ext cx="426708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á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Fischerovo rozdelen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o stupňami voľnosti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.v.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n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-1, s.v.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n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65760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zn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Do čitateľa dávame väčší ropzptyl, preto F&gt;</a:t>
            </a: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1 a alternatívn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hypotéza môže byť iba jednostrann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49568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Vyhodnotenie testu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4800600"/>
            <a:ext cx="77119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k F vyp.  &lt; F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sk-SK" sz="2400" spc="-1" strike="noStrike" baseline="-25000">
                <a:solidFill>
                  <a:srgbClr val="333333"/>
                </a:solidFill>
                <a:latin typeface="Times New Roman"/>
              </a:rPr>
              <a:t> ( </a:t>
            </a:r>
            <a:r>
              <a:rPr b="1" lang="sk-SK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,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zamietame , rozptyly základných súborov môžeme považovať za zhodné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k F vyp.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F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sk-SK" sz="2400" spc="-1" strike="noStrike" baseline="-25000">
                <a:solidFill>
                  <a:srgbClr val="333333"/>
                </a:solidFill>
                <a:latin typeface="Times New Roman"/>
              </a:rPr>
              <a:t> ( </a:t>
            </a:r>
            <a:r>
              <a:rPr b="1" lang="sk-SK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,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amietame , rozptyl prvého súboru (v čitateli) je signifikantne väčší od druhéh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168-CFFE-4EE3-A956-D4CB29B17D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000"/>
                </a:solidFill>
                <a:latin typeface="Times New Roman"/>
              </a:rPr>
              <a:t>Príklady: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ceme overiť, či sa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priemerné výdavky na potraviny v r. 2000 významne zvýšili oproti r.1999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pričom na základe výberového skúmania predstavovali v r. 1999 34% a v r. 2000 36%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robca reflektorov uvádza, že ich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tredná životnosť predstavuje 70 hodí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Za tým účelom sa uskutočnilo výberové skúmanie 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 vzorke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flektorov sa zistila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priemerná životnosť 67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hodín a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výberová smerodajná odchýlka 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hodiny. Má výrobca pravdu ??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957-01F9-452D-B396-D54E2800EF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Základné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ojm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ormulujeme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východiskovú - </a:t>
            </a:r>
            <a:r>
              <a:rPr b="1" i="1" lang="en-US" sz="3600" spc="-1" strike="noStrike">
                <a:solidFill>
                  <a:srgbClr val="990033"/>
                </a:solidFill>
                <a:latin typeface="Times New Roman"/>
              </a:rPr>
              <a:t>nulovú hypotézu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36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ktorá vždy tvrdí zhodu toho čo porovnávame - testujeme, napr. hpotézu o zhode strednej hodnoty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o známou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onštantou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,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,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šeobecn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Q = Q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proti nulovej hypotéze formulujeme </a:t>
            </a:r>
            <a:r>
              <a:rPr b="1" i="1" lang="en-US" sz="3600" spc="-1" strike="noStrike">
                <a:solidFill>
                  <a:srgbClr val="990033"/>
                </a:solidFill>
                <a:latin typeface="Times New Roman"/>
              </a:rPr>
              <a:t>alternatívnu hypotézu H</a:t>
            </a:r>
            <a:r>
              <a:rPr b="1" i="1" lang="en-US" sz="36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36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p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všeobecn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Q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Q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obojstranný tes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sp.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Q &gt; Q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jednostranné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Q &lt; Q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es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ulová a alternatívna hypotéza sa musia vzájomne vylučovať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562360" y="5181120"/>
            <a:ext cx="53316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5562720"/>
            <a:ext cx="53352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0AE-B5EF-41D0-9824-AEB9D5A48F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16960" y="171360"/>
            <a:ext cx="8448480" cy="60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ameter základného súboru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 ktorom mám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itú hypotézu nepoznáme,  iba ho odhadujeme n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áklade výberového súboru pomocou výberovej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rkteristiky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u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hodnutie o zamietnutí resp. nezamietnutí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lovej hypotézy uskutočňujeme na základe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áhodného výberu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môžme ho urobiť s absolútno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snosťou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xistuje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riziko odhadu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a predpokladu, že platí nulová hypotéza , rovná sa parameter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predpokladanej veličin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eďže est.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Q = 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potom rozdiel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= u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n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- Q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je iba náhodnou chybou, spôsobenou náhodným výberom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40F-6A61-4F28-8A7C-C7341238E7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9856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79360"/>
            <a:ext cx="8943840" cy="37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k však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platí , t.j.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Q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Q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potom sa rozdiel môže skladať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z náhodnej chyb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ystematickej chyby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ktorá odráža skutočný rozdiel medz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arametrom  základného súboru Q a jeho predpokladanou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ou Q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= u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n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- Q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0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= (u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n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- Q) + (Q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- Q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505320" y="3276720"/>
            <a:ext cx="685800" cy="30456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867280" y="3200400"/>
            <a:ext cx="45720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6440" y="3505320"/>
            <a:ext cx="144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áhodn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hyb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581280"/>
            <a:ext cx="211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ystematick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hyba - rozdi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530600"/>
            <a:ext cx="8616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 praxi nemožno zistiť , či rozdiel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sahuje iba náhodn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hybu, alebo aj systematickú. Ak je však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alé pripisujem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o iba náhodnosti výberu, ak prekročí určitú veľkosť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pokladáme, že zahrňuje aj systematickú chybu - rozdiel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CF4-5FB9-4A91-A280-1F221B8DCC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609480"/>
            <a:ext cx="88376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zhodnutie o zamietnutí, resp. nezamietnutí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predpoklad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nalosť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kritickej hodnoty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torá rozdiel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zdelí na dve časti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 rozdieloch menších ako kritická hodnot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zamietame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 rozdieloch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ko kritická hodnota,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amietam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9960" y="2819520"/>
            <a:ext cx="8502480" cy="37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 konkrétnych prípadoch kolíše, je náhodnou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ličinou,. Preto sa snažíme transformovať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toré je funkciou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 parametra základného súboru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na veličinu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ktorá m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náme teoretické rozdelenie (napr. Normované normálne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. Studentovo či iné rozdelenie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 = f(u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, Q)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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G = f(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čom funkcia hustoty náhodnej premennej G je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f(g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ychádzame z platnosti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:Q = Q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   vypočítam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testovaciu  charakteristiku g = f(u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, Q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C12-89DF-4345-A5F4-5182D3AACD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47680"/>
            <a:ext cx="84582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hodnutie o výsledku testu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:Môžeme potom nájsť také kritické hodnoty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áhodnej veličiny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pre ktoré platí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(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 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G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) = 1 -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lebo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(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 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G 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) =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2438280"/>
            <a:ext cx="7310520" cy="4228920"/>
            <a:chOff x="0" y="2438280"/>
            <a:chExt cx="7310520" cy="4228920"/>
          </a:xfrm>
        </p:grpSpPr>
        <p:sp>
          <p:nvSpPr>
            <p:cNvPr id="105" name=""/>
            <p:cNvSpPr/>
            <p:nvPr/>
          </p:nvSpPr>
          <p:spPr>
            <a:xfrm>
              <a:off x="2313000" y="2438280"/>
              <a:ext cx="4997520" cy="2538360"/>
            </a:xfrm>
            <a:custGeom>
              <a:avLst/>
              <a:gdLst/>
              <a:ahLst/>
              <a:rect l="l" t="t" r="r" b="b"/>
              <a:pathLst>
                <a:path w="2832" h="1272">
                  <a:moveTo>
                    <a:pt x="0" y="1016"/>
                  </a:moveTo>
                  <a:cubicBezTo>
                    <a:pt x="112" y="508"/>
                    <a:pt x="224" y="0"/>
                    <a:pt x="576" y="8"/>
                  </a:cubicBezTo>
                  <a:cubicBezTo>
                    <a:pt x="928" y="16"/>
                    <a:pt x="1736" y="856"/>
                    <a:pt x="2112" y="1064"/>
                  </a:cubicBezTo>
                  <a:cubicBezTo>
                    <a:pt x="2488" y="1272"/>
                    <a:pt x="2660" y="1264"/>
                    <a:pt x="2832" y="1256"/>
                  </a:cubicBezTo>
                </a:path>
              </a:pathLst>
            </a:custGeom>
            <a:noFill/>
            <a:ln w="57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7400" y="2438280"/>
              <a:ext cx="0" cy="27781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5791320"/>
              <a:ext cx="32767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kritický obor,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obor zamietnutia H</a:t>
              </a:r>
              <a:r>
                <a:rPr b="1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296360" y="2220840"/>
            <a:ext cx="6685920" cy="3665520"/>
            <a:chOff x="1296360" y="2220840"/>
            <a:chExt cx="6685920" cy="3665520"/>
          </a:xfrm>
        </p:grpSpPr>
        <p:sp>
          <p:nvSpPr>
            <p:cNvPr id="109" name=""/>
            <p:cNvSpPr/>
            <p:nvPr/>
          </p:nvSpPr>
          <p:spPr>
            <a:xfrm>
              <a:off x="1973160" y="5024520"/>
              <a:ext cx="575964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67160" y="3395520"/>
              <a:ext cx="0" cy="16290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70520" y="4545000"/>
              <a:ext cx="0" cy="4795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08120" y="4206960"/>
              <a:ext cx="61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6360" y="4162320"/>
              <a:ext cx="61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4240" y="3471840"/>
              <a:ext cx="87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1 - </a:t>
              </a:r>
              <a:r>
                <a:rPr b="1" lang="en-US" sz="28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23080" y="48322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0680" y="48322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20960" y="5216400"/>
              <a:ext cx="279396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7480" y="52689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8280" y="5311800"/>
              <a:ext cx="363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Obor prijatia hypotézy H</a:t>
              </a:r>
              <a:r>
                <a:rPr b="1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81120" y="5504040"/>
              <a:ext cx="0" cy="3823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49440" y="5886360"/>
              <a:ext cx="93168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54760" y="5504040"/>
              <a:ext cx="0" cy="2872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4760" y="5791320"/>
              <a:ext cx="152388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04800" y="2220840"/>
              <a:ext cx="1977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- 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hladin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významnosti,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obvykle 0.0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867280" y="579132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ritický o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or zamietnu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24080" y="56293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 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79132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ritický o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or zamietnu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3840" y="51814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 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31D-EE1E-4D7B-8AA1-74E5C7F51E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457200"/>
            <a:ext cx="88390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hodnutie o výsledku testu, zamietnutí resp. nezamietnutí nulovej hypotézy  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závisí od voľb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hladiny významnosti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hladina významnosti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rozdeľuje obor hodnô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eličiny G na obor prijatia a obory zamietnutia 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 pr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ípade, že H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: Q=Q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nezamietame, tvrdíme, že rozdiel medzi Q a Q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je štatisticky nepreukazný, t.j. nesignifikant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Ak H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: Q=Q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 na hladi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významnosti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zamietame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diel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medzi Q a Q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j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štatisticky preukazný, t.j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gnifikant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638680" y="3733920"/>
            <a:ext cx="2971800" cy="245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EF5-28EF-4599-AF03-C2005C8FD3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3T17:17:33Z</dcterms:created>
  <dc:creator>FVS</dc:creator>
  <dc:description/>
  <dc:language>en-US</dc:language>
  <cp:lastModifiedBy>FVS</cp:lastModifiedBy>
  <cp:lastPrinted>2003-03-08T16:18:35Z</cp:lastPrinted>
  <dcterms:modified xsi:type="dcterms:W3CDTF">2003-03-10T16:54:54Z</dcterms:modified>
  <cp:revision>103</cp:revision>
  <dc:subject/>
  <dc:title>Testovanie štatistických hypotéz</dc:title>
</cp:coreProperties>
</file>