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4.png" ContentType="image/png"/>
  <Override PartName="/ppt/media/image12.wmf" ContentType="image/x-wmf"/>
  <Override PartName="/ppt/media/image11.jpeg" ContentType="image/jpeg"/>
  <Override PartName="/ppt/media/image23.wmf" ContentType="image/x-wmf"/>
  <Override PartName="/ppt/media/image8.wmf" ContentType="image/x-wmf"/>
  <Override PartName="/ppt/media/image33.wmf" ContentType="image/x-wmf"/>
  <Override PartName="/ppt/media/image9.wmf" ContentType="image/x-wmf"/>
  <Override PartName="/ppt/media/image34.wmf" ContentType="image/x-wmf"/>
  <Override PartName="/ppt/media/image31.jpeg" ContentType="image/jpeg"/>
  <Override PartName="/ppt/media/image10.wmf" ContentType="image/x-wmf"/>
  <Override PartName="/ppt/media/image30.wmf" ContentType="image/x-wmf"/>
  <Override PartName="/ppt/media/image28.wmf" ContentType="image/x-wmf"/>
  <Override PartName="/ppt/media/image36.png" ContentType="image/png"/>
  <Override PartName="/ppt/media/image19.wmf" ContentType="image/x-wmf"/>
  <Override PartName="/ppt/media/image37.wmf" ContentType="image/x-wmf"/>
  <Override PartName="/ppt/media/image7.wmf" ContentType="image/x-wmf"/>
  <Override PartName="/ppt/media/image35.png" ContentType="image/png"/>
  <Override PartName="/ppt/media/image5.png" ContentType="image/png"/>
  <Override PartName="/ppt/media/image13.jpeg" ContentType="image/jpeg"/>
  <Override PartName="/ppt/media/image3.png" ContentType="image/png"/>
  <Override PartName="/ppt/media/image2.wmf" ContentType="image/x-wmf"/>
  <Override PartName="/ppt/media/image25.wmf" ContentType="image/x-wmf"/>
  <Override PartName="/ppt/media/image14.jpeg" ContentType="image/jpeg"/>
  <Override PartName="/ppt/media/image15.wmf" ContentType="image/x-wmf"/>
  <Override PartName="/ppt/media/image16.png" ContentType="image/png"/>
  <Override PartName="/ppt/media/image17.wmf" ContentType="image/x-wmf"/>
  <Override PartName="/ppt/media/image6.jpeg" ContentType="image/jpeg"/>
  <Override PartName="/ppt/media/image21.wmf" ContentType="image/x-wmf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276E-F6F4-4661-A367-688F8B45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5A2-EBC7-4B7C-B9A9-0C11D3E5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B19-8438-40A8-B78D-F86DE25C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09E-4F73-4B5B-886E-7160B2B2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7FB5-9615-4E37-B0E3-EBCF494B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7A59-9D1D-492F-AC08-07E22637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3CCA-B54B-4415-8A99-348C3A69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8768-C3DE-4095-91FB-09A7006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2EF-09C7-4848-A455-11B111B2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149B-9147-41DB-A358-0E3024D0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2790-3B15-4A14-9CB1-D3ABAD81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E2C-3CD5-4D8E-A35D-403BFA85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0EDB-5599-4C47-8D09-4925A3B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1DFA-F0FB-4C69-A21C-4CCD099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6BF5-CFF2-4E49-A014-099C11F0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5251-C19B-4BEC-8483-1FE1DDDD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07F-157F-4AE3-92DA-5C1C39E2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E1C-1506-4F75-92C1-470C519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F5C-D95C-47D5-A5A8-8BBECCC2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DFD-77C0-4696-9E4C-F51FDF43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3D3-7F69-4780-81C5-AE6FD4A5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B85-CABD-4CC2-B5C6-226C40B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426-9F63-4D5B-8E62-FDDE243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2C3-CC21-47C4-9325-CF96AE9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1A1-B725-4AD2-9CCB-31922307D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ED27-D47A-4167-815C-7532757151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PISNÉ (DESKRIPTÍVNE) CHARAKTERISTIK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1771920" cy="381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4229280" y="3086280"/>
          <a:ext cx="6858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29280" y="30862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06E9-8872-482E-B91C-E7B50F8A3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íklad: vážený aritmetický prie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aždú známku musíme násobiť (vážiť) počtom študentov, až potom urobíme súčet (vážený súčet), ktorý podelíme počtom študent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133720"/>
          <a:ext cx="3276360" cy="282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327636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133720"/>
          <a:ext cx="373392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133720"/>
                    <a:ext cx="37339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5638680"/>
                <a:ext cx="15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63680" y="563868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riemerna známka bude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DC0-CFB9-4E6B-BD3D-8495DE48E8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ýpočet aritmetického priemeru z intervalov. rozdelenia početností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523880"/>
          <a:ext cx="5790960" cy="33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79096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14400" y="5257800"/>
          <a:ext cx="2057400" cy="287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257800"/>
                    <a:ext cx="20574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282120" y="498492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emerný plat  pracovníka predstav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 667 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30C-A358-4A8D-A077-C08A54CD5C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lastnosti aritmetického priemer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tálosť súčtu hodnô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odchýlok od priemeru sa rovná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súčet štvorcov odchýlok od priemeru je minimáln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181480" y="1523880"/>
                <a:ext cx="213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∗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905120" y="2743200"/>
                <a:ext cx="25146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00120" y="4800600"/>
                <a:ext cx="40118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58E-2A4E-451B-BAC9-E2F01ADE2B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ritmetický priemer nem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äčšinou žiadny odraz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kutočnost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aždá priemerná rodi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á 2,2 dieťaťa, našťast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 neznamená to, čo vidíme na obrázk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505320" cy="38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21E-59FF-42EA-925C-677EE5079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geometr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používa sa pri časových radoch (rast HDP za tri roky, vývoj inflácie za päť rokov...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743200" y="2743200"/>
                <a:ext cx="518148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09680" y="4495680"/>
                <a:ext cx="57913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BDF5-0A7E-42C1-9672-E5C9D256C1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Black"/>
              </a:rPr>
              <a:t>Vývoj HNP SR za rr.95-99 v US$</a:t>
            </a:r>
            <a:r>
              <a:rPr b="0" lang="sk-SK" sz="2800" spc="-1" strike="noStrike">
                <a:solidFill>
                  <a:srgbClr val="990033"/>
                </a:solidFill>
                <a:latin typeface="Arial Black"/>
              </a:rPr>
              <a:t> na obyv a rok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5800" y="1676520"/>
          <a:ext cx="7543800" cy="29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543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7680" y="4765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na 108,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048120"/>
            <a:ext cx="114300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3048120"/>
            <a:ext cx="9907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3505320"/>
            <a:ext cx="381024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5257800"/>
            <a:ext cx="3352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 roku 1997 oproti r. 96 vzrástol HNP na obyv. o 8,1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791320" y="3505320"/>
            <a:ext cx="18288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781-E7BD-4236-AF18-2221C17D1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 jednotlivých koeficientov rastu možno vypočíta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iemerný koeficient rastu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981080" y="28195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T-1 </m:t>
                        </m:r>
                      </m:deg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-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733920"/>
            <a:ext cx="91440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,148.1,081. 1,003 . 0,97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04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obdobie rr. 95-99 HNP v SR rástol ročne približne o 4,9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0C6-73B9-4B4B-BBC9-C75B5F51B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Úloha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5238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dpokladajme, že ideme 30 km ďaleko a prvých 15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jdeme rýchlosťou 15 km za hod. a druhých 15 k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ýchlosťou 75 km za hod. Akú priemernú rýchlosť sme dosiahli za hodi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6324480" cy="29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156-C9BF-43F8-A4EA-CAEDCC6468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rmonický priemer (jednoduchý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1523880"/>
            <a:ext cx="83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vú trať ideme rýchlosťou 15km/hod… k jej prejden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rebujeme  práve 1hod. - 60 minút (15/1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hú trať (15 km) ideme rýchlosťou 75 km/ho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 jej prejdeniu potrebujeme len 12 minút (15/75*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ková doba jazdy je teda 72 minút.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ritmetický pri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Nás zmýli výslekom (15+75)/2=</a:t>
            </a:r>
            <a:r>
              <a:rPr b="0" lang="sk-SK" sz="2400" spc="-1" strike="noStrike">
                <a:solidFill>
                  <a:srgbClr val="cc3300"/>
                </a:solidFill>
                <a:latin typeface="Tahoma"/>
              </a:rPr>
              <a:t>45km za hodi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 K zisteniu  priemernej doby jazdy pre oba úseky potrebujeme 60min+12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72/2 =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36 minút pre každý úsek jazdy, čo predstavuje priemernu rýchlosť 25 km /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90720" y="4724280"/>
                <a:ext cx="61275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20C-7A02-451A-A1E9-83D6554584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2.Ostatné stredné hodno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ýznam pri nesymetrických rozdeleniach u kvantitatívnych znakov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i kvalitatívnych znako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edián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- prostredná hodnota v</a:t>
            </a: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štatistickom súbore usporiadanom podľa skúman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( napr. výška prostredného pracovník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590920" y="3200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EC4-E036-4F96-98AC-9246888E2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PISNÉ (DESKRIPTÍVNE) CHARAKTERISTI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sú číselné charakteristiky, ktoré koncentrovanou formou – jedným číslom – vyjadrujú určitú vlastnosť skúmaného štatistického znak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(väčšinou sú použiteľné pre kvantitatívne štatistické znaky, len niektoré pre kvalitatívne štatistické znak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BFA-7711-45FE-BEC5-7EDBE2A9C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Mediá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je prostredná hodnota v usporiadan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ickom súbore. Usporiadame ženy podľa výšky, a zistíme, ktorá z nich je prostredná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380880"/>
            <a:ext cx="643896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9408-F86F-4A4D-BC4F-37CAB335FC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nepárny počet štatistických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- nepárny poč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120" y="3962520"/>
          <a:ext cx="2590560" cy="122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259056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5240160"/>
                <a:ext cx="1447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38280" y="5272200"/>
                <a:ext cx="22100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447920" y="5943600"/>
                <a:ext cx="1752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5023080" cy="1819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62720" y="388620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800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ediá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400800" y="4572000"/>
                <a:ext cx="1905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FB6-F8FE-4946-B2E1-6E093A59B9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určovanie mediánu v štat. súbore, v ktorom je párny počet štat. jednoti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838080" y="4191120"/>
                <a:ext cx="25146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80880" y="5560920"/>
                <a:ext cx="3200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72000" y="4800600"/>
                <a:ext cx="396252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9" name=""/>
          <p:cNvGraphicFramePr/>
          <p:nvPr/>
        </p:nvGraphicFramePr>
        <p:xfrm>
          <a:off x="533520" y="1905120"/>
          <a:ext cx="380988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38098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4483080" cy="1832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15000" y="4267080"/>
            <a:ext cx="3808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5520" y="4191120"/>
            <a:ext cx="30492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6483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251-BEA1-45BD-A0BE-0FD4C0585D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rčovanie mediánu pri intervalovom rozdelení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á sa určiť len mediánový interval, do ktorého       patrí, v rámci tohto intervalu potom medián    určíme približ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Tahoma"/>
              </a:rPr>
              <a:t>na základe absolútnych počet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dolná hranica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7080f"/>
                </a:solidFill>
                <a:latin typeface="Tahoma"/>
              </a:rPr>
              <a:t>h</a:t>
            </a:r>
            <a:r>
              <a:rPr b="0" lang="sk-SK" sz="2400" spc="-1" strike="noStrike">
                <a:solidFill>
                  <a:srgbClr val="07080f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rozpätie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početnosť medián. interval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- kumulat. početnosť po medián.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467480" y="1828800"/>
                <a:ext cx="42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029200" y="335268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5800" y="3733920"/>
                <a:ext cx="652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4720" y="4419720"/>
                <a:ext cx="9669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C46-BD2B-4FF6-9939-B2F9CB39FE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ýpočet mediánu z interval. rozdel. početností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800600" y="1143000"/>
                <a:ext cx="34290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2" name=""/>
          <p:cNvGraphicFramePr/>
          <p:nvPr/>
        </p:nvGraphicFramePr>
        <p:xfrm>
          <a:off x="685800" y="1447920"/>
          <a:ext cx="3886200" cy="33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388620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257800" y="3124080"/>
          <a:ext cx="2209680" cy="172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124080"/>
                    <a:ext cx="22096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09480" y="5029200"/>
          <a:ext cx="2667240" cy="371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029200"/>
                    <a:ext cx="26672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34600" y="5035680"/>
            <a:ext cx="51656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stredný plat je 11 869 SK, čo znamená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že 50% pracovníkov má vyšší a 5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ovníkov nižšší ako 11 869 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C43-EFC3-4A00-8518-540A1D9F41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Modus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 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ajpočetnejšia alebo najčastejšie sa vyskytujúca hodnota v štat.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je definovaný v jednovrcholových rozdeleniach početností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09680" y="1676520"/>
                <a:ext cx="327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81480" y="4191120"/>
                <a:ext cx="114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1371600" y="3657600"/>
          <a:ext cx="2971800" cy="209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297180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H="1">
            <a:off x="2286000" y="4419720"/>
            <a:ext cx="2819520" cy="228600"/>
          </a:xfrm>
          <a:prstGeom prst="line">
            <a:avLst/>
          </a:prstGeom>
          <a:ln cap="sq" w="22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76720" y="4495680"/>
            <a:ext cx="761760" cy="457200"/>
          </a:xfrm>
          <a:prstGeom prst="ellipse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8CC-997A-4D98-9BF1-137CD44D5B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prostredne sa dá určiť v štat. súbore, ak poznáme individuálne hodnoty znaku x a ich početnost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prípade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intervalového rozdelenia početnosti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sa priamo určí iba modálny interval, t.j. interval s najväčšou početnosťou v štat. súbore. V rámci tohto intervalu sa modus určí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B9E-AD47-4233-8D99-1CF7261F5D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86200" y="24382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a základe vzťahu početností modálneho a priľahlých intervalov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- dolná hranica modálneho intervalu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- rozpätie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predchádza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i="1" lang="sk-SK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- rozdiel medzi početnosťou modálneho a nasledujúceho interval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419720" y="685800"/>
                <a:ext cx="281916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457200" y="990720"/>
          <a:ext cx="3352680" cy="290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5268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85800" y="4191120"/>
          <a:ext cx="1981080" cy="12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191120"/>
                    <a:ext cx="1981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9480" y="5791320"/>
          <a:ext cx="2286000" cy="31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791320"/>
                    <a:ext cx="228600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404520" y="5535720"/>
            <a:ext cx="44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jpočetnejším platom je 12 175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1A0-1A59-4D66-A8CA-650C035432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zájomná poloha modusu, mediánu a aritmetického priemeru v štat. súb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pozi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negatívna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BFD-8A6E-41A7-A168-538AF1CEC0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Porovnanie modusu, mediánu a strednej hodno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38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E93-6D51-47BB-BD64-16DA5F71E9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opisné charakteristi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                  najvia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variability             používan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ikm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špicat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334120" y="2666880"/>
            <a:ext cx="1295280" cy="763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715000" y="2819520"/>
            <a:ext cx="990720" cy="5331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F94-86AC-4D9B-8A6A-D9C4F0A4C4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rvalové rozdelenie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1600" y="990720"/>
          <a:ext cx="571500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5715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85800" y="5105520"/>
          <a:ext cx="1914480" cy="771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05520"/>
                    <a:ext cx="19144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D8C-227F-4FAD-B4F3-B12D7C515F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2. Charakteristiky vari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ariabilita – menlivosť hodnôt znaku v štatistickom súb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miery variabili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ery variability, ktorých veľkosť ovplyvňujú len niektoré hodnoty znaku v súb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variačn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n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é rozpät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kvartilová odchýl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337-0A90-4BF2-92A5-A90AC52B9C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iery variability, ktorých veľkosť ovplyvňuje každá hodnota znaku v súbo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absolútne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rozpty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smerodajná (štandardná)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 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-</a:t>
            </a:r>
            <a:r>
              <a:rPr b="1" lang="sk-SK" sz="2800" spc="-1" strike="noStrike">
                <a:solidFill>
                  <a:srgbClr val="cc3300"/>
                </a:solidFill>
                <a:latin typeface="Tahoma"/>
              </a:rPr>
              <a:t> relatívne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- pomerná priemerná odchýl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- variančný koe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7D3-F30A-4842-B022-44DD21C6DA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rozptyl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k-SK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disperzia, varia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ruhý centrálny moment, priemerný štvorec odchýlo k od priemeru, meria variabilitu v druhých mocninách mernej jednotky- preto je 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neinterpretovateľ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počíta sa ak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81280" y="3048120"/>
                <a:ext cx="3159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90920" y="4572000"/>
                <a:ext cx="3848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EDF-3ADD-469E-85FE-37C34A6B6D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Smerodajná </a:t>
            </a:r>
            <a:r>
              <a:rPr b="0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(štandardná )</a:t>
            </a:r>
            <a:r>
              <a:rPr b="1" lang="sk-SK" sz="3000" spc="-1" strike="noStrike" u="sng">
                <a:solidFill>
                  <a:srgbClr val="000000"/>
                </a:solidFill>
                <a:uFillTx/>
                <a:latin typeface="Tahoma"/>
              </a:rPr>
              <a:t> odchýlka</a:t>
            </a:r>
            <a:r>
              <a:rPr b="0" lang="sk-SK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yjadruje variabilitu súboru v pôvodných merných jednotk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Relatívna miera variabilit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variančný koeficient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eria variabilitu v % (slúži na porovnávanie variability znakov vo viacerých súboro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029200" y="1752480"/>
                <a:ext cx="213372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38280" y="4876920"/>
                <a:ext cx="2851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350-41D4-4A50-AA4A-4FC02342C94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ariabilita v rozdelení platov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990720"/>
          <a:ext cx="800100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001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4648320"/>
          <a:ext cx="2133720" cy="170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648320"/>
                    <a:ext cx="2133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713680" y="4627440"/>
            <a:ext cx="5942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ajnou odchýlkou preds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uje 1 006 Sk, čo znamená, že za predpokladu jednovrchol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ého približne symetrického rozdel. Platov sa v interva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1 767 Sk +-1 006 S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achádza asi 68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latov pracovníko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ilita platov meraná smerod. odchýlkou predstavuje a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,55% z priemerneho plat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7F3-BB4F-4013-AF68-6FD851A92A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Charakteristiky šikmost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)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earsonova miera šikmosti-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rčuje mieru asymetrie podľa vzájomnej polohy modusu a priemeru- je približn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=0  symetrické rozde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pozi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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0  negatívna asymet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52480" y="2021040"/>
                <a:ext cx="1752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886200" cy="2941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4222800" cy="30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FBD-9072-4D12-B95B-52B0A33CD1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8483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b) koeficient šikm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asymetrie ) –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presnejšia (momentová) miera šikmosti, 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ezrozmerné číslo, vyhodnocuje sa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= 0 symetrické rozdele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g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pozitívna (ľavostranná)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2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  <a:ea typeface="Tahoma"/>
              </a:rPr>
              <a:t>&lt;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 negatívna (pravostranná) asymet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62320" y="3352680"/>
                <a:ext cx="27432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762120" y="4343400"/>
                <a:ext cx="30366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724280" y="4422600"/>
                <a:ext cx="335304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4BB-CD18-4DC7-88B7-A925636182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4.Charakteristika špicatos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bezrozmerné čís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= 0 normáln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l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ploch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k-SK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  <a:ea typeface="Tahoma"/>
              </a:rPr>
              <a:t>&gt;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0  špicatejšie rozdelen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3800" y="4267080"/>
                <a:ext cx="3370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668840" y="4297320"/>
                <a:ext cx="3635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A79-F2DB-4F98-9A62-7E636FC514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495680" y="1828800"/>
            <a:ext cx="4038840" cy="2057040"/>
            <a:chOff x="4495680" y="1828800"/>
            <a:chExt cx="4038840" cy="2057040"/>
          </a:xfrm>
        </p:grpSpPr>
        <p:sp>
          <p:nvSpPr>
            <p:cNvPr id="263" name=""/>
            <p:cNvSpPr/>
            <p:nvPr/>
          </p:nvSpPr>
          <p:spPr>
            <a:xfrm>
              <a:off x="4686120" y="2398320"/>
              <a:ext cx="3427560" cy="1429200"/>
            </a:xfrm>
            <a:custGeom>
              <a:avLst/>
              <a:gdLst/>
              <a:ahLst/>
              <a:rect l="l" t="t" r="r" b="b"/>
              <a:pathLst>
                <a:path w="5130" h="1907">
                  <a:moveTo>
                    <a:pt x="0" y="1850"/>
                  </a:moveTo>
                  <a:cubicBezTo>
                    <a:pt x="212" y="1800"/>
                    <a:pt x="850" y="1872"/>
                    <a:pt x="1275" y="1565"/>
                  </a:cubicBezTo>
                  <a:cubicBezTo>
                    <a:pt x="1700" y="1258"/>
                    <a:pt x="2110" y="0"/>
                    <a:pt x="2550" y="5"/>
                  </a:cubicBezTo>
                  <a:cubicBezTo>
                    <a:pt x="2990" y="10"/>
                    <a:pt x="3485" y="1283"/>
                    <a:pt x="3915" y="1595"/>
                  </a:cubicBezTo>
                  <a:cubicBezTo>
                    <a:pt x="4345" y="1907"/>
                    <a:pt x="4877" y="1821"/>
                    <a:pt x="5130" y="18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495680" y="3874680"/>
              <a:ext cx="403884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920" y="234072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229000" y="2324160"/>
              <a:ext cx="2926440" cy="1500480"/>
            </a:xfrm>
            <a:custGeom>
              <a:avLst/>
              <a:gdLst/>
              <a:ahLst/>
              <a:rect l="l" t="t" r="r" b="b"/>
              <a:pathLst>
                <a:path w="4380" h="2002">
                  <a:moveTo>
                    <a:pt x="0" y="1972"/>
                  </a:moveTo>
                  <a:cubicBezTo>
                    <a:pt x="105" y="1924"/>
                    <a:pt x="443" y="2002"/>
                    <a:pt x="630" y="1687"/>
                  </a:cubicBezTo>
                  <a:cubicBezTo>
                    <a:pt x="817" y="1372"/>
                    <a:pt x="883" y="164"/>
                    <a:pt x="1125" y="82"/>
                  </a:cubicBezTo>
                  <a:cubicBezTo>
                    <a:pt x="1367" y="0"/>
                    <a:pt x="1768" y="905"/>
                    <a:pt x="2085" y="1192"/>
                  </a:cubicBezTo>
                  <a:cubicBezTo>
                    <a:pt x="2402" y="1479"/>
                    <a:pt x="2648" y="1677"/>
                    <a:pt x="3030" y="1807"/>
                  </a:cubicBezTo>
                  <a:cubicBezTo>
                    <a:pt x="3412" y="1937"/>
                    <a:pt x="4099" y="1938"/>
                    <a:pt x="4380" y="197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8896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6880" y="182880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50880" y="1839960"/>
              <a:ext cx="791640" cy="39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7760" y="2166120"/>
              <a:ext cx="0" cy="235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79920" y="2154960"/>
              <a:ext cx="0" cy="23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83960" y="2154960"/>
              <a:ext cx="0" cy="23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3809880"/>
            <a:ext cx="4495680" cy="2028960"/>
            <a:chOff x="685800" y="3809880"/>
            <a:chExt cx="4495680" cy="2028960"/>
          </a:xfrm>
        </p:grpSpPr>
        <p:sp>
          <p:nvSpPr>
            <p:cNvPr id="274" name=""/>
            <p:cNvSpPr/>
            <p:nvPr/>
          </p:nvSpPr>
          <p:spPr>
            <a:xfrm>
              <a:off x="685800" y="583884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81160" y="4632120"/>
              <a:ext cx="3304800" cy="1160640"/>
            </a:xfrm>
            <a:custGeom>
              <a:avLst/>
              <a:gdLst/>
              <a:ahLst/>
              <a:rect l="l" t="t" r="r" b="b"/>
              <a:pathLst>
                <a:path w="5205" h="1828">
                  <a:moveTo>
                    <a:pt x="0" y="1780"/>
                  </a:moveTo>
                  <a:cubicBezTo>
                    <a:pt x="212" y="1727"/>
                    <a:pt x="838" y="1760"/>
                    <a:pt x="1275" y="1465"/>
                  </a:cubicBezTo>
                  <a:cubicBezTo>
                    <a:pt x="1712" y="1170"/>
                    <a:pt x="2158" y="0"/>
                    <a:pt x="2625" y="10"/>
                  </a:cubicBezTo>
                  <a:cubicBezTo>
                    <a:pt x="3092" y="20"/>
                    <a:pt x="3650" y="1222"/>
                    <a:pt x="4080" y="1525"/>
                  </a:cubicBezTo>
                  <a:cubicBezTo>
                    <a:pt x="4510" y="1828"/>
                    <a:pt x="4971" y="1762"/>
                    <a:pt x="5205" y="18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44760" y="3809880"/>
              <a:ext cx="2438280" cy="1990800"/>
            </a:xfrm>
            <a:custGeom>
              <a:avLst/>
              <a:gdLst/>
              <a:ahLst/>
              <a:rect l="l" t="t" r="r" b="b"/>
              <a:pathLst>
                <a:path w="3840" h="3135">
                  <a:moveTo>
                    <a:pt x="0" y="3135"/>
                  </a:moveTo>
                  <a:cubicBezTo>
                    <a:pt x="235" y="3035"/>
                    <a:pt x="1070" y="3058"/>
                    <a:pt x="1410" y="2535"/>
                  </a:cubicBezTo>
                  <a:cubicBezTo>
                    <a:pt x="1750" y="2012"/>
                    <a:pt x="1828" y="0"/>
                    <a:pt x="2040" y="0"/>
                  </a:cubicBezTo>
                  <a:cubicBezTo>
                    <a:pt x="2252" y="0"/>
                    <a:pt x="2385" y="2015"/>
                    <a:pt x="2685" y="2535"/>
                  </a:cubicBezTo>
                  <a:cubicBezTo>
                    <a:pt x="2985" y="3055"/>
                    <a:pt x="3600" y="2998"/>
                    <a:pt x="3840" y="312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5600" y="5060880"/>
              <a:ext cx="4143240" cy="712440"/>
            </a:xfrm>
            <a:custGeom>
              <a:avLst/>
              <a:gdLst/>
              <a:ahLst/>
              <a:rect l="l" t="t" r="r" b="b"/>
              <a:pathLst>
                <a:path w="6525" h="1122">
                  <a:moveTo>
                    <a:pt x="0" y="1120"/>
                  </a:moveTo>
                  <a:cubicBezTo>
                    <a:pt x="247" y="1063"/>
                    <a:pt x="970" y="972"/>
                    <a:pt x="1485" y="790"/>
                  </a:cubicBezTo>
                  <a:cubicBezTo>
                    <a:pt x="2000" y="608"/>
                    <a:pt x="2473" y="0"/>
                    <a:pt x="3090" y="25"/>
                  </a:cubicBezTo>
                  <a:cubicBezTo>
                    <a:pt x="3707" y="50"/>
                    <a:pt x="4617" y="758"/>
                    <a:pt x="5190" y="940"/>
                  </a:cubicBezTo>
                  <a:cubicBezTo>
                    <a:pt x="5763" y="1122"/>
                    <a:pt x="6247" y="1083"/>
                    <a:pt x="6525" y="112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38520" y="430488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240" y="474336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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162240" y="4524120"/>
              <a:ext cx="5997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009960" y="4057200"/>
              <a:ext cx="771120" cy="3618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45120" y="4981320"/>
              <a:ext cx="466560" cy="26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38520" y="3819240"/>
              <a:ext cx="752400" cy="3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AU" sz="1600" spc="-1" strike="noStrike" baseline="-25000">
                  <a:solidFill>
                    <a:srgbClr val="0000ff"/>
                  </a:solidFill>
                  <a:latin typeface="Symbol"/>
                  <a:ea typeface="Symbol"/>
                </a:rPr>
                <a:t></a:t>
              </a:r>
              <a:r>
                <a:rPr b="1" lang="en-AU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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21960" y="3200400"/>
            <a:ext cx="32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pica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8000" y="167652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eficient šikm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659-C88B-449C-832E-6A03C12D8E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Charakteristiky poloh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lebo </a:t>
            </a:r>
            <a:r>
              <a:rPr b="0" lang="sk-SK" sz="2800" spc="-1" strike="noStrike">
                <a:solidFill>
                  <a:srgbClr val="cc3300"/>
                </a:solidFill>
                <a:latin typeface="Tahoma"/>
              </a:rPr>
              <a:t>stredné hodnot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vyjadrujú určitú úroveň (polohu) znaku, okolo ktorej sú ostatné hodnoty viac či menej koncentr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41148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14800" y="4057560"/>
            <a:ext cx="4648320" cy="192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F28-C8CA-4453-8B99-56C278D32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íklady rozdelení</a:t>
            </a: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365120"/>
          <a:ext cx="8077320" cy="18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65120"/>
                    <a:ext cx="80773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95A-B9E9-4E76-9812-B709BF3AEB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rafické zobrazen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985680" y="1521000"/>
          <a:ext cx="2765520" cy="207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521000"/>
                    <a:ext cx="27655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495680" y="1555920"/>
          <a:ext cx="2668680" cy="200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555920"/>
                    <a:ext cx="266868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838080" y="3733920"/>
          <a:ext cx="2822760" cy="2112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733920"/>
                    <a:ext cx="28227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572000" y="3728880"/>
          <a:ext cx="2481120" cy="1863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728880"/>
                    <a:ext cx="248112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B75-ED13-4229-ACE9-90143DDE0E0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charakteristiky poloh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priemery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aritmet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geometr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 harmonick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aždý môže byť jednoduchý alebo vážen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ahoma"/>
              </a:rPr>
              <a:t>ostatné stredné hodnot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- mod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- mediá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40A-D67F-49FD-A9DB-9A24BFAF1B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charakteristiky polohy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vlast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Map Symbol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ypickou hodnotou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tatis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usia byť jednoznačne presne definova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 výpočte sa do úvahy berú všetky jednotky štat. súbo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byť ľahko zistiteľ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li by slúžiť k porovnávaniu stredných hodnôt za niekoľko súbor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ajú čo najmenej podliehať náhodnostiam výber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4C8-32EE-4551-ACF0-E5F1BA9D9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mer predstavuje často rovnomernosť aleb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rmu, ktorá neexistuje. Keď v priemere každ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je hus, je možné, že niektorí zjedia dve, re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iac, iní žiadn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61120" cy="353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109-6214-4576-A871-93F531106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 Black"/>
              </a:rPr>
              <a:t>1.1.1. Prieme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( napr. priemerná mzda, priemerná denná teplota, atď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emerná mzda (jednoduchý aritm. priem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8 400 Sk                     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  6 5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9 6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10 0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1 200 Sk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Tahoma"/>
              </a:rPr>
              <a:t>12 7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29 200 Sk : 3 = 9 400 Sk    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      29 200 Sk : 3 = 9 400 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28800" y="4267080"/>
            <a:ext cx="5815800" cy="2209680"/>
            <a:chOff x="1828800" y="4267080"/>
            <a:chExt cx="5815800" cy="2209680"/>
          </a:xfrm>
        </p:grpSpPr>
        <p:sp>
          <p:nvSpPr>
            <p:cNvPr id="103" name=""/>
            <p:cNvSpPr/>
            <p:nvPr/>
          </p:nvSpPr>
          <p:spPr>
            <a:xfrm>
              <a:off x="3489480" y="4717800"/>
              <a:ext cx="1188360" cy="64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9 400 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ff0000"/>
                  </a:solidFill>
                  <a:latin typeface="Times New Roman"/>
                </a:rPr>
                <a:t>prie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28800" y="5349240"/>
              <a:ext cx="5815800" cy="1127520"/>
              <a:chOff x="1828800" y="5349240"/>
              <a:chExt cx="5815800" cy="1127520"/>
            </a:xfrm>
          </p:grpSpPr>
          <p:sp>
            <p:nvSpPr>
              <p:cNvPr id="105" name=""/>
              <p:cNvSpPr/>
              <p:nvPr/>
            </p:nvSpPr>
            <p:spPr>
              <a:xfrm>
                <a:off x="1828800" y="537696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6 5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2146680" y="5349240"/>
                <a:ext cx="5497920" cy="1127520"/>
                <a:chOff x="2146680" y="5349240"/>
                <a:chExt cx="5497920" cy="1127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2146680" y="5651640"/>
                  <a:ext cx="5303160" cy="825120"/>
                  <a:chOff x="2146680" y="5651640"/>
                  <a:chExt cx="5303160" cy="8251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146680" y="5744880"/>
                    <a:ext cx="53031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406656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517920" y="5836320"/>
                    <a:ext cx="1188360" cy="640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 4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priem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2420640" y="5349240"/>
                  <a:ext cx="5223960" cy="485280"/>
                  <a:chOff x="2420640" y="5349240"/>
                  <a:chExt cx="5223960" cy="48528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242064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08372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06280" y="5651640"/>
                    <a:ext cx="0" cy="18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11228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 0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6456240" y="5349240"/>
                    <a:ext cx="118836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 700 Sk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" name=""/>
            <p:cNvGrpSpPr/>
            <p:nvPr/>
          </p:nvGrpSpPr>
          <p:grpSpPr>
            <a:xfrm>
              <a:off x="2407680" y="4267080"/>
              <a:ext cx="3893040" cy="472320"/>
              <a:chOff x="2407680" y="4267080"/>
              <a:chExt cx="3893040" cy="47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3160440" y="4647960"/>
                <a:ext cx="265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74840" y="4554720"/>
                <a:ext cx="0" cy="182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43320" y="45547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62932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66280" y="4556520"/>
                <a:ext cx="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36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11 2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794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9 6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07680" y="4267080"/>
                <a:ext cx="11883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1600" spc="-1" strike="noStrike">
                    <a:solidFill>
                      <a:srgbClr val="000000"/>
                    </a:solidFill>
                    <a:latin typeface="Times New Roman"/>
                  </a:rPr>
                  <a:t>8 400 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8B1-C9DB-4925-99CD-B31AB36D07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Tahoma"/>
              </a:rPr>
              <a:t>aritmetický prie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dnoduch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áže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 – počet pozorovaní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.....x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j=1,2,3,....n               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k-SK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=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57600" y="1295280"/>
                <a:ext cx="3079800" cy="16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38280" y="2971800"/>
                <a:ext cx="426744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CCA-D2E9-40A2-BBDE-2CDE4C2B91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m</cp:lastModifiedBy>
  <cp:lastPrinted>2004-02-23T07:23:34Z</cp:lastPrinted>
  <dcterms:modified xsi:type="dcterms:W3CDTF">2005-02-05T16:23:20Z</dcterms:modified>
  <cp:revision>86</cp:revision>
  <dc:subject/>
  <dc:title>PowerPoint Presentation</dc:title>
</cp:coreProperties>
</file>