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D1F6-B8B8-4538-8B4C-FE693D388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D8A-FC9F-496F-9311-F04E21E8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73B-D60F-4CA8-89E1-B3B673DD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2B1-B37D-4C58-8217-707F1B33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70EA-E6A2-4DF2-9962-DF7B6A71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A613-D672-4581-9633-9C796309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5908-7B8F-48FD-98E3-A817542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B905-F946-4CF3-A032-1876E8E6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3466-8335-4303-B069-E2F6BCDB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561B-1F4F-4A02-B4D8-2FBCF72B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A1A2-069C-43ED-B346-8728B020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C81F-9F49-4916-A076-25C53637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1765-F08A-4AE9-9908-BDD2F5D2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F4B6-4A45-4608-9F10-E508015A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309E-B9A5-423D-BA7B-612FBE67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38EC-B49B-465A-90A7-E74F35B7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74C1-81FB-402D-8B44-7427408E3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E96-84B8-4608-AB3C-2181BE6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084-8145-4688-AE3C-248E5492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A32-6551-47DA-93B5-45A1DFDA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1D9E-A5DD-47F2-9002-2E750AD3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9FE-93E4-4C39-890C-1B1F947E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2FD7-9A1A-47A2-9257-054D2504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E3E-4118-4422-B025-9702EBBE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1af91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1af91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92DC-E200-4159-846B-6D0810FAFC3B}" type="slidenum">
              <a:rPr b="0" lang="en-US" sz="1400" spc="-1" strike="noStrike">
                <a:solidFill>
                  <a:srgbClr val="d1af9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067C-417D-4E42-9372-496E880AE5B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743200" y="1981080"/>
          <a:ext cx="2779560" cy="278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981080"/>
                    <a:ext cx="277956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83076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71440" y="321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1143000"/>
            <a:ext cx="5105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Štatistická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ndukci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28600"/>
            <a:ext cx="48769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m pred seb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recko orechov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iahnem dovnútra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iahnem orech, rozlúsknem ho a je prázdny. Čo z toho môžem usúdiť?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Optimist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vie: “No toto! Jediný zlý orech a práve ten si musím vytiahnuť ja. Nech, aspoň sme sa ho zbavili.”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Pesimista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vie: ”Toho som sa obával , vrecko je plné zlých orechov”. A čo povie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štatistik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 Najskôr prizná, že pravdu môže mať aj pesimista a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ista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8" name="Untitled-3" descr=""/>
          <p:cNvPicPr/>
          <p:nvPr/>
        </p:nvPicPr>
        <p:blipFill>
          <a:blip r:embed="rId5"/>
          <a:stretch/>
        </p:blipFill>
        <p:spPr>
          <a:xfrm>
            <a:off x="7391520" y="3808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0E95-F802-4102-BADC-02BA832AB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Bodový odhad parametra Q  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známy parameter Q odhadujeme jedným číslom, geometricky jedným bodo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dhad -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stimátor, skrátene est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apisujem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est Q  =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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Najčastejšie odhadujeme: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strednú hodnot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1001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baseline="-25000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rozptyl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333333"/>
                </a:solidFill>
                <a:latin typeface="Times New Roman"/>
              </a:rPr>
              <a:t>a smerodajnú odchýlku </a:t>
            </a:r>
            <a:r>
              <a:rPr b="1" i="1" lang="en-US" sz="40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ts val="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5DD-0A8A-46A3-BA2E-8855E13ADD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lastnosti bodového odhad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bodových odhadov požadujeme splnenie nasledovných vlastností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skreslenosť (nevychýlenosť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konzist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výdatnos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suficienci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51120" cy="2971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791320" y="3733920"/>
            <a:ext cx="2743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vé dv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last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i vysvetlí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6C0-CEB1-4D0D-BD3F-0693CB498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70000"/>
              </a:lnSpc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Neskreslenosť 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419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Q) = 0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( u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= Q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.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každom konkrétnom prípade výberového skúmania sa dopúšťame chyby, avšak požadujeme aby stredná hodnota chýb bola rovná nule (t.j. aby sa  v priemere nulovali…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791320" y="2743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4419360" cy="32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943600" y="1752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705720" y="18288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715000" y="27432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95880" y="11430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858000" y="29718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943600" y="23623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086600" y="251460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48520" y="20574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553080" y="12952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705720" y="2362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304920" y="44956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symptoticky neskresleným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výberová charakteristika, pre ktorú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5120" y="5486400"/>
                <a:ext cx="30477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6553080" y="25909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6AF-7AFB-4E74-AD5B-533668F8B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Kon</a:t>
            </a:r>
            <a:r>
              <a:rPr b="1" lang="sk-SK" sz="3600" spc="-1" strike="noStrike">
                <a:solidFill>
                  <a:srgbClr val="004c2b"/>
                </a:solidFill>
                <a:latin typeface="Times New Roman"/>
              </a:rPr>
              <a:t>z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istencia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165320" y="1219320"/>
                <a:ext cx="49845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Q 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974880" y="2362320"/>
            <a:ext cx="614988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dstata konzistencie je v záko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ých čísel. Konzistencia zabezpeču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štatistickej praxi pri veľkých výbero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veľkú chybu odhadu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stačujúcou podmienkou konzistencie j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ymptotická neskreslenosť odhad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a splnenie vzťah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200400" y="5105520"/>
                <a:ext cx="34290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9EEB-92A2-4FEE-A4E6-D78C5F4014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Výdatnosť BO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aždá výberová charakteristika je náhodná veličina, ktorej variabilitu meriame rozptylo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1af91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a výdatný bodový odhad považujeme tú charakteristiku (ak máme k dispozícii niekoľko)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torá má najmenší rozpty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3962520" cy="264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4114800"/>
                <a:ext cx="32004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m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6AB-7935-4F7E-A3C8-CA6D247D30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strednej hodnoty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5920" y="1219320"/>
                <a:ext cx="84470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rPr>
                        <m:lit/>
                        <m:nor/>
                      </m:rPr>
                      <m:t xml:space="preserve">   ,   </m:t>
                    </m:r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0" y="34290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     dáva neskreslený odhad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latí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219320" y="350532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06640" y="3962520"/>
                <a:ext cx="59338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28600" y="51055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splnená postačujúca podmienka konzistencie 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je neskresleným a konzistentným odhadom strednej 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                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724280" y="5943600"/>
                <a:ext cx="1627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696080" y="2362320"/>
            <a:ext cx="1011240" cy="1904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819520" y="5943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09480" y="2133720"/>
                <a:ext cx="182880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2819520" y="2438280"/>
            <a:ext cx="5486400" cy="9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!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udeme nazývať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edná, resp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štandardná chyba priemer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09680"/>
            <a:ext cx="2286000" cy="1067040"/>
          </a:xfrm>
          <a:prstGeom prst="wedgeEllipseCallout">
            <a:avLst>
              <a:gd name="adj1" fmla="val 74236"/>
              <a:gd name="adj2" fmla="val -2663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720" y="6095880"/>
            <a:ext cx="7596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8001000" y="51814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9A0-B463-4F46-A819-01253E84E7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Bodový odhad rozptylu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36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,</a:t>
            </a:r>
            <a:r>
              <a:rPr b="1" lang="en-US" sz="36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resp. </a:t>
            </a:r>
            <a:r>
              <a:rPr b="1" i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16040" y="1371600"/>
                <a:ext cx="6948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E 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[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3526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7432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 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nie je neskreslený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dhadom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- poskytuje negatívne skreslený odha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reslenie predstavu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43400" y="3581280"/>
                <a:ext cx="13716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84080" y="5257800"/>
                <a:ext cx="52912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  E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685800" y="4343400"/>
            <a:ext cx="70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ptyl výberového súboru  je asymptotick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skresleným odhadom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ž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5C6-1FE4-4AD8-8811-DA0154D919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76280"/>
            <a:ext cx="8282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skreslený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bodovým odhadom rozptylu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u 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i="1" lang="en-US" sz="28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výberový rozptyl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1160" y="1752480"/>
                <a:ext cx="512100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-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990720" y="1828800"/>
            <a:ext cx="838080" cy="1295280"/>
          </a:xfrm>
          <a:prstGeom prst="ellipse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1828800" y="2895480"/>
            <a:ext cx="457200" cy="4572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960" y="3276720"/>
            <a:ext cx="26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esselova oprav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373392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iel medzi s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a s</a:t>
            </a:r>
            <a:r>
              <a:rPr b="0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 tým menší, čím je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äčši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eda pr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siahlých výberových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boroch je zanedbateľ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( už pri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 &gt; 50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240" y="4133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449568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33"/>
                </a:solidFill>
                <a:latin typeface="Times New Roman"/>
              </a:rPr>
              <a:t>Záver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48120" y="4572000"/>
                <a:ext cx="1904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5105520"/>
                <a:ext cx="22795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971640" cy="182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3F30-D1C8-4897-91E1-D4E2E7A96F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380880"/>
            <a:ext cx="802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U 400 náhodne vybraných domácností v určitom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gióne SR boli zisťované výdavky na alkoholické nápoj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cigarety. Z týchto údajov bol zistený výberový prieme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973 Sk a výberová smerodajná odchýlka s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286 Sk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utočníme bodový odhad strednej hodnoty a smerodajn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chýlky výdavkov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560" y="15238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" y="2819520"/>
                <a:ext cx="3276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191120" y="2743200"/>
                <a:ext cx="37335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6</m:t>
                    </m:r>
                    <m:r>
                      <m:rPr>
                        <m:lit/>
                        <m:nor/>
                      </m:rPr>
                      <m:t xml:space="preserve">S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09480" y="3581280"/>
                <a:ext cx="3429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66360" y="4994280"/>
            <a:ext cx="830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hadnutá stredná chyba priemeru je relatívne  malá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stavuje len 1.5% priemeru. 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Môžeme teda očakávať, že s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pri odhadoch priemernych výdavkov na alkoholick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nápoje a cigarety nedopúšťame veľkej chyb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777600" cy="23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36A0-D1F2-49CE-87A4-FD881B79A98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Porovnanie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štatistického znaku  X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v základnom súbore a rozdelenia </a:t>
            </a:r>
            <a:r>
              <a:rPr b="1" i="1" lang="en-US" sz="3200" spc="-1" strike="noStrike">
                <a:solidFill>
                  <a:srgbClr val="004c2b"/>
                </a:solidFill>
                <a:latin typeface="Times New Roman"/>
              </a:rPr>
              <a:t>výberového priemeru</a:t>
            </a: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371600" y="2286000"/>
            <a:ext cx="6933960" cy="3709800"/>
            <a:chOff x="1371600" y="2286000"/>
            <a:chExt cx="6933960" cy="3709800"/>
          </a:xfrm>
        </p:grpSpPr>
        <p:sp>
          <p:nvSpPr>
            <p:cNvPr id="192" name=""/>
            <p:cNvSpPr/>
            <p:nvPr/>
          </p:nvSpPr>
          <p:spPr>
            <a:xfrm>
              <a:off x="3565800" y="3474360"/>
              <a:ext cx="4739760" cy="2496600"/>
            </a:xfrm>
            <a:custGeom>
              <a:avLst/>
              <a:gdLst/>
              <a:ahLst/>
              <a:rect l="l" t="t" r="r" b="b"/>
              <a:pathLst>
                <a:path w="2592" h="1496">
                  <a:moveTo>
                    <a:pt x="0" y="1448"/>
                  </a:moveTo>
                  <a:cubicBezTo>
                    <a:pt x="220" y="1256"/>
                    <a:pt x="440" y="1064"/>
                    <a:pt x="624" y="824"/>
                  </a:cubicBezTo>
                  <a:cubicBezTo>
                    <a:pt x="808" y="584"/>
                    <a:pt x="920" y="0"/>
                    <a:pt x="1104" y="8"/>
                  </a:cubicBezTo>
                  <a:cubicBezTo>
                    <a:pt x="1288" y="16"/>
                    <a:pt x="1480" y="624"/>
                    <a:pt x="1728" y="872"/>
                  </a:cubicBezTo>
                  <a:cubicBezTo>
                    <a:pt x="1976" y="1120"/>
                    <a:pt x="2440" y="1384"/>
                    <a:pt x="2592" y="149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49280" y="5730480"/>
              <a:ext cx="613800" cy="106560"/>
            </a:xfrm>
            <a:custGeom>
              <a:avLst/>
              <a:gdLst/>
              <a:ahLst/>
              <a:rect l="l" t="t" r="r" b="b"/>
              <a:pathLst>
                <a:path w="336" h="64">
                  <a:moveTo>
                    <a:pt x="0" y="0"/>
                  </a:moveTo>
                  <a:cubicBezTo>
                    <a:pt x="148" y="32"/>
                    <a:pt x="296" y="64"/>
                    <a:pt x="336" y="48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4" name=""/>
            <p:cNvGraphicFramePr/>
            <p:nvPr/>
          </p:nvGraphicFramePr>
          <p:xfrm>
            <a:off x="1371600" y="2286000"/>
            <a:ext cx="6495120" cy="37098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2286000"/>
                      <a:ext cx="6495120" cy="370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6" name=""/>
            <p:cNvSpPr/>
            <p:nvPr/>
          </p:nvSpPr>
          <p:spPr>
            <a:xfrm>
              <a:off x="2424600" y="5169600"/>
              <a:ext cx="509076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4970160" y="2606400"/>
                  <a:ext cx="1316520" cy="63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2709720" y="4034880"/>
                  <a:ext cx="1272600" cy="63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9" name=""/>
            <p:cNvSpPr/>
            <p:nvPr/>
          </p:nvSpPr>
          <p:spPr>
            <a:xfrm flipH="1">
              <a:off x="4706640" y="2846880"/>
              <a:ext cx="87840" cy="2242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2680" y="2846880"/>
              <a:ext cx="0" cy="23227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800" y="5249880"/>
              <a:ext cx="52632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14800" y="5490360"/>
              <a:ext cx="166752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9320" y="5410080"/>
              <a:ext cx="54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179960" y="4128120"/>
                  <a:ext cx="70236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σ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n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 rot="10800000">
                <a:off x="2209320" y="167652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955-7CE9-4AC8-A0EF-5FE543163B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04920"/>
            <a:ext cx="888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chceme vedie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ť ako chutí víno, uložené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v hektolitrovom sude, nemusíme vypiť celý sud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333333"/>
                </a:solidFill>
                <a:latin typeface="Times New Roman"/>
              </a:rPr>
              <a:t>Stačí malý dúšok k posúdeniu jeho kvalit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057400"/>
            <a:ext cx="8825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však chceme zistiť, či náklad orechov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nákladnom aute je z veľkej časti pokazený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ačí keď vyberieme pár orechov z rôznych miest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ákladu a rozlúskeneme ich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však tomu je, ak majú byť opytovaní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estovaní a zaraďovaní ľudia, alebo domácnosti? Nedelia sa predsa len na “dobrých” a “zlých” ako orechy…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57F-81DE-4CFF-96D2-BE871AC7D3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parametra Q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219320"/>
          <a:ext cx="8001000" cy="495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19320"/>
                    <a:ext cx="8001000" cy="49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847800" y="1447920"/>
            <a:ext cx="7294320" cy="4604400"/>
            <a:chOff x="847800" y="1447920"/>
            <a:chExt cx="7294320" cy="4604400"/>
          </a:xfrm>
        </p:grpSpPr>
        <p:sp>
          <p:nvSpPr>
            <p:cNvPr id="210" name=""/>
            <p:cNvSpPr/>
            <p:nvPr/>
          </p:nvSpPr>
          <p:spPr>
            <a:xfrm>
              <a:off x="206856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36000" y="5334120"/>
              <a:ext cx="567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6000" y="510552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05720" y="5029200"/>
              <a:ext cx="0" cy="458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2640" y="3543480"/>
              <a:ext cx="2822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1 -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spoľahlivosť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85920" y="258912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2360" y="396540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1200" y="4041720"/>
              <a:ext cx="82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00200" y="4572000"/>
              <a:ext cx="552600" cy="8398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730920" y="4651200"/>
              <a:ext cx="470160" cy="7639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81240" y="1447920"/>
              <a:ext cx="49417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P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(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Q 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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 q</a:t>
              </a:r>
              <a:r>
                <a:rPr b="1" lang="en-US" sz="36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) = 1-</a:t>
              </a: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45040" y="2440080"/>
              <a:ext cx="219708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riziko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    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odhadu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7800" y="2363760"/>
              <a:ext cx="271152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,q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- dolná</a:t>
              </a:r>
              <a:r>
                <a:rPr b="0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a horná hranica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 baseline="-25000">
                  <a:solidFill>
                    <a:srgbClr val="333333"/>
                  </a:solidFill>
                  <a:latin typeface="Times New Roman"/>
                </a:rPr>
                <a:t>intervalu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3352680" y="2438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(g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08A4-8122-4E4A-89E3-4AABFA15FD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ový odhad strednej hodnoty 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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ho súboru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1743120"/>
            <a:ext cx="90709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dpokladajme, že štatistický znak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 základnom súbor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…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 ak vytvoríme výberový súbor o rozsahu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n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tom aj       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(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Intervaly spoľahlivosti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určujeme rôzne: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poznáme rozptyl základného súbor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(teoretické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      východisko), vytvoríme normovanú premennú: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05120" y="4800600"/>
                <a:ext cx="19047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243760" y="4819680"/>
            <a:ext cx="353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á rozdelenie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ávislé od stredn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y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191120" y="5257440"/>
            <a:ext cx="914400" cy="1522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 rot="10800000">
                <a:off x="1676520" y="2590560"/>
                <a:ext cx="455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A24-6376-4412-A9FE-FB95DB9A2F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38360" y="0"/>
                <a:ext cx="78199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-μ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σ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1" name=""/>
          <p:cNvGraphicFramePr/>
          <p:nvPr/>
        </p:nvGraphicFramePr>
        <p:xfrm>
          <a:off x="990720" y="25909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909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095880" y="5964120"/>
                <a:ext cx="10177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25146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00800" y="54864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46680" y="42022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3880" y="28954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560" y="29718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0E5-D09F-4301-81BE-7D7181BCDA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62120" y="1066680"/>
                <a:ext cx="838188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μ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/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-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508040" y="7048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6640" y="53352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úprav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3720" y="1066680"/>
            <a:ext cx="1676160" cy="1600200"/>
          </a:xfrm>
          <a:prstGeom prst="wedgeEllipseCallout">
            <a:avLst>
              <a:gd name="adj1" fmla="val 44981"/>
              <a:gd name="adj2" fmla="val 58629"/>
            </a:avLst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2819520"/>
            <a:ext cx="396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pustná chyba odhad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3886200"/>
            <a:ext cx="5410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je polovicou šírky interval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uje presnosť odhadu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ervalový odhad je vlastn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odový odhad 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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t.j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438280" y="5715000"/>
                <a:ext cx="1373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5410080" y="4648320"/>
            <a:ext cx="3429000" cy="0"/>
          </a:xfrm>
          <a:prstGeom prst="line">
            <a:avLst/>
          </a:prstGeom>
          <a:ln w="38160">
            <a:solidFill>
              <a:srgbClr val="3333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572000"/>
            <a:ext cx="0" cy="22860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7242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543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257800" y="4724280"/>
                <a:ext cx="1373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907-E9C8-4E8C-B8EE-3F7F8A2F01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380880"/>
            <a:ext cx="72230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62120" y="1752480"/>
                <a:ext cx="3124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57200" y="3429000"/>
            <a:ext cx="800100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súboru n </a:t>
            </a:r>
            <a:r>
              <a:rPr b="0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5800" y="4648320"/>
                <a:ext cx="41371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5486400" y="4952880"/>
            <a:ext cx="289548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(n-1)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57960" y="197172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3A4-0149-4FD2-9BEC-73AF24C964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17136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Bodový odhad výdavkov domácností regiónu 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kohol a cigarety doplníme o 95 %-ný interval spoľahliv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219320" y="1066680"/>
                <a:ext cx="236196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610920" y="3429000"/>
            <a:ext cx="8055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1.96 * 14.3 = 28.03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973 - 28.03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973 + 28.03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.j    944.97  &lt;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&lt;  1 001.03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%-nou spoľahlivosťou odhadujeme priemerné výdavky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intervale od 945 Sk po 1001 Sk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106668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=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943240" y="990720"/>
                <a:ext cx="20574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4479840" y="2000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1600200"/>
                <a:ext cx="355752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6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0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64000" y="2590920"/>
                <a:ext cx="43275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013360" y="3546360"/>
            <a:ext cx="35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Times New Roman"/>
              </a:rPr>
              <a:t>Excel... NORMSINV(0.97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0BE-25DE-4C55-818E-345D34CF9D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80880" y="422280"/>
            <a:ext cx="882036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e1438"/>
                </a:solidFill>
                <a:latin typeface="Times New Roman"/>
              </a:rPr>
              <a:t>Príklad: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Bol uskutočnený prieskum na zistenie k akej strat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a hmotnosti mrkvy dochádza po týždennom skladovaní v sklade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nalyzovaných bolo 20 vzoriek o hmotnosti 1kg na začiatk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uskladnenia a zistené straty na hmotnosti. Zo vzoriek bol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istená priemerná strata hmotnosti 49g a výber. smerodajná odchýlka 4g. Predpokladáme, že straty na hmotnosti majú normálne rozdel.Uskutočníte odhad priemernej straty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motnosti s 95% spoľahlivosťou. Preto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že n&lt;30, použijeme</a:t>
            </a:r>
            <a:r>
              <a:rPr b="0" lang="sk-SK" sz="2400" spc="-1" strike="noStrike">
                <a:solidFill>
                  <a:srgbClr val="333333"/>
                </a:solidFill>
                <a:latin typeface="Times New Roman"/>
              </a:rPr>
              <a:t> 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457200" y="3581280"/>
                <a:ext cx="322272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±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9 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μ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038480" y="3657600"/>
            <a:ext cx="411480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33"/>
                </a:solidFill>
                <a:latin typeface="Times New Roman"/>
              </a:rPr>
              <a:t>(n-1)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-kvantil Studentov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rozdelenia, t</a:t>
            </a:r>
            <a:r>
              <a:rPr b="0" lang="en-US" sz="2400" spc="-1" strike="noStrike" baseline="-25000">
                <a:solidFill>
                  <a:srgbClr val="333333"/>
                </a:solidFill>
                <a:latin typeface="Times New Roman"/>
              </a:rPr>
              <a:t>0.05(19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2.0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INV(0.05;19) - Exc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476568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 95 % spoľahlivosťou odhadujem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trednú stratu hmotnosti kilovej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zorky mrkvy v interva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d 47.1g po 50.9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66040" y="2438280"/>
            <a:ext cx="777960" cy="2362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179-C8C2-4164-8B69-7496B44557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4c2b"/>
                </a:solidFill>
                <a:latin typeface="Times New Roman"/>
              </a:rPr>
              <a:t>Od čoho závisí veľkosť prípustnej chyby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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 ??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7772400" y="1143000"/>
            <a:ext cx="809640" cy="15238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57200" y="1077840"/>
            <a:ext cx="74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d zvolenej spoľahlivosti odhadu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(1-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rednej - štandardnej chyby priemeru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torá je ovplyvnená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37360" y="428616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6120" y="2714760"/>
            <a:ext cx="685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ariabilitou znaku - nemôžeme ju ovplyvniť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eľkosťou výberového súboru, ktor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vplyvniť môžme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410080" y="4495680"/>
                <a:ext cx="3048120" cy="159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743040" y="4257720"/>
            <a:ext cx="49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rebný rozsah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súbor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i vopred zvolenej spoľahliv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požadovanej presnos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určiť nasledovn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5257800" y="3581280"/>
            <a:ext cx="1905120" cy="12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B55-E220-4755-9661-A239A7E397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Interval spoľahlivosti pre rozptyl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r>
              <a:rPr b="1" i="1" lang="en-US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4000" spc="-1" strike="noStrike" baseline="30000">
                <a:solidFill>
                  <a:srgbClr val="004c2b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a </a:t>
            </a:r>
            <a:r>
              <a:rPr b="1" i="1" lang="en-US" sz="4000" spc="-1" strike="noStrike">
                <a:solidFill>
                  <a:srgbClr val="004c2b"/>
                </a:solidFill>
                <a:latin typeface="Symbol"/>
                <a:ea typeface="Symbol"/>
              </a:rPr>
              <a:t>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676520" y="2133720"/>
                <a:ext cx="6661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724280" y="838080"/>
                <a:ext cx="266724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669600" y="120960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tvoríme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18120" y="2971800"/>
            <a:ext cx="6792480" cy="3580920"/>
            <a:chOff x="618120" y="2971800"/>
            <a:chExt cx="6792480" cy="3580920"/>
          </a:xfrm>
        </p:grpSpPr>
        <p:sp>
          <p:nvSpPr>
            <p:cNvPr id="287" name=""/>
            <p:cNvSpPr/>
            <p:nvPr/>
          </p:nvSpPr>
          <p:spPr>
            <a:xfrm>
              <a:off x="1604880" y="2971800"/>
              <a:ext cx="0" cy="306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523880" y="5964120"/>
              <a:ext cx="58676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38280" y="4648320"/>
              <a:ext cx="0" cy="13460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15000" y="5410080"/>
              <a:ext cx="0" cy="5986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2120" y="44784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77960" y="4114800"/>
              <a:ext cx="75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56760" y="4179960"/>
              <a:ext cx="98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13120" y="5964120"/>
              <a:ext cx="164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 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-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46760" y="5964120"/>
              <a:ext cx="117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1" lang="en-US" sz="28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8120" y="2971800"/>
              <a:ext cx="92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f(</a:t>
              </a:r>
              <a:r>
                <a:rPr b="0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</a:t>
              </a:r>
              <a:r>
                <a:rPr b="0" lang="en-US" sz="32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 rot="10800000">
                  <a:off x="6705720" y="5943240"/>
                  <a:ext cx="704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1981080" y="3352680"/>
              <a:ext cx="4800600" cy="2590920"/>
            </a:xfrm>
            <a:custGeom>
              <a:avLst/>
              <a:gdLst/>
              <a:ahLst/>
              <a:rect l="l" t="t" r="r" b="b"/>
              <a:pathLst>
                <a:path w="3360" h="1712">
                  <a:moveTo>
                    <a:pt x="0" y="1664"/>
                  </a:moveTo>
                  <a:cubicBezTo>
                    <a:pt x="284" y="912"/>
                    <a:pt x="568" y="160"/>
                    <a:pt x="960" y="80"/>
                  </a:cubicBezTo>
                  <a:cubicBezTo>
                    <a:pt x="1352" y="0"/>
                    <a:pt x="1952" y="912"/>
                    <a:pt x="2352" y="1184"/>
                  </a:cubicBezTo>
                  <a:cubicBezTo>
                    <a:pt x="2752" y="1456"/>
                    <a:pt x="3184" y="1616"/>
                    <a:pt x="3360" y="1712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05120" y="4724280"/>
              <a:ext cx="380880" cy="9144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67280" y="5105520"/>
              <a:ext cx="4572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5622840" y="3114720"/>
            <a:ext cx="32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vantily CH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Í-kvadrá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3047760" y="2971800"/>
            <a:ext cx="25146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5562360" y="2895480"/>
            <a:ext cx="7596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DCD-2B6B-417A-8DA0-82CAE5C8A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 odvodení dostávame: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33520" y="1371600"/>
                <a:ext cx="836748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  <m:r>
                              <m:t xml:space="preserve">)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 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χ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α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9280" y="4259160"/>
                <a:ext cx="8507520" cy="17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≤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 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χ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ra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533520" y="3200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lebo interval pre smerodajnú odchýlk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B92-290B-4A1D-9DCC-4A15756953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Výberové skúmanie</a:t>
            </a:r>
            <a:br>
              <a:rPr sz="4000"/>
            </a:b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2" name="Untitled-3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4035240" cy="4495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1480" y="1066680"/>
            <a:ext cx="373392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ieľom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úmania je pomocou výberového súboru odhadnúť vlastnosti základného súboru.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ýberový súbor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by mal byť </a:t>
            </a: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reprezentatívno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9e1438"/>
                </a:solidFill>
                <a:latin typeface="Times New Roman"/>
              </a:rPr>
              <a:t>vzorko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základné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súboru. Na obrázku tomu tak nie je.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A92-9063-4EE8-80EF-6A3A9BE2F7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Otázky na zamysleni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 čom sa odlišuje bodový a intervalový odhad parametrov základného súbor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ovplyvňuje zvolená spoľahlivosť presnosť odhad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e1438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o možno zaistiť intervalový odhad strednej hodnoty s vopred zvolenou spľahlivosťou a s vopred stanovenou presnosťou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67560" y="838080"/>
            <a:ext cx="1077840" cy="327672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124080" y="5029200"/>
            <a:ext cx="2210040" cy="16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9062-0DFD-4823-8E3D-BA32393DE5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ríklady výberového skúmani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Štatistika rodinných účtov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marketingový prieskum spotrebiteľských zvyklostí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ýberové skúmanie u podnikov vybraného sektora,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ieskum verejnej mienky 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ontrola kvality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A2B7-22B5-46D3-8AB9-1D12BD8E03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dstata výberového skúmania a základné 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828800"/>
            <a:ext cx="3886200" cy="350532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2438280"/>
            <a:ext cx="1752480" cy="1524240"/>
          </a:xfrm>
          <a:prstGeom prst="ellipse">
            <a:avLst/>
          </a:prstGeom>
          <a:solidFill>
            <a:srgbClr val="d1af91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ýberov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4880" y="1523880"/>
            <a:ext cx="5121000" cy="51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značeni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arametre základn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 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harakteristiky výberového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úboru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všeobecne 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...u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362320" y="4915080"/>
                <a:ext cx="1752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,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2438280" y="5029200"/>
            <a:ext cx="1219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114800" y="3429000"/>
            <a:ext cx="2743200" cy="10666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6120" y="3962520"/>
            <a:ext cx="231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ákladný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úbor, rozsah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p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733920" y="2362320"/>
            <a:ext cx="175248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538-ED51-4636-98E8-4D92CF425D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Základné úlohy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a odhadu (T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známe parametre základného súboru odhadujeme pomocou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stovanie štatistických hypotéz (TH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slovujeme predpoklady o neznámych parametroch základného súboru, ktoré formulujeme ako štatistické hypotézy a ich platnosť overujeme štatistickými postup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Štatistická indukcia (ŠI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304920"/>
            <a:ext cx="18846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D59-6A14-4285-B49F-F59BFA087A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Sprievodné úlohy ŠI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ovanie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sahu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ového súboru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enie spôsobu,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druhu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u jednotiek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eďže výberové charakteristiky sú z hľadiska základného súboru NV,  je potrebné zvoliť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právny model rozdelenia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ýberových charakteristí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249-2E59-48DF-B461-59553CFD25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Druhy výberu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0773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kritérií pre výber jednotiek rozlišujeme výber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áhodn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4c2b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mer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743200"/>
            <a:ext cx="79851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Z hľadiska opakovateľnosti jednotiek vo výbere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s opakovaní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ber bez opakova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819680"/>
            <a:ext cx="1235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191120"/>
            <a:ext cx="76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dľa členenia základného súboru pri výbe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oduchý vý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ložený, ktorý môže byť 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kupinov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4c2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lastný (stratifikovaný) a iné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004c2b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47C-964F-4A42-8DA3-BA6AF089B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ória štatistického odhadu (TO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0920" y="312372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ozlišujem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Bodový odhad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4c2b"/>
              </a:buClr>
              <a:buSzPct val="50000"/>
              <a:buFont typeface="Monotype Sort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ntervalový odhad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5760" y="114300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dstatou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teórie odhadu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je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neznám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parametr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základného súboru odhadovať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omocou </a:t>
            </a:r>
            <a:r>
              <a:rPr b="0" lang="en-US" sz="3200" spc="-1" strike="noStrike">
                <a:solidFill>
                  <a:srgbClr val="9e1438"/>
                </a:solidFill>
                <a:latin typeface="Times New Roman"/>
              </a:rPr>
              <a:t>výberových charakteristík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74880" y="3124080"/>
            <a:ext cx="21254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391-82FD-4FE2-84E8-CA9EAC12BE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3T09:02:27Z</dcterms:created>
  <dc:creator>FVS</dc:creator>
  <dc:description/>
  <dc:language>en-US</dc:language>
  <cp:lastModifiedBy>FVS</cp:lastModifiedBy>
  <cp:lastPrinted>2001-03-03T16:48:30Z</cp:lastPrinted>
  <dcterms:modified xsi:type="dcterms:W3CDTF">2004-03-09T09:55:56Z</dcterms:modified>
  <cp:revision>98</cp:revision>
  <dc:subject/>
  <dc:title>No Slide Title</dc:title>
</cp:coreProperties>
</file>