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9ED-80BC-448A-A661-8011B7DD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5D1-C2AE-422B-9670-A3EFADBD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BA4-07A9-4E32-8A04-14EAFF52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EC4-574C-4732-BC99-831BC55A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6F50-ABDC-482C-87F3-4FA957A4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F837-ADC7-4569-A23C-B21013F6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FD2D-7B0D-415C-9AB2-CB42D7B7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99E6-B7B4-45F0-9D04-7184187D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4546-1B56-4DC8-9896-5A7391DF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5904-AD43-4DCF-B3BE-185562B8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F29E-67DC-4B72-A3D2-D1E198E5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418-E3BE-44B8-94C1-68ED4EFB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67BD-9C77-4B57-905F-C9253FB7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5BDD-FB6A-47FD-9186-4DC3D4C2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55CD-FA56-42EC-A4A0-9FEC2772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0776-5554-4716-B205-761AC612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EFDA-6B68-4407-9C9B-E109B76C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525-5BE0-439D-814C-C1BB4C4F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B90-1225-4676-87E7-6A17FC20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CA6-67CA-483A-A380-19C5FBEC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98C-70EB-4E52-AD6E-71D267CB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328-6B41-4B57-BBB8-F2658486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5B0-1008-4463-86FD-FC31353B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1D0-C449-4A91-A293-AA394B58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CEC6-2BD1-4551-8828-26A415CC186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AB79-8A1E-4EC9-9096-32924570662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Analýza rozptylu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praxi často je potrebné porovnávať väčší počet nezávislých náhodných výberov z hľadiska úrovne,  t. zn. zaujíma nás hypotéz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aspoň jeno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i = 1, 2,…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m &gt; 2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de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 i =1, 2, …m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ú stredné hodnoty z normálne rozdelených základných súborov s rovnakým rozptylom </a:t>
            </a:r>
            <a:r>
              <a:rPr b="1" i="1" lang="sk-SK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sk-SK" sz="28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, t.j. 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N(</a:t>
            </a:r>
            <a:r>
              <a:rPr b="1" i="1" lang="sk-SK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sk-SK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sk-SK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 overeniu tejto hypotézy sa používa dôležitá štatistická metóda, nazývaná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ýza rozptyl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ráten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OVA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sp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. A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2133720"/>
                <a:ext cx="65534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4BC-1F7E-4DD2-AE61-852482F842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Princíp Analýzy rozptylu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413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dstata analýzy rozptylu spočíva v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rozklade celkovej variability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sledného skúmaného znak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880" y="2362320"/>
                <a:ext cx="838224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28600" y="4038480"/>
            <a:ext cx="162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elková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774960"/>
            <a:ext cx="4038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 medzi úrovňamifaktora, spôsobená pôsobením faktora A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 medz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riedami, riadkami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3800520"/>
            <a:ext cx="236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áhodná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ziduálna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o vnútri tri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142640" y="3429000"/>
            <a:ext cx="685800" cy="6094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114440" y="3276720"/>
            <a:ext cx="68580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3276720"/>
            <a:ext cx="0" cy="457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3526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34720" y="3352680"/>
            <a:ext cx="48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0120" y="3276720"/>
            <a:ext cx="48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5BD-45A6-4116-8C47-39E6E3E578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133720" y="4191120"/>
                <a:ext cx="2438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133720" y="1752480"/>
                <a:ext cx="23619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133720" y="3048120"/>
                <a:ext cx="251460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28600" y="1676520"/>
            <a:ext cx="163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edz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riedam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048120"/>
            <a:ext cx="168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ziduáln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343400"/>
            <a:ext cx="17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6840" y="6858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304920"/>
            <a:ext cx="228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et štvorcov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chýlok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304920"/>
            <a:ext cx="1258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up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oľ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1680" y="2057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5720" y="312408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.n -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2040" y="441972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-1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 .n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228600"/>
            <a:ext cx="16002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n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štvore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92840" y="24033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69160" y="369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9160" y="49942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31920" y="2048040"/>
            <a:ext cx="52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0840" y="3114720"/>
            <a:ext cx="51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r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31000" y="22860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-krit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u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391520" y="1523880"/>
                <a:ext cx="175248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04920" y="1447920"/>
            <a:ext cx="883908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457200"/>
            <a:ext cx="0" cy="502920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2971800"/>
            <a:ext cx="876312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5486400"/>
            <a:ext cx="54864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4191120"/>
            <a:ext cx="7086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457200"/>
            <a:ext cx="0" cy="5029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57200"/>
            <a:ext cx="0" cy="5029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533520"/>
            <a:ext cx="0" cy="3657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87B-B463-4BDA-977E-6F0C4F9B64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278000" y="1389240"/>
                <a:ext cx="5214960" cy="33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num>
                      <m:den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33520" y="457200"/>
            <a:ext cx="791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stovacie kritérium možno pr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jednofoktorovú AR - vyvážený poku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zapísať podrobne vzťahom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4724280"/>
            <a:ext cx="8839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dnotu F testovacieho kritéria porovonáme s príslušnou tabuľkovou hodnotou F-rozdeleni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 pre stupne voľnosti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(m-1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a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(m.n - 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CF3-B078-4B51-A943-D6BED0B2AA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304920"/>
            <a:ext cx="68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ozhodnutie o výsledku testu: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F vyp </a:t>
            </a:r>
            <a:r>
              <a:rPr b="0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F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((m-1,(N-m)) </a:t>
            </a:r>
            <a:r>
              <a:rPr b="0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Ho zamietam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takom prípade je aspoň efekt jednej úrovne faktora  preukazný, teda priemerna úroveň ukazovateľa sa štatisticky významne líši od ostatných. Resp. aspoň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den efekt </a:t>
            </a:r>
            <a:r>
              <a:rPr b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 štatisticky významn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lišný                                      od nuly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2743200"/>
            <a:ext cx="4997520" cy="2538360"/>
          </a:xfrm>
          <a:custGeom>
            <a:avLst/>
            <a:gdLst/>
            <a:ahLst/>
            <a:rect l="l" t="t" r="r" b="b"/>
            <a:pathLst>
              <a:path w="2832" h="1272">
                <a:moveTo>
                  <a:pt x="0" y="1016"/>
                </a:moveTo>
                <a:cubicBezTo>
                  <a:pt x="112" y="508"/>
                  <a:pt x="224" y="0"/>
                  <a:pt x="576" y="8"/>
                </a:cubicBezTo>
                <a:cubicBezTo>
                  <a:pt x="928" y="16"/>
                  <a:pt x="1736" y="856"/>
                  <a:pt x="2112" y="1064"/>
                </a:cubicBezTo>
                <a:cubicBezTo>
                  <a:pt x="2488" y="1272"/>
                  <a:pt x="2660" y="1264"/>
                  <a:pt x="2832" y="1256"/>
                </a:cubicBezTo>
              </a:path>
            </a:pathLst>
          </a:custGeom>
          <a:noFill/>
          <a:ln w="572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14600" y="3505320"/>
            <a:ext cx="0" cy="186372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5486400"/>
            <a:ext cx="2590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ritický o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or zatnu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5334120"/>
            <a:ext cx="533376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4191120"/>
            <a:ext cx="0" cy="11430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46880" y="5375160"/>
            <a:ext cx="77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5867280"/>
            <a:ext cx="0" cy="457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6324480"/>
            <a:ext cx="2209680" cy="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14600" y="5451480"/>
            <a:ext cx="29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or nezamietnuti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07000" y="3809880"/>
            <a:ext cx="236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 vyp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F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o nezamiet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C4A-81D6-493A-A98B-DED46FF9B8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k nulovú hypotézu zamietame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istili sme len, že je preukazný vplyv faktora na skúmaný znak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ďalej je potrebné skúmať medzi ktorými úrovňami faktora je a medzi ktorými nie je preukazný rozdiel - k tomúto účelu sa používajú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esty kontrast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dzi testy kontrastov patria: Duncanov test, Scheffeho test, Tuckey test a iné…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90C-E8DA-49D3-B203-F688F221F0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odmienky použitia AR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y pochádzajú z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ormálnych rozdelení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rušenie tohto predpokladu nemá podstatnejší vplyv na výsledky A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štatistická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ezávislosť náhodných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chýb e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zhodné reziduálne rozptyly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=   …. =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t.j.   D(e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všetky i = 1,2…., m, j=1,2, …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nto predpoklad je závažnejší a možno ho overovať Cochranovým, resp. Bartlettovým testom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BA5-525E-4035-A72D-C5DBEA45B2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Schéma jednofaktorového experimentu</a:t>
            </a:r>
            <a:br>
              <a:rPr sz="3200"/>
            </a:b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nevyvážený pokus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”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    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j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j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j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j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2362320"/>
            <a:ext cx="71625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1828800"/>
            <a:ext cx="0" cy="38098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1676520"/>
            <a:ext cx="0" cy="37335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5410080"/>
            <a:ext cx="7086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13716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ôzny počet opakovan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80" y="304812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Úrov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aktor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8320" y="3809880"/>
            <a:ext cx="761760" cy="68580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83808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92920" y="9144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24680" y="522288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762120"/>
            <a:ext cx="1524240" cy="914400"/>
          </a:xfrm>
          <a:prstGeom prst="wedgeEllipseCallout">
            <a:avLst>
              <a:gd name="adj1" fmla="val -11249"/>
              <a:gd name="adj2" fmla="val 67537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0120" y="838080"/>
            <a:ext cx="1523880" cy="1067040"/>
          </a:xfrm>
          <a:prstGeom prst="wedgeEllipseCallout">
            <a:avLst>
              <a:gd name="adj1" fmla="val -35000"/>
              <a:gd name="adj2" fmla="val 54314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556272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419720" y="5334120"/>
                <a:ext cx="198108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5715000" y="1981080"/>
            <a:ext cx="0" cy="34290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5181480"/>
            <a:ext cx="1295280" cy="914400"/>
          </a:xfrm>
          <a:prstGeom prst="wedgeEllipseCallout">
            <a:avLst>
              <a:gd name="adj1" fmla="val -53310"/>
              <a:gd name="adj2" fmla="val 6250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EFC-240A-4E34-A6BE-CDE5981993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33720" y="4175280"/>
                <a:ext cx="24382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068560" y="1752480"/>
                <a:ext cx="2492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133720" y="3032280"/>
                <a:ext cx="2514600" cy="102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28600" y="1676520"/>
            <a:ext cx="163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edz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riedam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3048120"/>
            <a:ext cx="168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ziduáln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4343400"/>
            <a:ext cx="17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6840" y="6858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304920"/>
            <a:ext cx="228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et štvorcov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chýlok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304920"/>
            <a:ext cx="1258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up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oľ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1680" y="2057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26080" y="3124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 -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02400" y="441972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91320" y="228600"/>
            <a:ext cx="16002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n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štvore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92840" y="24033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69160" y="369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62680" y="499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31920" y="2048040"/>
            <a:ext cx="52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30840" y="3114720"/>
            <a:ext cx="51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r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31000" y="22860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-krit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u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391520" y="1523880"/>
                <a:ext cx="175248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304920" y="1447920"/>
            <a:ext cx="883908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457200"/>
            <a:ext cx="0" cy="502920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971800"/>
            <a:ext cx="876312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5486400"/>
            <a:ext cx="54864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4191120"/>
            <a:ext cx="7086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48320" y="457200"/>
            <a:ext cx="0" cy="5029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457200"/>
            <a:ext cx="0" cy="5029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67480" y="533520"/>
            <a:ext cx="0" cy="3657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9920" y="4267080"/>
                <a:ext cx="25905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DAF-0D23-440D-89A2-5CD41EB663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Dvojfaktorová analýza rozptylu s jedným pozorovaním v každej podtriede ..DAR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važujme vplyv faktor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ktorý skúmame n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m -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úrovniach, i = 1,2,….,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ďalej uvažujme faktor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ktorý sledujeme n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úrovniach , j = 1,2, …, 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 každej i-tej úrovni faktora A a j-tej úrovni faktora B máme len jedno pozorovanie (opakovanie)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verujeme tak vplyv dvoch nulových hypotéz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0C4-4330-43B8-BC4C-A52E264F46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Schéma dvojfaktorového experimentu s je</a:t>
            </a:r>
            <a:r>
              <a:rPr b="1" lang="sk-SK" sz="3200" spc="-1" strike="noStrike">
                <a:solidFill>
                  <a:srgbClr val="004c2b"/>
                </a:solidFill>
                <a:latin typeface="Times New Roman"/>
              </a:rPr>
              <a:t>dným pozorovaním v každej 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podtriede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DAR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  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  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2362320"/>
            <a:ext cx="71625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14600" y="1752480"/>
            <a:ext cx="0" cy="38102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1676520"/>
            <a:ext cx="0" cy="37335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5410080"/>
            <a:ext cx="7086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02200" y="1143000"/>
            <a:ext cx="30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-úrovní faktora B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60" y="3048120"/>
            <a:ext cx="16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m-úrovn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aktora 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48320" y="3809880"/>
            <a:ext cx="761760" cy="68580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4320" y="106668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96080" y="327672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24680" y="522288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1600200"/>
            <a:ext cx="685800" cy="6858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43360" y="1488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9800" y="5562720"/>
            <a:ext cx="2512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ĺpcové súč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ĺpcové prieme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934320" y="1523520"/>
            <a:ext cx="38088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5791320"/>
            <a:ext cx="457200" cy="7596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077320" y="6019560"/>
            <a:ext cx="15228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848-66A2-4EFF-AC6B-62574E1F30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6212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praxi sa AR používa vtedy, ak skúmame vplyv jedného resp. viacerých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faktorov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ošetrení) na skúmaný štatistický znak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aktory budeme označovať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, B,…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 v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AR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ch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udeme zohľadňovať len ako kvalitatívne znaky s rôznymi obmenami -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úrovňami faktor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sledný štatistický znak bude kvantitatívny a označíme ho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ajčastejšie sa AR používa pri vyhodnocovaní biologických experiment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šimneme si najjednoduchší prípad AR s jedným faktorom, ktorú nazývame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jednofaktorová A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B02-B4FC-4806-9385-A4AB549C17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Overujeme platnosť dvoch nulových hypotéz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066680"/>
            <a:ext cx="8229600" cy="54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ypotéza pre faktor 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99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2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… 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i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m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.j. že efekty všetkých úrovni faktora A sú nulové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nepreukazné, oproti alternatívnej hypotéz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9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i 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0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re aspoň jedno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i = 1,2…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fekt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poň jednej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úrovne faktora je preukazný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znamne odlišný od nu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260360" y="914400"/>
                <a:ext cx="4367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μ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746280" y="304920"/>
            <a:ext cx="61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odel pre skúmaný znak môžme zapísať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FCB-EB34-40BE-8F23-164ACABBCE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09480" y="1066680"/>
            <a:ext cx="822960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ypotéza pre faktor B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2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…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j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n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.j. že efekty všetkých úrovni faktora A sú nulové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nepreukazné, oproti alternatívnej hypotéz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90000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j 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0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re aspoň jedno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j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j = 1,2…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fekt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j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poň jednej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úrovne faktora B je preukazný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znamne odlišný od nu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9ED3-7B33-409E-9D93-647B71BA93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8600" y="1523880"/>
            <a:ext cx="163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edz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am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4114800"/>
            <a:ext cx="168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ziduáln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5105520"/>
            <a:ext cx="17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380880"/>
            <a:ext cx="16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D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30492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et štvorcov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chýlok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304920"/>
            <a:ext cx="1258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up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oľ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1680" y="2057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5680" y="4419720"/>
            <a:ext cx="18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m-1)(n-1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228600"/>
            <a:ext cx="13716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štvore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845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4191120"/>
            <a:ext cx="48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5207040"/>
            <a:ext cx="48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31920" y="2048040"/>
            <a:ext cx="52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30840" y="4281480"/>
            <a:ext cx="51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r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31000" y="22860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-krit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u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7353360" y="1371600"/>
                <a:ext cx="17906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304920" y="1447920"/>
            <a:ext cx="883908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457200"/>
            <a:ext cx="0" cy="556272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2743200"/>
            <a:ext cx="876312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5105520"/>
            <a:ext cx="693432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3962520"/>
            <a:ext cx="8001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304920"/>
            <a:ext cx="0" cy="57150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457200"/>
            <a:ext cx="0" cy="55627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15200" y="457200"/>
            <a:ext cx="0" cy="47242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18680" y="1762200"/>
            <a:ext cx="48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00400" y="3149640"/>
            <a:ext cx="50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4680" y="278460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edz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ĺpcam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6095880"/>
            <a:ext cx="54100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38480" y="529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.n 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7467480" y="2666880"/>
                <a:ext cx="167652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6647760" y="3124080"/>
            <a:ext cx="52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4E4-F328-4A45-B960-D8E16B5F7C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ozklad celkovej variability skúmaného znaku:</a:t>
            </a:r>
            <a:br>
              <a:rPr sz="2800"/>
            </a:b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= S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+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+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 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74760" y="1219320"/>
                <a:ext cx="41274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27040" y="2438280"/>
                <a:ext cx="420516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12640" y="3962520"/>
                <a:ext cx="60613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49360" y="5105520"/>
                <a:ext cx="418284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4785480" y="1590840"/>
            <a:ext cx="418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 medzi riadkami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plyv faktora 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37400" y="2733840"/>
            <a:ext cx="403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 medzi stĺpcami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plyv faktora B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90600" y="3952800"/>
            <a:ext cx="17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ziduál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86040" y="5486400"/>
            <a:ext cx="28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elková variabilit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241-AA7A-45FE-A290-3C83611742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Skúmanie vzťahov medzi štatistickými znakmi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kúmanie vzťahov medzi kvalitatívnymi znakmi, napr. A</a:t>
            </a:r>
            <a:r>
              <a:rPr b="0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 , nazýme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meranie asociác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kúmanie vzťahov medzi kvantitatívnymi štatistickými znakmi  -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regresná a korelačná analýza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43A-806B-4F30-9415-85D61A1E35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Skúmanie asociácie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dkladom sú asociačné, resp. kontingenčné tabuľky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súhrné testovanie existencie štatistick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znamného vzťahu medzi kvalitatívnym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nakmi sa používa </a:t>
            </a:r>
            <a:r>
              <a:rPr b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99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- štvorcová kontingenc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o: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va znaky A a B sú nezávisl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znaky A a B závis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znak má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m - úrovní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obmie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 znak má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k - úrovní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 obmi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112-3B3B-48BD-ADE8-76A5ECB4C4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Formulovanie hypotéz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ávislosť znakov sa prejaví v rozdielnych početnostiach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pr. Skúmame či veľkosť balenia určitého výrobku je ovplyvnená početnosťou rodin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: výber veľkosti balenia výrobku nezávisí od počtu členov v rodin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: výber veľkosti balenia je ovplyvnená počtom členov v rodi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st spočíva v porovnávaní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empirických početností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eoretických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t,j, takých aké by mali empirické početnosti byť keby boli znaky A a B nezávisl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838-8397-4A7A-9DE4-D3A2F72584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imultánne početností, početnosti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ruhého stupňa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5238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 balen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1219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 rodin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1600200"/>
            <a:ext cx="852336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-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-4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 a viac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do   100g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0-150g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6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2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50g a viac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9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polu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4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2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1447920"/>
            <a:ext cx="0" cy="434340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438280"/>
            <a:ext cx="822960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715000"/>
            <a:ext cx="822960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91520" y="1600200"/>
            <a:ext cx="0" cy="403848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3581280"/>
            <a:ext cx="8001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4572000"/>
            <a:ext cx="8001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1523880"/>
            <a:ext cx="0" cy="403884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62720" y="1676520"/>
            <a:ext cx="0" cy="38098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2666880"/>
            <a:ext cx="838080" cy="53352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86600" y="304920"/>
            <a:ext cx="19191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arginál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počet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 resp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.(b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96080" y="5943600"/>
            <a:ext cx="838440" cy="53352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5756400"/>
            <a:ext cx="23288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č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pondentov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6019920"/>
            <a:ext cx="990720" cy="53316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571640" y="1600200"/>
            <a:ext cx="2590920" cy="46483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20120" y="1447920"/>
            <a:ext cx="228600" cy="12189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86200" y="2514600"/>
            <a:ext cx="838080" cy="68580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057400" y="3657600"/>
            <a:ext cx="762120" cy="68580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514600" y="990720"/>
            <a:ext cx="457200" cy="25905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29000" y="1066680"/>
            <a:ext cx="609480" cy="15242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C5C-3C0A-43F6-991A-C3F9462638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rčovanie teoretických početností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314360"/>
            <a:ext cx="732168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ychádza z vety o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nezávislosti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náhodný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javov A a B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(A</a:t>
            </a:r>
            <a:r>
              <a:rPr b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B) = P(A) . P(B)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teda ak znaky A a B sú nezávislé potom platí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(a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   = P(a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 .P(b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 na základe relatívnych početností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o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=  (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   .  (b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    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o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=  (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 .(b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           n         n              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4572000"/>
            <a:ext cx="914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7400" y="4572000"/>
            <a:ext cx="38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71800" y="4572000"/>
            <a:ext cx="38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29400" y="4572000"/>
            <a:ext cx="10666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13360" y="4943520"/>
            <a:ext cx="18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oretické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četnoest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5562360" y="4572000"/>
            <a:ext cx="152280" cy="457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B69-5CE2-44A9-B34E-543EDE09DA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Výpočet teoretických početností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(a</a:t>
            </a:r>
            <a:r>
              <a:rPr b="0" lang="en-US" sz="2800" spc="-1" strike="noStrike" baseline="-25000">
                <a:solidFill>
                  <a:srgbClr val="004c2b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4c2b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4c2b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= 70.40/300 = 9,33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5238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 balen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52680" y="1219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 rodin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1600200"/>
            <a:ext cx="852336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-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-4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 a viac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do   100g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9.33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32,67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8.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0-150g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6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2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16.67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58.33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50g a viac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9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14.00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49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polu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4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2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05120" y="1447920"/>
            <a:ext cx="0" cy="434340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2438280"/>
            <a:ext cx="822960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520" y="5715000"/>
            <a:ext cx="822960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91520" y="1600200"/>
            <a:ext cx="0" cy="403848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3581280"/>
            <a:ext cx="8001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4572000"/>
            <a:ext cx="8001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2680" y="1523880"/>
            <a:ext cx="0" cy="403884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562720" y="1676520"/>
            <a:ext cx="0" cy="38098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96080" y="5943600"/>
            <a:ext cx="838440" cy="53352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553080" y="5756400"/>
            <a:ext cx="23288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č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pondentov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33720" y="3124080"/>
            <a:ext cx="838080" cy="60984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3048120"/>
            <a:ext cx="990720" cy="60948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3600" y="3048120"/>
            <a:ext cx="838080" cy="60948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819160" y="304920"/>
            <a:ext cx="2438280" cy="27432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647960" y="457200"/>
            <a:ext cx="685800" cy="25146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38680" y="609480"/>
            <a:ext cx="990720" cy="24386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32F-4B0C-43FD-8A97-8D71C0AC2C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Úrovňou faktor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udeme označovať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ité množstvo kvantitatívneho faktora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pr. množstvo dávok čistých živín pri hnojení, rôzne príjmové skupiny domácností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itý druh kvalitatívneho faktora, napr. rôzne odrody tej istej plodiny, spôsoby umiestnenia výrobkov v predajni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R je </a:t>
            </a:r>
            <a:r>
              <a:rPr b="0" lang="sk-SK" sz="2800" spc="-1" strike="noStrike">
                <a:solidFill>
                  <a:srgbClr val="990000"/>
                </a:solidFill>
                <a:latin typeface="Times New Roman"/>
              </a:rPr>
              <a:t>zovšeobecnením Studentovho t-testu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pre nezávislé výber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R zároveň </a:t>
            </a:r>
            <a:r>
              <a:rPr b="0" lang="sk-SK" sz="2800" spc="-1" strike="noStrike">
                <a:solidFill>
                  <a:srgbClr val="990000"/>
                </a:solidFill>
                <a:latin typeface="Times New Roman"/>
              </a:rPr>
              <a:t>skúma vplyv kvalitatívneho faktora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(faktorov) na výsledný kvantitatívny znak - teda analyzuje vzťahy medzi znakm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DBF-A9BC-43CB-99B8-5B8E9D6A5E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Výpočet testovacieho kritéria a rozhodnutie: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549440" y="1066680"/>
                <a:ext cx="55213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- 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380880" y="2971800"/>
            <a:ext cx="874548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ypočítané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hladinu  významnosti</a:t>
            </a:r>
            <a:r>
              <a:rPr b="0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r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upne voľnosti </a:t>
            </a:r>
            <a:r>
              <a:rPr b="0" lang="en-US" sz="24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m-1).(k-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zamietame, t.zn. znaky A a B sú závisl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našom prípade to znamená, že počet členov rodiny štatisticky významne ovplyvňuje výber veľkosti balenia výrobku. Ďalej by sme mali merať silu (tesnosť) závislost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6FA-2915-4679-859F-11577BC1B5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Schéma jednofaktorového experimentu</a:t>
            </a:r>
            <a:br>
              <a:rPr sz="3200"/>
            </a:b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“vyvážený pokus”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2362320"/>
            <a:ext cx="71625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1828800"/>
            <a:ext cx="0" cy="38098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676520"/>
            <a:ext cx="0" cy="37335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410080"/>
            <a:ext cx="7086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760" y="114300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opakov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80" y="304812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Úrov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aktor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3809880"/>
            <a:ext cx="761760" cy="68580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83808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92920" y="9144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24680" y="522288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56800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 súč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486400"/>
            <a:ext cx="2286000" cy="914400"/>
          </a:xfrm>
          <a:prstGeom prst="wedgeEllipseCallout">
            <a:avLst>
              <a:gd name="adj1" fmla="val 64166"/>
              <a:gd name="adj2" fmla="val 7120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762120"/>
            <a:ext cx="1524240" cy="914400"/>
          </a:xfrm>
          <a:prstGeom prst="wedgeEllipseCallout">
            <a:avLst>
              <a:gd name="adj1" fmla="val -11249"/>
              <a:gd name="adj2" fmla="val 67537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838080"/>
            <a:ext cx="1523880" cy="1067040"/>
          </a:xfrm>
          <a:prstGeom prst="wedgeEllipseCallout">
            <a:avLst>
              <a:gd name="adj1" fmla="val -35000"/>
              <a:gd name="adj2" fmla="val 54314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24680" y="5105520"/>
            <a:ext cx="1219320" cy="990360"/>
          </a:xfrm>
          <a:prstGeom prst="wedgeEllipseCallout">
            <a:avLst>
              <a:gd name="adj1" fmla="val -67189"/>
              <a:gd name="adj2" fmla="val 20032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CE0-48CA-4673-AB84-CE26AE305D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41240" y="762120"/>
                <a:ext cx="28623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370400" y="609480"/>
                <a:ext cx="367992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50800" y="2666880"/>
                <a:ext cx="49467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212840" y="4267080"/>
                <a:ext cx="681192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N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763200" y="304920"/>
            <a:ext cx="25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iadkový súčet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6960" y="3049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elkový súčet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920" y="2057400"/>
            <a:ext cx="29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iadkový priemer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5680" y="396252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elkový priemer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9A8-8A65-43B0-9BEF-ECB9204E73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Model pre výslednú napozorovanú hodnot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85800" y="1219320"/>
                <a:ext cx="42609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μ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304920" y="2057400"/>
            <a:ext cx="883908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čakávaná hodnota pre všetky úrovne faktora 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pozorované hodnoty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i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fekt i-tej úrovne faktora 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ij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- náhodná chyba, ktorým je každé meranie zaťažené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sp. výsledok vplyv náhodných činiteľ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7480" y="1209600"/>
            <a:ext cx="277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de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 = 1, 2,…,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j = 1,2,…, 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45E-F450-4722-B35A-1CED271B71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9520" y="457200"/>
                <a:ext cx="35370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μ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80880" y="1590840"/>
            <a:ext cx="907740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ulovú hypotézu potom môžme formulovať aj nasledov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2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… 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i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m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.j. že efekty všetkých úrovni faktora A sú nulové, teda nepreukazné, oproti alternatívnej hypotéz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i 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0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re aspoň jedno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i = 1,2…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fekt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poň jednej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úrovne faktora je preukazný, významne odlišný od nu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964120" y="457200"/>
                <a:ext cx="27781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176360" y="600120"/>
            <a:ext cx="10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leb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DF9-5CDA-4DDA-87F2-7F2D5BF6F4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380880"/>
            <a:ext cx="762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mi jednotlivých parametrov sú nasledovné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ové charakteristiky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311120" y="1406520"/>
                <a:ext cx="646128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t</m:t>
                            </m:r>
                            <m:r>
                              <m:t xml:space="preserve">μ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 est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t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-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676520" y="2971800"/>
                <a:ext cx="39621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μ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886200"/>
                <a:ext cx="35812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953960" y="40384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čo môžme prepísať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14400" y="4952880"/>
                <a:ext cx="7162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-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B61-77BF-4F74-BDD2-C961EBC0B3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Porovnanie dvoch experimentov s tromi úrovňami faktora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0" y="3429000"/>
                <a:ext cx="838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886200" y="2895480"/>
                <a:ext cx="6094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05920" y="3505320"/>
                <a:ext cx="838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9546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89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33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066680" y="2438280"/>
            <a:ext cx="3353040" cy="3584160"/>
            <a:chOff x="1066680" y="2438280"/>
            <a:chExt cx="3353040" cy="3584160"/>
          </a:xfrm>
        </p:grpSpPr>
        <p:sp>
          <p:nvSpPr>
            <p:cNvPr id="134" name=""/>
            <p:cNvSpPr/>
            <p:nvPr/>
          </p:nvSpPr>
          <p:spPr>
            <a:xfrm>
              <a:off x="1066680" y="2438280"/>
              <a:ext cx="0" cy="31244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66680" y="5562720"/>
              <a:ext cx="327672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66680" y="4038480"/>
              <a:ext cx="3353040" cy="0"/>
            </a:xfrm>
            <a:prstGeom prst="line">
              <a:avLst/>
            </a:prstGeom>
            <a:ln w="381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600200" y="3809880"/>
              <a:ext cx="304560" cy="457200"/>
              <a:chOff x="1600200" y="3809880"/>
              <a:chExt cx="304560" cy="457200"/>
            </a:xfrm>
          </p:grpSpPr>
          <p:sp>
            <p:nvSpPr>
              <p:cNvPr id="138" name=""/>
              <p:cNvSpPr/>
              <p:nvPr/>
            </p:nvSpPr>
            <p:spPr>
              <a:xfrm>
                <a:off x="1600200" y="3886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00200" y="396216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00200" y="41148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600200" y="419076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00200" y="426708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600200" y="380988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666880" y="3886200"/>
              <a:ext cx="304560" cy="457200"/>
              <a:chOff x="2666880" y="3886200"/>
              <a:chExt cx="304560" cy="457200"/>
            </a:xfrm>
          </p:grpSpPr>
          <p:sp>
            <p:nvSpPr>
              <p:cNvPr id="145" name=""/>
              <p:cNvSpPr/>
              <p:nvPr/>
            </p:nvSpPr>
            <p:spPr>
              <a:xfrm>
                <a:off x="2666880" y="39625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66880" y="403848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66880" y="41911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666880" y="426708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66880" y="43434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66880" y="3886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581280" y="3733920"/>
              <a:ext cx="304560" cy="457200"/>
              <a:chOff x="3581280" y="3733920"/>
              <a:chExt cx="304560" cy="457200"/>
            </a:xfrm>
          </p:grpSpPr>
          <p:sp>
            <p:nvSpPr>
              <p:cNvPr id="152" name=""/>
              <p:cNvSpPr/>
              <p:nvPr/>
            </p:nvSpPr>
            <p:spPr>
              <a:xfrm>
                <a:off x="3581280" y="38102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81280" y="3886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81280" y="40388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581280" y="41148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81280" y="41911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581280" y="37339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1371600" y="2895480"/>
                  <a:ext cx="5652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y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743200" y="2971800"/>
                  <a:ext cx="5000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"/>
            <p:cNvSpPr/>
            <p:nvPr/>
          </p:nvSpPr>
          <p:spPr>
            <a:xfrm>
              <a:off x="3735720" y="556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9720" y="556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68680" y="556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19520" y="3505320"/>
              <a:ext cx="75960" cy="6858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733920" y="3429000"/>
              <a:ext cx="380880" cy="5335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76520" y="3581280"/>
              <a:ext cx="228600" cy="6098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800600" y="2362320"/>
            <a:ext cx="3429000" cy="3200400"/>
            <a:chOff x="4800600" y="2362320"/>
            <a:chExt cx="3429000" cy="3200400"/>
          </a:xfrm>
        </p:grpSpPr>
        <p:sp>
          <p:nvSpPr>
            <p:cNvPr id="167" name=""/>
            <p:cNvSpPr/>
            <p:nvPr/>
          </p:nvSpPr>
          <p:spPr>
            <a:xfrm>
              <a:off x="4800600" y="2438280"/>
              <a:ext cx="0" cy="31244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00600" y="5562720"/>
              <a:ext cx="327672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00600" y="4038480"/>
              <a:ext cx="3352680" cy="0"/>
            </a:xfrm>
            <a:prstGeom prst="line">
              <a:avLst/>
            </a:prstGeom>
            <a:ln w="381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410080" y="2362320"/>
              <a:ext cx="304560" cy="457200"/>
              <a:chOff x="5410080" y="2362320"/>
              <a:chExt cx="304560" cy="45720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24386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25146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410080" y="26672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10080" y="2743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10080" y="28195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410080" y="23623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477120" y="4648320"/>
              <a:ext cx="304560" cy="457200"/>
              <a:chOff x="6477120" y="4648320"/>
              <a:chExt cx="304560" cy="457200"/>
            </a:xfrm>
          </p:grpSpPr>
          <p:sp>
            <p:nvSpPr>
              <p:cNvPr id="178" name=""/>
              <p:cNvSpPr/>
              <p:nvPr/>
            </p:nvSpPr>
            <p:spPr>
              <a:xfrm>
                <a:off x="6477120" y="47246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77120" y="48006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477120" y="49532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77120" y="5029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477120" y="51055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477120" y="46483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315200" y="3733920"/>
              <a:ext cx="304560" cy="457200"/>
              <a:chOff x="7315200" y="3733920"/>
              <a:chExt cx="304560" cy="457200"/>
            </a:xfrm>
          </p:grpSpPr>
          <p:sp>
            <p:nvSpPr>
              <p:cNvPr id="185" name=""/>
              <p:cNvSpPr/>
              <p:nvPr/>
            </p:nvSpPr>
            <p:spPr>
              <a:xfrm>
                <a:off x="7315200" y="38102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15200" y="3886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15200" y="40388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15200" y="41148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15200" y="41911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15200" y="37339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4952880" y="2971800"/>
                  <a:ext cx="5652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y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5715000" y="4114800"/>
                  <a:ext cx="5000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7620120" y="2895480"/>
                  <a:ext cx="60948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y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"/>
            <p:cNvSpPr/>
            <p:nvPr/>
          </p:nvSpPr>
          <p:spPr>
            <a:xfrm flipV="1">
              <a:off x="5105520" y="2590560"/>
              <a:ext cx="457200" cy="5331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72200" y="4419720"/>
              <a:ext cx="380880" cy="5331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391160" y="3352680"/>
              <a:ext cx="228600" cy="6858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9558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341-EE1C-4387-A500-95EFC1A117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FVS</cp:lastModifiedBy>
  <dcterms:modified xsi:type="dcterms:W3CDTF">2001-03-26T10:53:09Z</dcterms:modified>
  <cp:revision>71</cp:revision>
  <dc:subject/>
  <dc:title>Test zhody rozdelenia empirického s teoretickým </dc:title>
</cp:coreProperties>
</file>