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E73-ADD8-4353-B5FF-10C8FED6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770-363C-4EBE-B6FB-E7BD55A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35D-4633-4E0B-A57E-514F04BA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5E5-3D8E-41ED-9144-90F3D024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14D7-41BA-43F6-BAFF-8FC87A96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620B-E0E0-4817-B084-80CCE8F7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9C90-38C0-4366-85F4-1CF16942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979F-348A-4781-B91C-4AADD41A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7AAD-19F3-452D-9819-33D47013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269F-42C1-48F5-81BA-2CA2E1FA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E39F-EF64-4A36-857F-D2A6322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5B7-EA40-4FD0-AABA-A193BF36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7914-6849-4B58-9D0B-BE66A523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80FF-3299-4479-B503-5B9F491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19D8-1901-4932-ACAC-6E4053EB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FF33-2628-4521-8C3B-8AF1B401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4B7-D4F2-4463-BAFA-D4FC5504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3E3-EEFF-4031-80BB-1A16647B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018-3293-402A-A72B-58B0BD5F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4C4-E425-4E39-8C96-F15ED68B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917-0651-46E1-BC8A-A2F92F9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06B-6FD0-4FD9-A548-54CA58C3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57C-6A73-478E-A0F7-25207D92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A82-0FC2-4A85-8881-87125D5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A40-F69F-4EAB-BE13-E03BC0B34E5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8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F94-46DF-4811-900C-0E53B4AF6F0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4c2b"/>
                </a:solidFill>
                <a:latin typeface="Times New Roman"/>
              </a:rPr>
              <a:t>Prednášky zo štatistik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4038840" cy="31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2269-85B2-4046-A2DD-329E61319B0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ákladný súbo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Súbor všetkých štatist. jednotiek, ktoré z hľadiska vecného, časového a priestorového vymedzenia do súboru patria</a:t>
            </a: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1240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Výberový súb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962520"/>
            <a:ext cx="7848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Vybraná časť jednotiek zo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predstavuje reprezentatívnu vzorku základného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420-0AC5-4B74-AED0-4F7E6171EB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Štatistické znak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ú vlastnosti štatististických jednotie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Môžeme ich rozdeľovať z rôznych hľadís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a)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dľa toho, či sa nachádzajú na všetkých štat. jednotkách daného súboru ich delíme n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spoločné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medzujú štatist. súbo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ariabilné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 predmetom štat.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BBB-4B88-4454-AFC4-CE9FB3E8D6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Times New Roman"/>
              </a:rPr>
              <a:t>b)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odľa toho, ako charakterizujú vlastnosti štat. jednotiek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nepriame,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istiteľné len nepriamo, napr. meranie kvality výrob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riam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priamo merateľné, napr. príje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Times New Roman"/>
              </a:rPr>
              <a:t>c)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odľa charakteru n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časo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priestoro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0DE-EF31-4A5C-B20D-C93D621BA2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d)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vecné štat. znaky delíme podľa ich charakteru n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vantitatívn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merateľné, môžu byť: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spojité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nadobúdajú ľubovoľné hodnoty z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hraničeného alebo neohraničeného intervalu,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mesačný príjem, výdavky n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traviny, výška žien a pod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 nadobúdajú izolované, väčšinou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celočíselné hodnoty, napr. vek, počet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ezaopatrených detí, počet rokov praxe v odbor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238880" y="2362320"/>
          <a:ext cx="68580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2362320"/>
                    <a:ext cx="6858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629400" y="2819520"/>
          <a:ext cx="47772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2819520"/>
                    <a:ext cx="477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077320" y="1905120"/>
          <a:ext cx="838080" cy="25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1905120"/>
                    <a:ext cx="8380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7DE-AC25-4366-8087-099CC50760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valitatívne znaky,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lovné, môžu byť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dichotomické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alternatív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pohlav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lynomické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multinomické, množn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vzdelanie, alebo…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391520" y="914400"/>
          <a:ext cx="11430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914400"/>
                    <a:ext cx="1143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172200" y="1219320"/>
          <a:ext cx="6984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1219320"/>
                    <a:ext cx="698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705720" y="4267080"/>
            <a:ext cx="1828800" cy="97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038480" y="4267080"/>
            <a:ext cx="2590920" cy="135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762120" y="4419720"/>
            <a:ext cx="2438280" cy="85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E92-2CF6-4FB8-980E-CB87E4BF3E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0720" y="762120"/>
            <a:ext cx="407844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Times New Roman"/>
              </a:rPr>
              <a:t>Rozdelenie štatistických znakov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8640" y="2809800"/>
            <a:ext cx="3009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3680" y="1119240"/>
            <a:ext cx="253368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ŠTATISTICKÉ</a:t>
            </a:r>
            <a:r>
              <a:rPr b="1" lang="cs-CZ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ZNAK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5800" y="2165400"/>
            <a:ext cx="2487600" cy="261720"/>
            <a:chOff x="685800" y="2165400"/>
            <a:chExt cx="2487600" cy="261720"/>
          </a:xfrm>
        </p:grpSpPr>
        <p:sp>
          <p:nvSpPr>
            <p:cNvPr id="130" name=""/>
            <p:cNvSpPr/>
            <p:nvPr/>
          </p:nvSpPr>
          <p:spPr>
            <a:xfrm>
              <a:off x="685800" y="2165400"/>
              <a:ext cx="104796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40404"/>
                  </a:solidFill>
                  <a:latin typeface="Times New Roman"/>
                </a:rPr>
                <a:t>SPOLOČNÉ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94760" y="2165400"/>
              <a:ext cx="117864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40404"/>
                  </a:solidFill>
                  <a:latin typeface="Times New Roman"/>
                </a:rPr>
                <a:t>VARIABILNÉ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51600" y="2165400"/>
            <a:ext cx="78588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PRIAM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59480" y="2165400"/>
            <a:ext cx="10479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NEPRIAM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7800" y="3083040"/>
            <a:ext cx="91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ČASOV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7480" y="3081240"/>
            <a:ext cx="13842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PRIESTOROV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87800" y="3083040"/>
            <a:ext cx="7858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5760" y="4127400"/>
            <a:ext cx="14400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KVALIT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65720" y="4129200"/>
            <a:ext cx="170172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KVANTIT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85920" y="5043600"/>
            <a:ext cx="1493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ALTERN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5043600"/>
            <a:ext cx="9158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MNOŽN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1920" y="5043600"/>
            <a:ext cx="91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SPOJIT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3960" y="5043600"/>
            <a:ext cx="11793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DISKRÉT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1773360"/>
            <a:ext cx="536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09600" y="19033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19033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47440" y="1903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424200" y="1903320"/>
            <a:ext cx="180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1600" y="2819520"/>
            <a:ext cx="1440" cy="25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38040" y="3865680"/>
            <a:ext cx="324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51600" y="3865680"/>
            <a:ext cx="144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89000" y="4781520"/>
            <a:ext cx="64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692160" y="4781520"/>
            <a:ext cx="324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1640" y="3865680"/>
            <a:ext cx="3009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94040" y="4781520"/>
            <a:ext cx="1701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35400" y="4781520"/>
            <a:ext cx="196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28960" y="4419720"/>
            <a:ext cx="144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51600" y="4459320"/>
            <a:ext cx="144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52560" y="1776240"/>
            <a:ext cx="14400" cy="122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2206"/>
                </a:moveTo>
                <a:lnTo>
                  <a:pt x="0" y="0"/>
                </a:lnTo>
                <a:lnTo>
                  <a:pt x="0" y="15441"/>
                </a:lnTo>
                <a:lnTo>
                  <a:pt x="18750" y="15441"/>
                </a:lnTo>
                <a:lnTo>
                  <a:pt x="18750" y="19853"/>
                </a:lnTo>
                <a:lnTo>
                  <a:pt x="0" y="2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2560" y="1776240"/>
            <a:ext cx="1800" cy="1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5120" y="1771560"/>
            <a:ext cx="468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9560" y="1405080"/>
            <a:ext cx="144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4480" y="2809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70680" y="1917720"/>
            <a:ext cx="324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7520" y="1901880"/>
            <a:ext cx="324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37200" y="4781520"/>
            <a:ext cx="648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073640" y="4781520"/>
            <a:ext cx="324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048120"/>
            <a:ext cx="8384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VECN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733-9D3E-4238-A95F-17546A415C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4c2b"/>
                </a:solidFill>
                <a:latin typeface="Times New Roman"/>
              </a:rPr>
              <a:t>1.3. Etapy štat. skúmani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. skúmanie sa skladá z troch etáp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67040" y="2657520"/>
            <a:ext cx="3000240" cy="3362400"/>
            <a:chOff x="2867040" y="2657520"/>
            <a:chExt cx="3000240" cy="3362400"/>
          </a:xfrm>
        </p:grpSpPr>
        <p:sp>
          <p:nvSpPr>
            <p:cNvPr id="171" name=""/>
            <p:cNvSpPr/>
            <p:nvPr/>
          </p:nvSpPr>
          <p:spPr>
            <a:xfrm>
              <a:off x="3252240" y="5409000"/>
              <a:ext cx="233388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štatistický rozb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17320" y="4095360"/>
              <a:ext cx="2333880" cy="5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spracovan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67040" y="2657520"/>
              <a:ext cx="3000240" cy="58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štatistické zisťovan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3440" y="4713480"/>
              <a:ext cx="5565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333333"/>
                  </a:solidFill>
                  <a:latin typeface="Wingdings"/>
                  <a:ea typeface="Wingdings"/>
                </a:rPr>
                <a:t>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5800" y="3326040"/>
              <a:ext cx="5565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333333"/>
                  </a:solidFill>
                  <a:latin typeface="Wingdings"/>
                  <a:ea typeface="Wingdings"/>
                </a:rPr>
                <a:t>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DEE-6D85-437F-84D5-EC06C54D55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Formy štat. zisťovani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: výkazníct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úpis – cenzu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anketa i i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Štat. zisťovan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: z hľadiska počtu jednotie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yčerpávajúce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k zisťujeme informácie o jednotkách celého základného súbo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ýberové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k zisťujeme informácie len o výberovom súbore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56C-E1BD-4BD8-BC5E-683BF06D9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dľa dĺžky resp.  periodicity časového intervalu štatistického zisťovania pozná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ické zisťovani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jednoráz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bežné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periodické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ravidelne sa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pakujú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       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nepravidelné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pakujúce sa v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epravidelných intervalo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38F-7EAA-4D3F-90A3-DE01CD43A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Štatistické tried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rvá fáz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spracovania štatististických údajov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usporiadanie jednotiek štatistického súboru do skupín (tried) podľa určitého štat. znaku alebo znakov, vymezenie typiských skupín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. znak, ktorý je kritéri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 triedení nazýva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triediacim znakom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409428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A6E-5382-49D1-948F-757136FD19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sk-SK" sz="4000" spc="-1" strike="noStrike">
                <a:solidFill>
                  <a:srgbClr val="800000"/>
                </a:solidFill>
                <a:latin typeface="Times New Roman"/>
              </a:rPr>
              <a:t>Štatistika</a:t>
            </a:r>
            <a:r>
              <a:rPr b="0" lang="sk-SK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004c2b"/>
                </a:solidFill>
                <a:latin typeface="Times New Roman"/>
              </a:rPr>
              <a:t>ako vedná disciplín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Times New Roman"/>
              </a:rPr>
              <a:t>Definuj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eme ju ako vedu o </a:t>
            </a: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metód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kvantitatívneho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hodnotenia </a:t>
            </a: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vlastnost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hromadných javo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3 významy pojmu „štatistika“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raktická činnos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štatistické úda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0000"/>
                </a:solidFill>
                <a:latin typeface="Times New Roman"/>
              </a:rPr>
              <a:t>vedná disciplí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8BA-8F43-4893-A30D-5A8957B44E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kladné kritériá pri trieden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sada úplnost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triedy musia byť vytvorené tak, aby každá jednotka mala šancu byť do niektorej z tried zatrieden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sada jednoznačnosti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triedy musia byť vytvorené tak, aby o každej jednotke bolo jednoznačne rozhodnuté do ktorej z tried má byť zaraden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E84-84F2-4294-BBFF-2A6B5CC492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lasifikácia triedenia podľa druh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triediaceho zna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časového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tvorenie časových rad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ecnéh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   - 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kvalitatív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kvantitatív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riestorového -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estorové zoskupenie jednotiek, napr. regionálne zatriedenie podniko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90476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A3A-4F7A-418D-8372-E0A2755BDC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Rozdelenie podľa počtu triediaci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nakov:- jednostupň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viacstupň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enie podľa hĺbky: - typologick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prehĺb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analytick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C65-8DB9-4829-A0C9-E3B187E8BE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Triedenie podľa kvalitatívnych. znakov </a:t>
            </a:r>
            <a:r>
              <a:rPr b="0" lang="sk-SK" sz="4000" spc="-1" strike="noStrike">
                <a:solidFill>
                  <a:srgbClr val="004c2b"/>
                </a:solidFill>
                <a:latin typeface="Times New Roman"/>
              </a:rPr>
              <a:t>(asociačné triedenie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značenie kvalitatívnych znakov - A, B, C, 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arianty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obmeny  znakov označuje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apr. dichotomické 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, </a:t>
            </a:r>
            <a:r>
              <a:rPr b="1" lang="sk-SK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lebo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lynomické –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.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tried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určitá skupina štat. jednotiek, ktorá má rovnakú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obmenu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(variant) alebo kombináciu obmien štat. znak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4038480"/>
          <a:ext cx="698400" cy="24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038480"/>
                    <a:ext cx="698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8001000" y="3962520"/>
          <a:ext cx="1143000" cy="25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3962520"/>
                    <a:ext cx="11430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07D-68E7-4D8F-81AD-158229E424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íklad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máme 81 pracovníkov a evidujeme u nich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- pohlavie, B - vzdelanie, C - funkc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každý znak má len dve obmen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mu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ži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VŠ      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vo funkci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ženy          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ez VŠ          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ez funkcie</a:t>
            </a:r>
            <a:r>
              <a:rPr b="0" lang="cs-CZ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značenie triedy – triednym symbol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38       (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17      (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14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43       (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64      (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iedny symbol                   triedna početnosť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800600"/>
            <a:ext cx="15264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648320"/>
            <a:ext cx="1143000" cy="53316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360-20F2-4973-9241-4E2B53E163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odvojné trieden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kombinovanie 2 triediacich znakov súčasne, výsledkom sú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sociačné tabuľky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mer 2 x 2)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ba triediace znaky sú alternatívne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ontigenčné tabuľky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spoň jeden zo znakov má viac ako 2 variant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B22-ECE8-455E-8C95-94D883D4B8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sociačná tabuľka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výsledok triedenia podľa pohlavia (A) a funkcie (C)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3880" y="2590920"/>
          <a:ext cx="624204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242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371600" y="2362320"/>
          <a:ext cx="6242040" cy="350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2362320"/>
                    <a:ext cx="62420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7200" y="1981080"/>
          <a:ext cx="8191440" cy="4476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1981080"/>
                    <a:ext cx="81914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596-57C3-4BB8-A246-5D3662F8A1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Zamyslenie nad výsledkom </a:t>
            </a:r>
            <a:br>
              <a:rPr sz="36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asociačnej tabuľky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žno konštatovať, že približ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vnomerne sú vo funkciách zastúpení muži aj ženy A/N 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áno, tak prečo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nie, čo sa Vám žiada prepočítať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ste prepočítali niečo naviac, napr. percentá, tak aká je teraz vaša odpoveď.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niečo ste zrejme zabudli !!!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sociačná tabuľka umožňuje analyzovať súvislosti medzi znakm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209680" cy="2170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525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506-AC51-426A-950D-AB9544472D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Triedenie podľa kvantitatívnych  znakov - variačné tried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Kvantitatívne znaky označujeme písmenami  z konca abecedy – X, Y, Z, 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ich obmeny –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..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.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enie súboru o rozsahu </a:t>
            </a:r>
            <a:r>
              <a:rPr b="1" i="1" lang="sk-SK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na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sk-SK" sz="36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poč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triedenie jednoduch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rozdelenie početnost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skupinové - intervalové rozdelenie početnost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724280" y="4495680"/>
            <a:ext cx="990720" cy="38124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15F-CF27-4C01-8548-348EE400B5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Rozdelenie početností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užijeme ho vtedy,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keď triediaci znak je diskrétny s malým počtom obmien, varia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absolútne početnosti ( poč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ezaopatrených detí)    i=1,2,3,4....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hodnota znak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3FA-203D-4007-8DC1-B3DED90319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858000" y="228600"/>
            <a:ext cx="197640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Etapy vývoja štatistik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3 etap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pisná štatis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popis štátu, „status“  stav, resp. štát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litická aritme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 úplný popis obyvateľstva, natalita, mortalita, vývoj obyvateľstv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induktívna štatis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moderná,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analytická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), výberové skúmanie, napr. štatistika rodinných účtov a pod., marketingový priesku, výskum verejnej mienky a pod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9EB-DC76-4602-B9AE-5C096671571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Rozdelenie početností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81280" y="17524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užijeme ho vtedy,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keď triediaci znak je diskrétny s malým počtom obmien, varia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i="1" lang="sk-SK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– absolútne početnosti (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nezaopatrených detí)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i=1,2,3,4.…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tried, obmi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i="1" lang="sk-SK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– hodnota, obmena zna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9480" y="1828800"/>
          <a:ext cx="38847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3884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90720" y="1752480"/>
          <a:ext cx="2076480" cy="3943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752480"/>
                    <a:ext cx="20764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81A-BDBE-48C4-94A9-1D8C1CA699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4800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4419720"/>
            <a:ext cx="4191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Počet intervalov </a:t>
            </a:r>
            <a:r>
              <a:rPr b="0" i="1" lang="sk-SK" sz="3200" spc="-1" strike="noStrike">
                <a:solidFill>
                  <a:srgbClr val="333333"/>
                </a:solidFill>
                <a:latin typeface="Tahoma"/>
              </a:rPr>
              <a:t>(m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Rozpätie intervalu </a:t>
            </a:r>
            <a:r>
              <a:rPr b="0" i="1" lang="sk-SK" sz="3200" spc="-1" strike="noStrike">
                <a:solidFill>
                  <a:srgbClr val="333333"/>
                </a:solidFill>
                <a:latin typeface="Tahoma"/>
              </a:rPr>
              <a:t>(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957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39720" y="1295280"/>
                <a:ext cx="78627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é rozdelenie početností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5AE-1381-459D-8463-07458EB6B8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Rozdelenie platov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905120"/>
          <a:ext cx="7239240" cy="413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05120"/>
                    <a:ext cx="72392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419720" y="112680"/>
          <a:ext cx="3581280" cy="1798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112680"/>
                    <a:ext cx="35812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C88-7B74-4934-91F6-0AE96C621D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Rozdelenie platov - histogram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90720" y="1828800"/>
          <a:ext cx="69339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69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163-D476-4DDF-9551-83ACEAF32F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1.2. Základné pojmy</a:t>
            </a:r>
            <a:r>
              <a:rPr b="0" lang="cs-CZ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evyhnutným predpokladom každéh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ického skúmania je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zorov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om pozorovaní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môže ísť 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jednoduché pozorovanie -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získanie údajov pozorovaním, meraním, 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Experiment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jmä v biologických a iných pokuso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BB5-8332-433F-B037-7226E830EC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ý jav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sa skladá z mnohý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individuálnych javov. Nositelia týchto javov sa nazývajú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štatistickými jednotkami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2860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Predmetom skúmania je hromadný jav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264-8DF2-4061-9EC6-2B65414C40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4c2b"/>
                </a:solidFill>
                <a:latin typeface="Times New Roman"/>
              </a:rPr>
              <a:t>Štatistická jednotk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3716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-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je základný prvok, na ktorom možno skúmať konkrétny prejav určitého hromadného javu a je základným a presne vymedzeným objektom pozorov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Výber štatistickej jednotky je určený cieľom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Napr.: sociálne slabšie rodiny v SR v r.200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1FC-7427-488B-B071-336A5F56F8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4c2b"/>
                </a:solidFill>
                <a:latin typeface="Times New Roman"/>
              </a:rPr>
              <a:t>Vymedzenie štatistických jednotiek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priestorové 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musí byť presne      vymedzený priestor, napr. Slovensk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časové -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medzenie obdobia, resp. okamihu, napr. kalendárny rok 200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bsahové vymedzenie , napr. domácností s čistým  príjmom pod 2500 Sk na 1 čle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8A5-6F1C-44FB-93E3-333870A42C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004c2b"/>
                </a:solidFill>
                <a:latin typeface="Times New Roman"/>
              </a:rPr>
              <a:t>Št</a:t>
            </a: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atistický súbor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je množina štatistických jednotiek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z ktorých  každá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yhovuj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určitým vlastnostiam, ktoré vymedzujú štatistický súbor z hľadiska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časového priestorového a vecného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a v iných vlastnostiach sa štatistické jednotky l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íši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lastnosti, v ktorých sa štatistické jednotky líšia sú predmetom skúmani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4c2b"/>
                </a:solidFill>
                <a:latin typeface="Times New Roman"/>
              </a:rPr>
              <a:t>Rozsah štatistického súbo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štat. jednotiek v štat. súbo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2BD-E7C0-4B8E-BB27-13BF27D7AE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Štatistický súbor býkov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štatistický súbor býkov môžu byť  spoločné nasledovné vlastnosti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leme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dobie chov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 býkov sa však bude líšiť napr. v hmotnosti, výkonnosti a pod. Tieto vlastnosti môžu byť predmetom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10080" y="1981080"/>
          <a:ext cx="34290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1981080"/>
                    <a:ext cx="34290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337-8094-4239-A265-D62BF8872F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1-02-15T18:08:48Z</cp:lastPrinted>
  <dcterms:modified xsi:type="dcterms:W3CDTF">2005-02-14T11:09:18Z</dcterms:modified>
  <cp:revision>68</cp:revision>
  <dc:subject/>
  <dc:title>Prezentace aplikace PowerPoint</dc:title>
</cp:coreProperties>
</file>