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E71F-9E63-42B1-8CCC-B2425AB7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523E-9722-47C1-8352-B3186021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C2B8-3E1A-49C2-80FD-E6FBD255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BEEB-3119-4188-BFA8-BAF62D23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29BE-EA20-487D-B264-AF19DA62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7A0F-26A4-4F2A-B5D1-7E5B0A72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63AF-4B22-450E-8B45-75DD88D6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5870-8D90-4B77-B8BA-5A2629CD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1346-139F-4F27-972D-411E5617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C167-1DCC-450B-935B-A28BFEE0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E118-856D-41C4-96F5-D6D7B8A2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323C-0311-442D-8EAE-8D5A5923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FD07-C331-4958-AEA8-E43FBB9F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3090-BE57-4CFF-8170-B4EFEB0A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1F0F-236B-4FD4-81F2-DE3A5091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A40D-2D18-4771-BD57-F4B14964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138D-7332-4E31-A5A2-901F4939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39F0-2D20-4FEB-BA39-35D517AA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4A88-A83D-4069-9691-E85301D5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ACA2-1C5E-43CB-B3F6-327680D8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B45E-0F1C-4D5A-AE0F-4EEF4AE3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F218-F0CC-4DCB-BA24-D8F821FD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BC99-ED86-4C6D-B6DB-4D6B4D65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18EB-53C4-4D58-9B66-ADC3E0E5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928D-9012-4D2D-849F-0E028D89597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2F66-05B8-4310-A693-38F4471FE6D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143000" y="609480"/>
            <a:ext cx="4800600" cy="13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4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estovani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905120"/>
            <a:ext cx="861048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štatistických  hypoté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4037400"/>
            <a:ext cx="7122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Nehovor: “Objavil som pravdu!”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ale radšej, “Objavil som jednu z právd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Kahlin Gibran “Prorok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5EDB-2007-4AE5-8A62-536FCDC99F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Chyba prvého druhu   </a:t>
            </a:r>
            <a:r>
              <a:rPr b="1" lang="en-US" sz="3600" spc="-1" strike="noStrike">
                <a:solidFill>
                  <a:srgbClr val="004c2b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chyba  druhého druhu </a:t>
            </a:r>
            <a:r>
              <a:rPr b="1" lang="en-US" sz="3600" spc="-1" strike="noStrike">
                <a:solidFill>
                  <a:srgbClr val="004c2b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5562720"/>
            <a:ext cx="75438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590920"/>
            <a:ext cx="4648320" cy="2984400"/>
          </a:xfrm>
          <a:custGeom>
            <a:avLst/>
            <a:gdLst/>
            <a:ahLst/>
            <a:rect l="l" t="t" r="r" b="b"/>
            <a:pathLst>
              <a:path w="2928" h="1496">
                <a:moveTo>
                  <a:pt x="0" y="1496"/>
                </a:moveTo>
                <a:cubicBezTo>
                  <a:pt x="260" y="1284"/>
                  <a:pt x="520" y="1072"/>
                  <a:pt x="768" y="824"/>
                </a:cubicBezTo>
                <a:cubicBezTo>
                  <a:pt x="1016" y="576"/>
                  <a:pt x="1256" y="16"/>
                  <a:pt x="1488" y="8"/>
                </a:cubicBezTo>
                <a:cubicBezTo>
                  <a:pt x="1720" y="0"/>
                  <a:pt x="1920" y="552"/>
                  <a:pt x="2160" y="776"/>
                </a:cubicBezTo>
                <a:cubicBezTo>
                  <a:pt x="2400" y="1000"/>
                  <a:pt x="2816" y="1264"/>
                  <a:pt x="2928" y="1352"/>
                </a:cubicBezTo>
              </a:path>
            </a:pathLst>
          </a:cu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2590920"/>
            <a:ext cx="4647960" cy="2832120"/>
          </a:xfrm>
          <a:custGeom>
            <a:avLst/>
            <a:gdLst/>
            <a:ahLst/>
            <a:rect l="l" t="t" r="r" b="b"/>
            <a:pathLst>
              <a:path w="2928" h="1496">
                <a:moveTo>
                  <a:pt x="0" y="1496"/>
                </a:moveTo>
                <a:cubicBezTo>
                  <a:pt x="260" y="1284"/>
                  <a:pt x="520" y="1072"/>
                  <a:pt x="768" y="824"/>
                </a:cubicBezTo>
                <a:cubicBezTo>
                  <a:pt x="1016" y="576"/>
                  <a:pt x="1256" y="16"/>
                  <a:pt x="1488" y="8"/>
                </a:cubicBezTo>
                <a:cubicBezTo>
                  <a:pt x="1720" y="0"/>
                  <a:pt x="1920" y="552"/>
                  <a:pt x="2160" y="776"/>
                </a:cubicBezTo>
                <a:cubicBezTo>
                  <a:pt x="2400" y="1000"/>
                  <a:pt x="2816" y="1264"/>
                  <a:pt x="2928" y="1352"/>
                </a:cubicBezTo>
              </a:path>
            </a:pathLst>
          </a:cu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3809880"/>
            <a:ext cx="0" cy="167652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495680" y="4876560"/>
            <a:ext cx="457200" cy="15228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495680" y="5105160"/>
            <a:ext cx="609840" cy="15228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572000" y="5333760"/>
            <a:ext cx="685800" cy="15228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876920" y="4876560"/>
            <a:ext cx="685800" cy="15228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4495680"/>
            <a:ext cx="4572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4800600"/>
            <a:ext cx="6858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5181480"/>
            <a:ext cx="11430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657600" y="4800240"/>
            <a:ext cx="457200" cy="2286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4343400"/>
            <a:ext cx="240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= P(H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/H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4495680"/>
            <a:ext cx="2743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= P(H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/H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23520" y="3516480"/>
            <a:ext cx="98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 - </a:t>
            </a:r>
            <a:r>
              <a:rPr b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3240" y="3505320"/>
            <a:ext cx="9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 - </a:t>
            </a:r>
            <a:r>
              <a:rPr b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90840" y="2479680"/>
            <a:ext cx="81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(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55000" y="2666880"/>
            <a:ext cx="81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(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295280"/>
            <a:ext cx="8458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 - </a:t>
            </a:r>
            <a:r>
              <a:rPr b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…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ravdepodobnosť prijatia správnej hypotéz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 - 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…sila testu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467480" y="1981080"/>
            <a:ext cx="1052640" cy="1981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715640" y="5537160"/>
            <a:ext cx="4463640" cy="10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avdepodobnosť prijatia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eď platí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40" y="5597280"/>
            <a:ext cx="4329360" cy="10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avdepodobnosť prijatia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eď platí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6698-B64E-4C4D-BA76-93A08C38BD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5360" y="685800"/>
            <a:ext cx="83905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hyba prvého druhu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 chyba druhého druhu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ú vzájomne previazanými chybami.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nižovanie chyby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edného duhu vedie k zväčšovaniu chyby druhého druhu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to je potrebné nájsť kompromis medzi nimi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 uvedeného dôvodu sa obvykle volí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= 0,0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AD33-B481-4B0A-A924-EAD7C99D5B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FOTO2" descr=""/>
          <p:cNvPicPr/>
          <p:nvPr/>
        </p:nvPicPr>
        <p:blipFill>
          <a:blip r:embed="rId2"/>
          <a:stretch/>
        </p:blipFill>
        <p:spPr>
          <a:xfrm>
            <a:off x="380880" y="0"/>
            <a:ext cx="8382240" cy="4078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396252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Anjel ako “objednávateľ si chce byť istý, že bocian nedodá príliš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veľa chlapcov. 52% alebo ešte viac sa mu zdá vo vzorovej zásielk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príliš mnoho. “Dodávatel</a:t>
            </a:r>
            <a:r>
              <a:rPr b="1" i="1" lang="sk-SK" sz="2400" spc="-1" strike="noStrike">
                <a:solidFill>
                  <a:srgbClr val="333333"/>
                </a:solidFill>
                <a:latin typeface="Times New Roman"/>
              </a:rPr>
              <a:t>ˇ“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bocian vie, že v priemere dodáva 51%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chlapcov, ale pri prísnych podmienkach “prebierky” by bolo 16%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jeho jeho zásielky odmietnuté, aj keď “celková produkcia” zodpovedá požiadavkám. Otázkou je ako je rozdelené riziko medzi dodávateľom a odberateľom. Na obrázku anjel neriskuje vôbec nič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7D83-1972-449E-A516-08EF0689D3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Postup testovania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ormulujeme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základnú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alternatívnu  hypotéz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volíme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ladinu významnosti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ypočítame potrebné výberové charakteristiky a zvolíme správne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testovacie kritérium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ktorého hodnotu vypočítame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hodneme o výsledku testu, t.j. o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zamietnutí, resp. nezamietnutí nulovej hypotézy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rovnaním hodnoty testovacieho kritéria s kritickými hodnotam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íslušného rozdelenia (nájdené v tabuľkách)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3AD1-2A27-4E84-8286-DA42B19109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Testy hypotéz o strednej hodnote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514520"/>
            <a:ext cx="83822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. Testy zhody strednej hodnoty so známou konštantou       H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: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631960"/>
            <a:ext cx="879660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ech štatistický znak X má  v základnom súbore  približne normálne rozdelenie ….N(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edpokladajme, že odhadovaná stredná hodnota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sa rovná známej konštante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, t.j.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: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proti alternatívnej hypotéze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: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 obostrannom tes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est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čom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… N(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/n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502160" y="3346560"/>
                <a:ext cx="1396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666880" y="541008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447920" y="502920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8B63-FA6E-49D5-8410-AF2BDEB7DF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) predpokladajme,</a:t>
            </a: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že</a:t>
            </a: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poznáme rozptyl       základného súboru </a:t>
            </a:r>
            <a:r>
              <a:rPr b="0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teoretický predpoklad)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48896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otom vytvoríme ako testovaciu chrakteristik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áhodnú veličinu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447920" y="2819520"/>
                <a:ext cx="2819160" cy="19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- 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5778360" y="319104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má …N(0,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50133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me transformovali  na známe teoretické rozdelenie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DD2C-0938-4891-B409-C9B0438352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990720" y="2362320"/>
          <a:ext cx="7162560" cy="380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362320"/>
                    <a:ext cx="71625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2514600" y="5257800"/>
            <a:ext cx="0" cy="380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5257800"/>
            <a:ext cx="0" cy="380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46680" y="3973680"/>
            <a:ext cx="123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1 -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2666880"/>
            <a:ext cx="0" cy="289584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560" y="274320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f(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28800" y="5859360"/>
                <a:ext cx="152388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756400" y="5859360"/>
                <a:ext cx="11365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974880" y="1260360"/>
            <a:ext cx="733104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 |u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Times New Roman"/>
              </a:rPr>
              <a:t>vyp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u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Times New Roman"/>
              </a:rPr>
              <a:t>1-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Times New Roman"/>
              </a:rPr>
              <a:t>/2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=&gt; H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nezamieta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 |u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Times New Roman"/>
              </a:rPr>
              <a:t>vyp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| &gt; u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Times New Roman"/>
              </a:rPr>
              <a:t>1-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Times New Roman"/>
              </a:rPr>
              <a:t>/2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=&gt; H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zamieta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Rozhodnutie o výsledku testu: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62760" y="5638680"/>
            <a:ext cx="2456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bor prijatia H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D0B5-E2DF-4015-A0A7-A2F7414B89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b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Ak nepoznáme rozptyl základného súboru, </a:t>
            </a:r>
            <a:br>
              <a:rPr sz="3200"/>
            </a:b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est 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 , 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a rozsah výberového 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súboru n &gt; 30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447920" y="2666880"/>
                <a:ext cx="259056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- 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4574160" y="2057400"/>
            <a:ext cx="32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ôžme použiť N(0,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4677840"/>
            <a:ext cx="64260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Ak |u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vyp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|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 u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1-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/2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=&gt; H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nezamietam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ak |u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vyp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| &gt; u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1-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/2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=&gt; H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zamieta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DD42-4028-4E4F-8AAB-FD47694B23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143000" y="2590920"/>
                <a:ext cx="2741760" cy="19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- 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380880" y="704880"/>
            <a:ext cx="828684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c)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Ak nepoznáme rozptyl základného súboru, </a:t>
            </a:r>
            <a:br>
              <a:rPr sz="3200"/>
            </a:b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est 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 , 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a rozsah výberového 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súboru je malý, n </a:t>
            </a:r>
            <a:r>
              <a:rPr b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 3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2743200"/>
            <a:ext cx="289548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Kritická hodnota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 t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 (n-1)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- kvantil   Studentovh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dele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5080" y="438480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yhodnotenie testu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066680" y="4876920"/>
            <a:ext cx="1347840" cy="1447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858000" y="52578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5104800"/>
            <a:ext cx="31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Doplňte sami !!!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-210960" y="2117520"/>
            <a:ext cx="249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Testovaci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kritérium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E2DE-70F1-4B6F-95A7-A14E554F22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B. Testy hypotéz o zhode dvoch stredných hodnôt nezávislých súborov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84360" y="2022480"/>
            <a:ext cx="26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44792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ech štatistický znak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X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á  v prvom základnom súbore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bližne normálne rozdelenie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….N(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24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Štatistický znak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á  v druhom základnom súbore  tiež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bližne normálne rozdelenie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….N(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edpokladajme, že odhadované stredné hodnoty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sú  zhodné, t.j. testujeme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: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proti alternatívnej hypotéze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: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 obostrannom tes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est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… N(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/n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est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… N(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/n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828800" y="5562720"/>
                <a:ext cx="6253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905120" y="5105520"/>
                <a:ext cx="581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5990-4637-4E21-8F25-5201D3E360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Testovanie </a:t>
            </a:r>
            <a:r>
              <a:rPr b="1" i="1" lang="sk-SK" sz="4400" spc="-1" strike="noStrike">
                <a:solidFill>
                  <a:srgbClr val="cc3300"/>
                </a:solidFill>
                <a:latin typeface="Times New Roman"/>
              </a:rPr>
              <a:t>š</a:t>
            </a: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tatistických hypotéz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arametre základného súboru nepozná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ôžeme však o nich vysloviť určité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predpoklad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y,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ktoré formulujeme ako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hypotézy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 overujeme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štatistickými postupmi - </a:t>
            </a:r>
            <a:r>
              <a:rPr b="1" i="1" lang="sk-SK" sz="2800" spc="-1" strike="noStrike">
                <a:solidFill>
                  <a:srgbClr val="990033"/>
                </a:solidFill>
                <a:latin typeface="Times New Roman"/>
              </a:rPr>
              <a:t>testovanie štatistických hypotéz </a:t>
            </a:r>
            <a:r>
              <a:rPr b="0" i="1" lang="sk-SK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sk-SK" sz="2800" spc="-1" strike="noStrike">
                <a:solidFill>
                  <a:srgbClr val="990033"/>
                </a:solidFill>
                <a:latin typeface="Times New Roman"/>
              </a:rPr>
              <a:t>(TH)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Overovať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možno nielen predpoklady o parametroch (napríklad strednej hodnote), ale aj 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o tvare rozdelenia štatistického znaku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(napr. testovanie zhody empirického rozdelenia početností s normálnym rozdelením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3F03-81BF-49FA-A744-FC9DD5FD34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predpokladajme, že poznáme rozptyly  základných súborov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(teoretický predpoklad)</a:t>
            </a:r>
            <a:br>
              <a:rPr sz="2800"/>
            </a:b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potom aj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2664000"/>
            <a:ext cx="541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2590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Vytvoríme ako testovaciu chrakteristiku náhodnú veličinu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33520" y="3429000"/>
                <a:ext cx="7689600" cy="19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b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-  {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-  {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055520" y="1219320"/>
                <a:ext cx="58201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3584520" y="5562720"/>
            <a:ext cx="29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kto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rá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má …N(0,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671E-8FDB-47E4-8E57-0E5D12C139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-38088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predpokladajme, že rozptyly  základných súborov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nepoznáme, ale obidva výberové súbory majú dostatočný rozsah n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&gt;30, n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&gt;30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potom môžeme použiť testovaciu chrakteristiku ako v bode a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rozptyly základných súborov nahradíme ich bodovými odhadmi:</a:t>
            </a:r>
            <a:br>
              <a:rPr sz="2800"/>
            </a:b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est 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1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 est 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2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5400" spc="-1" strike="noStrike">
                <a:solidFill>
                  <a:srgbClr val="9e1438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FA3D-D6A0-4C3E-8E77-1AB77BEA85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)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predpokladajme, že rozptyly  základných súborov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nepoznáme, pričom aspoň jeden z výberových súborov má malý rozsah n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30,  alebo n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30 </a:t>
            </a:r>
            <a:br>
              <a:rPr sz="2800"/>
            </a:b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Ak však môžeme predpokladať, že rozptyly sú zhodné, t.j.</a:t>
            </a:r>
            <a:br>
              <a:rPr sz="2800"/>
            </a:b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-25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,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ôžeme použiť testovaciu chrakteristiku </a:t>
            </a:r>
            <a:r>
              <a:rPr b="1" i="1" lang="en-US" sz="2800" spc="-1" strike="noStrike">
                <a:solidFill>
                  <a:srgbClr val="004c2b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, ktorá má Studentovo rozdelenie: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143000" y="2819520"/>
                <a:ext cx="6629400" cy="23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b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  {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!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457200" y="5234400"/>
            <a:ext cx="8018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odnotu testovacieho kritéria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t -vyp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porovnáme 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ritickou hodnotou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t 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(n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+n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- 2)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tupne voľnosti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6AB4-6DCE-4733-A1A3-883894E199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9220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d)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predpokladajme, že rozptyly  základných súborov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nepoznáme, pričom aspoň jeden z výberových súborov má malý rozsah n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30,  alebo n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30 </a:t>
            </a:r>
            <a:br>
              <a:rPr sz="2800"/>
            </a:b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Ne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ôžeme však predpokladať zhodu rozptylov(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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) </a:t>
            </a:r>
            <a:br>
              <a:rPr sz="3200"/>
            </a:b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(Overuje sa F-testom)</a:t>
            </a:r>
            <a:br>
              <a:rPr sz="3200"/>
            </a:b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ôžeme použiť približný Behrens-Fischerov test zhody stredných hodnôt pri nehomogénnej variancii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03A5-2609-4A5F-A6FE-38C157E8DC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C. Test hypotézy o zhode dvoch stredných hodnôt závislých súborov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1641600"/>
            <a:ext cx="90583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edpokladajme, že dvakrát po sebe uskutočníme merania na týc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stých štatistických jednotkách, čím získame nasledovné merania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1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x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…x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j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, …, x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…x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j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…, x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Údaje tvoria tzv. párové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ozorovania -tzv. závislé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áhodné výbery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Pre každú dvojicu, pár môžeme vypočítať diferenciu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Times New Roman"/>
              </a:rPr>
              <a:t>1j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Times New Roman"/>
              </a:rPr>
              <a:t>2j ,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5000" y="2743200"/>
            <a:ext cx="108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x 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 j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2743200"/>
            <a:ext cx="1371600" cy="685800"/>
          </a:xfrm>
          <a:prstGeom prst="ellipse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019560" y="3276720"/>
            <a:ext cx="75960" cy="6094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324480" y="2895120"/>
            <a:ext cx="685800" cy="3049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92040" y="3854520"/>
            <a:ext cx="377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dex súboru meraní v ča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= 1,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24066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dex poradia merani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j = 1,2,…,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548080" y="4876920"/>
                <a:ext cx="3897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 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F66F-3577-4525-902E-F8B4BFCA00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28600" y="-317880"/>
            <a:ext cx="773424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estovať budeme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o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,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alebo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o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d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proti alternatívnej hypotéze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o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d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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 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estovacie kritérium bude mať Studentovo rozdelenie s (n - 1) stupňami voľnost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447920" y="2209680"/>
                <a:ext cx="5410080" cy="23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sSub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</m:acc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304920" y="4214160"/>
            <a:ext cx="85341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Vyhodnotenie testu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Ak |t vyp.| &lt; t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 (n-1)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nezamietame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t.zn. Stredné hodnoty závislých súborov sú zhodné, resp. stredná hodnota diferencií sa štatisticky významne nelíši od nuly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Ak |t vyp.| 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t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 (n-1)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zamietame…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7A07-D8AE-4178-8117-D322B0485A9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Pr</a:t>
            </a:r>
            <a:r>
              <a:rPr b="1" i="1" lang="sk-SK" sz="3200" spc="-1" strike="noStrike">
                <a:solidFill>
                  <a:srgbClr val="990033"/>
                </a:solidFill>
                <a:latin typeface="Times New Roman"/>
              </a:rPr>
              <a:t>íklady závislých výberov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7720" y="1873080"/>
            <a:ext cx="8209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kúmame vplyv očkovacej látky proti slintačke u   ošípaných  na zníženie hmotnosti. Zatým účelom  náhodne vyberieme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0033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okusných zvierat a aplikujeme  im očkovacie sérum. Vážením pred očkovaním a dva týždne p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o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čkovaní získame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n -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árových hodnô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kúmame vplyv reklamy na výšku tržieb za vybraný výrobok.   Náhodne vyberieme </a:t>
            </a:r>
            <a:r>
              <a:rPr b="1" i="1" lang="en-US" sz="2400" spc="-1" strike="noStrike">
                <a:solidFill>
                  <a:srgbClr val="990033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-predajní a zisťujueme tržby pred reklamou a tri týždne po spustení reklamy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60156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A3FD-8865-474C-9E1A-3045022E003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Testy hypotéz o rozptyloch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600200"/>
            <a:ext cx="82296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. Test zhody rozptylu so známou  konštantou                                     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: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0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est </a:t>
            </a:r>
            <a:r>
              <a:rPr b="1" i="1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28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2400" spc="-1" strike="noStrike" baseline="30000">
                <a:solidFill>
                  <a:srgbClr val="9e143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oproti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: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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743200" y="3276720"/>
                <a:ext cx="304812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593640" y="3394080"/>
            <a:ext cx="184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testovaci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kritériu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22440" y="3225960"/>
            <a:ext cx="274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Má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rozdeleni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 (n-1) stupňami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voľnost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4952880"/>
            <a:ext cx="693432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62320" y="4724280"/>
            <a:ext cx="0" cy="30492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5880" y="4800600"/>
            <a:ext cx="0" cy="22860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2480" y="4876920"/>
            <a:ext cx="12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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 1-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 /2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4952880"/>
            <a:ext cx="102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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 /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5440" y="5105520"/>
            <a:ext cx="233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bor prijatia H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5880" y="5638680"/>
            <a:ext cx="175284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5486400"/>
            <a:ext cx="0" cy="152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62320" y="5486400"/>
            <a:ext cx="0" cy="152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61760" y="5638680"/>
            <a:ext cx="160020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10280" y="487692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bo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zamietnut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48006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bo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zamietnut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1616-3CA8-4C22-A0B0-5131E37000F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B. Test zhody dvoch rozptylov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: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est 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1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,  est 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2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oproti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: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&gt;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, </a:t>
            </a:r>
            <a:r>
              <a:rPr b="1" lang="en-US" sz="2800" spc="-1" strike="noStrike" baseline="30000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jednostrann</a:t>
            </a:r>
            <a:r>
              <a:rPr b="1" lang="sk-SK" sz="2800" spc="-1" strike="noStrike">
                <a:solidFill>
                  <a:srgbClr val="990033"/>
                </a:solidFill>
                <a:latin typeface="Times New Roman"/>
              </a:rPr>
              <a:t>ý test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0920" y="2057400"/>
            <a:ext cx="180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Testovaci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kritérium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819520" y="2057400"/>
                <a:ext cx="162540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4648320" y="2133720"/>
            <a:ext cx="4267080" cy="13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á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Fischerovo rozdeleni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o stupňami voľnosti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.v.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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 n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-1, s.v.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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 n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65760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ozn.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Do čitateľa dávame väčší ropzptyl, preto F&gt;</a:t>
            </a:r>
            <a:r>
              <a:rPr b="1" lang="sk-SK" sz="2400" spc="-1" strike="noStrike">
                <a:solidFill>
                  <a:srgbClr val="333333"/>
                </a:solidFill>
                <a:latin typeface="Times New Roman"/>
              </a:rPr>
              <a:t>1 a alternatívn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33"/>
                </a:solidFill>
                <a:latin typeface="Times New Roman"/>
              </a:rPr>
              <a:t>hypotéza môže byť iba jednostranná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495680"/>
            <a:ext cx="28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Vyhodnotenie testu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4800600"/>
            <a:ext cx="771192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k F vyp.  &lt; F 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sk-SK" sz="2400" spc="-1" strike="noStrike" baseline="-25000">
                <a:solidFill>
                  <a:srgbClr val="333333"/>
                </a:solidFill>
                <a:latin typeface="Times New Roman"/>
              </a:rPr>
              <a:t> ( </a:t>
            </a:r>
            <a:r>
              <a:rPr b="1" lang="sk-SK" sz="24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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, 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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)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ezamietame , rozptyly základných súborov môžeme považovať za zhodné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k F vyp. 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F 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sk-SK" sz="2400" spc="-1" strike="noStrike" baseline="-25000">
                <a:solidFill>
                  <a:srgbClr val="333333"/>
                </a:solidFill>
                <a:latin typeface="Times New Roman"/>
              </a:rPr>
              <a:t> ( </a:t>
            </a:r>
            <a:r>
              <a:rPr b="1" lang="sk-SK" sz="24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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, 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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)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zamietame , rozptyl prvého súboru (v čitateli) je signifikantne väčší od druhéh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CC07-1F55-4CD0-BC83-6EEBAEDA042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10000"/>
                </a:solidFill>
                <a:latin typeface="Times New Roman"/>
              </a:rPr>
              <a:t>Príklady: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hceme overiť, či sa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priemerné výdavky na potraviny v r. 2000 významne zvýšili oproti r.1999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pričom na základe výberového skúmania predstavovali v r. 1999 34% a v r. 2000 36%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robca reflektorov uvádza, že ich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tredná životnosť predstavuje 70 hodí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 Za tým účelom sa uskutočnilo výberové skúmanie a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a vzorke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20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flektorov sa zistila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priemerná životnosť 67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hodín a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výberová smerodajná odchýlka 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hodiny. Má výrobca pravdu ??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94A1-CEE2-4A7F-A509-BF453B3FE4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Základné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pojmy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ormulujeme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východiskovú - </a:t>
            </a:r>
            <a:r>
              <a:rPr b="1" i="1" lang="en-US" sz="3600" spc="-1" strike="noStrike">
                <a:solidFill>
                  <a:srgbClr val="990033"/>
                </a:solidFill>
                <a:latin typeface="Times New Roman"/>
              </a:rPr>
              <a:t>nulovú hypotézu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36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ktorá vždy tvrdí zhodu toho čo porovnávame - testujeme, napr. hpotézu o zhode strednej hodnoty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o známou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onštantou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0,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0,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všeobecne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: Q = Q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proti nulovej hypotéze formulujeme </a:t>
            </a:r>
            <a:r>
              <a:rPr b="1" i="1" lang="en-US" sz="3600" spc="-1" strike="noStrike">
                <a:solidFill>
                  <a:srgbClr val="990033"/>
                </a:solidFill>
                <a:latin typeface="Times New Roman"/>
              </a:rPr>
              <a:t>alternatívnu hypotézu H</a:t>
            </a:r>
            <a:r>
              <a:rPr b="1" i="1" lang="en-US" sz="36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i="1" lang="en-US" sz="3600" spc="-1" strike="noStrike">
                <a:solidFill>
                  <a:srgbClr val="990033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apr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0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všeobecne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: Q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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Q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obojstranný tes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sp.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: Q &gt; Q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       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jednostranné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: Q &lt; Q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tes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ulová a alternatívna hypotéza sa musia vzájomne vylučovať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5562360" y="5181120"/>
            <a:ext cx="533160" cy="2286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5562720"/>
            <a:ext cx="533520" cy="2286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02C9-62BE-4E82-8D6F-85B74DB812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16960" y="171360"/>
            <a:ext cx="8448480" cy="60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arameter základného súboru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 ktorom mám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rčitú hypotézu nepoznáme,  iba ho odhadujeme n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áklade výberového súboru pomocou výberovej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harkteristiky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u</a:t>
            </a:r>
            <a:r>
              <a:rPr b="1" i="1" lang="en-US" sz="3200" spc="-1" strike="noStrike" baseline="-25000">
                <a:solidFill>
                  <a:srgbClr val="990033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ozhodnutie o zamietnutí resp. nezamietnutí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lovej hypotézy uskutočňujeme na základe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áhodného výberu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môžme ho urobiť s absolútno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snosťou.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xistuje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riziko odhadu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Za predpokladu, že platí nulová hypotéza , rovná sa parameter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predpokladanej veličine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eďže est.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Q = u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, potom rozdiel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= u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n 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- Q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je iba náhodnou chybou, spôsobenou náhodným výberom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A9F6-D999-4D7C-B381-B070B91BE3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9856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79360"/>
            <a:ext cx="8943840" cy="37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k však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eplatí , t.j.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Q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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 Q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, potom sa rozdiel môže skladať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z náhodnej chyb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ystematickej chyby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, ktorá odráža skutočný rozdiel medzi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arametrom  základného súboru Q a jeho predpokladanou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eľkosťou Q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= u</a:t>
            </a:r>
            <a:r>
              <a:rPr b="1" i="1" lang="en-US" sz="3200" spc="-1" strike="noStrike" baseline="-25000">
                <a:solidFill>
                  <a:srgbClr val="990033"/>
                </a:solidFill>
                <a:latin typeface="Times New Roman"/>
              </a:rPr>
              <a:t>n 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- Q</a:t>
            </a:r>
            <a:r>
              <a:rPr b="1" i="1" lang="en-US" sz="3200" spc="-1" strike="noStrike" baseline="-25000">
                <a:solidFill>
                  <a:srgbClr val="990033"/>
                </a:solidFill>
                <a:latin typeface="Times New Roman"/>
              </a:rPr>
              <a:t>0 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= (u</a:t>
            </a:r>
            <a:r>
              <a:rPr b="1" i="1" lang="en-US" sz="3200" spc="-1" strike="noStrike" baseline="-25000">
                <a:solidFill>
                  <a:srgbClr val="990033"/>
                </a:solidFill>
                <a:latin typeface="Times New Roman"/>
              </a:rPr>
              <a:t>n 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- Q) + (Q</a:t>
            </a:r>
            <a:r>
              <a:rPr b="1" i="1" lang="en-US" sz="3200" spc="-1" strike="noStrike" baseline="-25000">
                <a:solidFill>
                  <a:srgbClr val="990033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- Q</a:t>
            </a:r>
            <a:r>
              <a:rPr b="1" i="1" lang="en-US" sz="32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505320" y="3276720"/>
            <a:ext cx="685800" cy="30456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867280" y="3200400"/>
            <a:ext cx="457200" cy="5335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46440" y="3505320"/>
            <a:ext cx="144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áhodná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hyb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3581280"/>
            <a:ext cx="211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ystematická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hyba - rozdi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4530600"/>
            <a:ext cx="8616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 praxi nemožno zistiť , či rozdiel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bsahuje iba náhodnú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hybu, alebo aj systematickú. Ak je však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alé pripisujem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ho iba náhodnosti výberu, ak prekročí určitú veľkosť,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edpokladáme, že zahrňuje aj systematickú chybu - rozdiel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DB8F-25BC-45CC-BDEB-70ECC0DD3F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609480"/>
            <a:ext cx="883764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ozhodnutie o zamietnutí, resp. nezamietnutí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predpokladá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znalosť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kritickej hodnoty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torá rozdiel 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ozdelí na dve časti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 rozdieloch menších ako kritická hodnota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ezamietame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 rozdieloch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ako kritická hodnota,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zamietam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9960" y="2819520"/>
            <a:ext cx="8502480" cy="37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eľkosť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 konkrétnych prípadoch kolíše, je náhodnou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eličinou,. Preto sa snažíme transformovať 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toré je funkciou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a parametra základného súboru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na veličinu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, ktorá má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známe teoretické rozdelenie (napr. Normované normálne,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s. Studentovo či iné rozdelenie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G = f(u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, Q)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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G = f(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čom funkcia hustoty náhodnej premennej G je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f(g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ychádzame z platnosti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:Q = Q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a   vypočítame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testovaciu  charakteristiku g = f(u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, Q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85EC-9FD1-455D-BFD4-4370D4260A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47680"/>
            <a:ext cx="84582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ozhodnutie o výsledku testu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:Môžeme potom nájsť také kritické hodnoty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áhodnej veličiny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G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pre ktoré platí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P(g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1 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 G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 g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) = 1 -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lebo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P(g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1 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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 G 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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g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) =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2438280"/>
            <a:ext cx="7310520" cy="4228920"/>
            <a:chOff x="0" y="2438280"/>
            <a:chExt cx="7310520" cy="4228920"/>
          </a:xfrm>
        </p:grpSpPr>
        <p:sp>
          <p:nvSpPr>
            <p:cNvPr id="105" name=""/>
            <p:cNvSpPr/>
            <p:nvPr/>
          </p:nvSpPr>
          <p:spPr>
            <a:xfrm>
              <a:off x="2313000" y="2438280"/>
              <a:ext cx="4997520" cy="2538360"/>
            </a:xfrm>
            <a:custGeom>
              <a:avLst/>
              <a:gdLst/>
              <a:ahLst/>
              <a:rect l="l" t="t" r="r" b="b"/>
              <a:pathLst>
                <a:path w="2832" h="1272">
                  <a:moveTo>
                    <a:pt x="0" y="1016"/>
                  </a:moveTo>
                  <a:cubicBezTo>
                    <a:pt x="112" y="508"/>
                    <a:pt x="224" y="0"/>
                    <a:pt x="576" y="8"/>
                  </a:cubicBezTo>
                  <a:cubicBezTo>
                    <a:pt x="928" y="16"/>
                    <a:pt x="1736" y="856"/>
                    <a:pt x="2112" y="1064"/>
                  </a:cubicBezTo>
                  <a:cubicBezTo>
                    <a:pt x="2488" y="1272"/>
                    <a:pt x="2660" y="1264"/>
                    <a:pt x="2832" y="1256"/>
                  </a:cubicBezTo>
                </a:path>
              </a:pathLst>
            </a:custGeom>
            <a:noFill/>
            <a:ln w="57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57400" y="2438280"/>
              <a:ext cx="0" cy="27781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5791320"/>
              <a:ext cx="32767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kritický obor,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obor zamietnutia H</a:t>
              </a:r>
              <a:r>
                <a:rPr b="1" lang="en-US" sz="2400" spc="-1" strike="noStrike" baseline="-25000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296360" y="2220840"/>
            <a:ext cx="6685920" cy="3665520"/>
            <a:chOff x="1296360" y="2220840"/>
            <a:chExt cx="6685920" cy="3665520"/>
          </a:xfrm>
        </p:grpSpPr>
        <p:sp>
          <p:nvSpPr>
            <p:cNvPr id="109" name=""/>
            <p:cNvSpPr/>
            <p:nvPr/>
          </p:nvSpPr>
          <p:spPr>
            <a:xfrm>
              <a:off x="1973160" y="5024520"/>
              <a:ext cx="575964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67160" y="3395520"/>
              <a:ext cx="0" cy="16290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70520" y="4545000"/>
              <a:ext cx="0" cy="4795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08120" y="4206960"/>
              <a:ext cx="61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96360" y="4162320"/>
              <a:ext cx="61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44240" y="3471840"/>
              <a:ext cx="87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1 - </a:t>
              </a:r>
              <a:r>
                <a:rPr b="1" lang="en-US" sz="28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23080" y="483228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g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10680" y="483228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g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20960" y="5216400"/>
              <a:ext cx="279396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7480" y="52689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38280" y="5311800"/>
              <a:ext cx="363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Obor prijatia hypotézy H</a:t>
              </a:r>
              <a:r>
                <a:rPr b="1" lang="en-US" sz="2400" spc="-1" strike="noStrike" baseline="-25000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81120" y="5504040"/>
              <a:ext cx="0" cy="3823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549440" y="5886360"/>
              <a:ext cx="93168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54760" y="5504040"/>
              <a:ext cx="0" cy="28728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54760" y="5791320"/>
              <a:ext cx="152388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04800" y="2220840"/>
              <a:ext cx="1977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- </a:t>
              </a: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hladin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významnosti,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obvykle 0.0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5867280" y="5791320"/>
            <a:ext cx="327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ritický obor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bor zamietnutia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24080" y="562932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g 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791320"/>
            <a:ext cx="327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ritický obor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bor zamietnutia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3840" y="51814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g 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5AB3-E360-4725-B0B6-E76CD35FF1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20" y="457200"/>
            <a:ext cx="883908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ozhodnutie o výsledku testu, zamietnutí resp. nezamietnutí nulovej hypotézy  H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závisí od voľby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hladiny významnosti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hladina významnosti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rozdeľuje obor hodnô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veličiny G na obor prijatia a obory zamietnutia H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V pr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ípade, že H</a:t>
            </a:r>
            <a:r>
              <a:rPr b="1" lang="sk-SK" sz="28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: Q=Q</a:t>
            </a:r>
            <a:r>
              <a:rPr b="1" lang="sk-SK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 nezamietame, tvrdíme, že rozdiel medzi Q a Q</a:t>
            </a:r>
            <a:r>
              <a:rPr b="1" lang="sk-SK" sz="28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je štatisticky nepreukazný, t.j. nesignifikantn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Ak H</a:t>
            </a:r>
            <a:r>
              <a:rPr b="1" lang="sk-SK" sz="28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: Q=Q</a:t>
            </a:r>
            <a:r>
              <a:rPr b="1" lang="sk-SK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  na hladi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významnosti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zamietame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ozdiel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medzi Q a Q</a:t>
            </a:r>
            <a:r>
              <a:rPr b="1" lang="sk-SK" sz="28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j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štatisticky preukazný, t.j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ignifikantn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638680" y="3733920"/>
            <a:ext cx="2971800" cy="245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AA6A-E648-46C9-AAB0-64058602B3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3T17:17:33Z</dcterms:created>
  <dc:creator>FVS</dc:creator>
  <dc:description/>
  <dc:language>en-US</dc:language>
  <cp:lastModifiedBy>FVS</cp:lastModifiedBy>
  <cp:lastPrinted>2003-03-08T16:18:35Z</cp:lastPrinted>
  <dcterms:modified xsi:type="dcterms:W3CDTF">2003-03-10T16:54:54Z</dcterms:modified>
  <cp:revision>103</cp:revision>
  <dc:subject/>
  <dc:title>Testovanie štatistických hypotéz</dc:title>
</cp:coreProperties>
</file>