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4.wmf" ContentType="image/x-wmf"/>
  <Override PartName="/ppt/media/image22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4.png" ContentType="image/png"/>
  <Override PartName="/ppt/media/image12.wmf" ContentType="image/x-wmf"/>
  <Override PartName="/ppt/media/image11.jpeg" ContentType="image/jpeg"/>
  <Override PartName="/ppt/media/image23.wmf" ContentType="image/x-wmf"/>
  <Override PartName="/ppt/media/image8.wmf" ContentType="image/x-wmf"/>
  <Override PartName="/ppt/media/image33.wmf" ContentType="image/x-wmf"/>
  <Override PartName="/ppt/media/image9.wmf" ContentType="image/x-wmf"/>
  <Override PartName="/ppt/media/image34.wmf" ContentType="image/x-wmf"/>
  <Override PartName="/ppt/media/image31.jpeg" ContentType="image/jpeg"/>
  <Override PartName="/ppt/media/image10.wmf" ContentType="image/x-wmf"/>
  <Override PartName="/ppt/media/image30.wmf" ContentType="image/x-wmf"/>
  <Override PartName="/ppt/media/image28.wmf" ContentType="image/x-wmf"/>
  <Override PartName="/ppt/media/image36.png" ContentType="image/png"/>
  <Override PartName="/ppt/media/image19.wmf" ContentType="image/x-wmf"/>
  <Override PartName="/ppt/media/image37.wmf" ContentType="image/x-wmf"/>
  <Override PartName="/ppt/media/image7.wmf" ContentType="image/x-wmf"/>
  <Override PartName="/ppt/media/image35.png" ContentType="image/png"/>
  <Override PartName="/ppt/media/image5.png" ContentType="image/png"/>
  <Override PartName="/ppt/media/image13.jpeg" ContentType="image/jpeg"/>
  <Override PartName="/ppt/media/image3.png" ContentType="image/png"/>
  <Override PartName="/ppt/media/image2.wmf" ContentType="image/x-wmf"/>
  <Override PartName="/ppt/media/image25.wmf" ContentType="image/x-wmf"/>
  <Override PartName="/ppt/media/image14.jpeg" ContentType="image/jpeg"/>
  <Override PartName="/ppt/media/image15.wmf" ContentType="image/x-wmf"/>
  <Override PartName="/ppt/media/image16.png" ContentType="image/png"/>
  <Override PartName="/ppt/media/image17.wmf" ContentType="image/x-wmf"/>
  <Override PartName="/ppt/media/image6.jpeg" ContentType="image/jpeg"/>
  <Override PartName="/ppt/media/image21.wmf" ContentType="image/x-wmf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embeddings/oleObject3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1381-D2C9-4F61-B690-00262D59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C52C-9E57-4917-95EE-A1DC72A0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E47C-7303-4E5C-B745-188762DF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D6C-6F23-46CF-B748-5760F0DE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54F0-DEA4-4B39-86DF-A380A947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AB07-1C2A-461F-A3B6-E04A430D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1A7D-F4FA-4FDA-9B41-4597085E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17CE-1B7B-47C0-9D56-0A6F9737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82CD-A3CD-4685-A7B1-3AD00AAE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190D-ACEA-4874-8C16-6776B9AD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0BD4-32E5-4F38-9385-D8A7E07F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C43A-DD56-4325-8FD3-1C45B57E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23EA-DC7F-48E9-8B64-AF005E4E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92C8-D2FE-4449-BF03-D91CA14E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DEB8-0610-495F-9927-B19B38B8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C0BB-8AF5-4BDE-8195-9114E01B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3311-4806-4CF1-BB69-15A2544A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DD9-0AF2-4AA3-8657-33614A21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E4F-D13A-488B-A0C2-543CC7D0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E26-71DE-4055-91FF-58250300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5597-BD47-4406-9307-BB093DE0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715C-B90D-4793-86B6-2558937A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530-9AD3-465F-9DC0-ED9BD242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1D9E-96CC-4E0F-87CB-97B5860C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6E49-DA60-436F-928C-C571ED8193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19E9-B5B5-473E-A8A8-C263BE0BBB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5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36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PISNÉ (DESKRIPTÍVNE) CHARAKTERISTIK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1771920" cy="381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4229280" y="3086280"/>
          <a:ext cx="68580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29280" y="308628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8860-74D5-4EE6-95A7-6EAD3F1763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282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íklad: vážený aritmetický priem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Každú známku musíme násobiť (vážiť) počtom študentov, až potom urobíme súčet (vážený súčet), ktorý podelíme počtom študent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2120" y="2133720"/>
          <a:ext cx="3276360" cy="282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3276360" cy="28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800600" y="2133720"/>
          <a:ext cx="3733920" cy="3057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133720"/>
                    <a:ext cx="373392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724280" y="5638680"/>
                <a:ext cx="15242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63680" y="5638680"/>
            <a:ext cx="39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Priemerna známka bude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3FDC-1BE8-4554-B9A1-2BC4F070DE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ýpočet aritmetického priemeru z intervalov. rozdelenia početností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2120" y="1523880"/>
          <a:ext cx="5790960" cy="33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579096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914400" y="5257800"/>
          <a:ext cx="2057400" cy="287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257800"/>
                    <a:ext cx="20574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3282120" y="49849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emerný plat  pracovníka predstav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 667 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439E-5479-4CDE-828C-8DA55A0E15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lastnosti aritmetického priemer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tálosť súčtu hodnô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účet odchýlok od priemeru sa rovná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účet štvorcov odchýlok od priemeru je minimáln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181480" y="1523880"/>
                <a:ext cx="21337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∗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905120" y="2743200"/>
                <a:ext cx="25146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500120" y="4800600"/>
                <a:ext cx="40118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2</m:t>
                        </m:r>
                      </m:e>
                    </m:acc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EB0C-27D5-482E-B91B-1F2CC1898F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ritmetický priemer nem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äčšinou žiadny odraz 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utočnosti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aždá priemerná rodin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á 2,2 dieťaťa, našťast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o neznamená to, čo vidíme na obrázk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3505320" cy="382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BE6B-E7DA-4471-86D8-8D5A0FF7D2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geometrický priemer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sk-SK" sz="3000" spc="-1" strike="noStrike">
                <a:solidFill>
                  <a:srgbClr val="000000"/>
                </a:solidFill>
                <a:latin typeface="Tahoma"/>
              </a:rPr>
              <a:t>používa sa pri časových radoch (rast HDP za tri roky, vývoj inflácie za päť rokov...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Tahoma"/>
              </a:rPr>
              <a:t>jednoduchý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Tahoma"/>
              </a:rPr>
              <a:t>vážený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743200" y="2743200"/>
                <a:ext cx="518148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09680" y="4495680"/>
                <a:ext cx="57913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p>
                        </m:sSubSup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3D5D-1118-492F-8568-6A1370B54A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Black"/>
              </a:rPr>
              <a:t>Vývoj HNP SR za rr.95-99 v US$</a:t>
            </a:r>
            <a:r>
              <a:rPr b="0" lang="sk-SK" sz="2800" spc="-1" strike="noStrike">
                <a:solidFill>
                  <a:srgbClr val="990033"/>
                </a:solidFill>
                <a:latin typeface="Arial Black"/>
              </a:rPr>
              <a:t> na obyv a rok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1676520"/>
          <a:ext cx="7543800" cy="297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543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17680" y="4765680"/>
            <a:ext cx="344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 roku 1997 oproti r. 96 vzrástol HNP na obyv. na 108,1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30481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3048120"/>
            <a:ext cx="9907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066680" y="3505320"/>
            <a:ext cx="381024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5257800"/>
            <a:ext cx="3352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 roku 1997 oproti r. 96 vzrástol HNP na obyv. o 8,12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791320" y="3505320"/>
            <a:ext cx="18288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A722-64E2-47B5-B201-8B2F8DD7DF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 jednotlivých koeficientov rastu možno vypočíta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iemerný koeficient rastu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981080" y="2819520"/>
                <a:ext cx="4343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T-1 </m:t>
                        </m:r>
                      </m:deg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-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733920"/>
            <a:ext cx="914400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     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 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,148.1,081. 1,003 . 0,974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04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obdobie rr. 95-99 HNP v SR rástol ročne približne o 4,9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7799-A757-43B1-B445-541380D100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Úloha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52388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dpokladajme, že ideme 30 km ďaleko a prvých 15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jdeme rýchlosťou 15 km za hod. a druhých 15 k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ýchlosťou 75 km za hod. Akú priemernú rýchlosť sme dosiahli za hodin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6324480" cy="29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8B3-2253-4A7B-BA6C-7CD46BED7E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rmonický priemer (jednoduchý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1523880"/>
            <a:ext cx="8300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vú trať ideme rýchlosťou 15km/hod… k jej prejdeni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rebujeme  práve 1hod. - 60 minút (15/15*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uhú trať (15 km) ideme rýchlosťou 75 km/hod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 jej prejdeniu potrebujeme len 12 minút (15/75*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ková doba jazdy je teda 72 minút.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ritmetický pri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Nás zmýli výslekom (15+75)/2=</a:t>
            </a:r>
            <a:r>
              <a:rPr b="0" lang="sk-SK" sz="2400" spc="-1" strike="noStrike">
                <a:solidFill>
                  <a:srgbClr val="cc3300"/>
                </a:solidFill>
                <a:latin typeface="Tahoma"/>
              </a:rPr>
              <a:t>45km za hodinu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. K zisteniu  priemernej doby jazdy pre oba úseky potrebujeme 60min+12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72/2 =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36 minút pre každý úsek jazdy, čo predstavuje priemernu rýchlosť 25 km / 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990720" y="4724280"/>
                <a:ext cx="61275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5BD6-5A88-473A-A51E-BAA4E77EE5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1.2.Ostatné stredné hodno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ýznam pri nesymetrických rozdeleniach u kvantitatívnych znakov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i kvalitatívnych znako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Medián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 - prostredná hodnota v</a:t>
            </a: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štatistickom súbore usporiadanom podľa skúmaného znak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( napr. výška prostredného pracovník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590920" y="3200400"/>
                <a:ext cx="47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DB3E-9865-405F-A9B4-0E2378B4D9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PISNÉ (DESKRIPTÍVNE) CHARAKTERISTI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sú číselné charakteristiky, ktoré koncentrovanou formou – jedným číslom – vyjadrujú určitú vlastnosť skúmaného štatistického znak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(väčšinou sú použiteľné pre kvantitatívne štatistické znaky, len niektoré pre kvalitatívne štatistické znak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990-3F73-4DBD-8068-7AFDB9B911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4266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Medián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je prostredná hodnota v usporiadan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štatistickom súbore. Usporiadame ženy podľa výšky, a zistíme, ktorá z nich je prostredná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6438960" cy="391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364E-99CC-4038-9D66-AC533DA75E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určovanie mediánu v štat. súbore, v ktorom je nepárny počet štatistických jednoti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- nepárny poč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62120" y="3962520"/>
          <a:ext cx="2590560" cy="122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62520"/>
                    <a:ext cx="259056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80880" y="5240160"/>
                <a:ext cx="14479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438280" y="5272200"/>
                <a:ext cx="22100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447920" y="5943600"/>
                <a:ext cx="17524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581280" y="2057400"/>
            <a:ext cx="5023080" cy="1819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562720" y="3886200"/>
            <a:ext cx="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800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ediá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400800" y="4572000"/>
                <a:ext cx="1905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F49-691B-4752-B990-B6C944BD6D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určovanie mediánu v štat. súbore, v ktorom je párny počet štat. jednoti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838080" y="4191120"/>
                <a:ext cx="251460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80880" y="5560920"/>
                <a:ext cx="32004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572000" y="4800600"/>
                <a:ext cx="39625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9" name=""/>
          <p:cNvGraphicFramePr/>
          <p:nvPr/>
        </p:nvGraphicFramePr>
        <p:xfrm>
          <a:off x="533520" y="1905120"/>
          <a:ext cx="3809880" cy="198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3809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419720" y="2438280"/>
            <a:ext cx="4483080" cy="1832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715000" y="4267080"/>
            <a:ext cx="38088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095520" y="4191120"/>
            <a:ext cx="30492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F63-5885-4653-9361-BABB0712B6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určovanie mediánu pri intervalovom rozdelení početnost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dá sa určiť len mediánový interval, do ktorého       patrí, v rámci tohto intervalu potom medián    určíme približ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ahoma"/>
              </a:rPr>
              <a:t>na základe absolútnych počet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7080f"/>
                </a:solidFill>
                <a:latin typeface="Tahoma"/>
              </a:rPr>
              <a:t>a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-dolná hranica medián. interva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7080f"/>
                </a:solidFill>
                <a:latin typeface="Tahoma"/>
              </a:rPr>
              <a:t>h</a:t>
            </a:r>
            <a:r>
              <a:rPr b="0" lang="sk-SK" sz="2400" spc="-1" strike="noStrike">
                <a:solidFill>
                  <a:srgbClr val="07080f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-rozpätie medián. interva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-početnosť medián. interva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- kumulat. početnosť po medián.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467480" y="1828800"/>
                <a:ext cx="420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029200" y="3352680"/>
                <a:ext cx="34290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h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85800" y="3733920"/>
                <a:ext cx="652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4720" y="4419720"/>
                <a:ext cx="96696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F8C-C937-43C0-891B-DA33CF1213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ýpočet mediánu z interval. rozdel. početností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800600" y="1143000"/>
                <a:ext cx="34290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h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02" name=""/>
          <p:cNvGraphicFramePr/>
          <p:nvPr/>
        </p:nvGraphicFramePr>
        <p:xfrm>
          <a:off x="685800" y="1447920"/>
          <a:ext cx="3886200" cy="336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3886200" cy="33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257800" y="3124080"/>
          <a:ext cx="2209680" cy="1724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124080"/>
                    <a:ext cx="22096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09480" y="5029200"/>
          <a:ext cx="2667240" cy="371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029200"/>
                    <a:ext cx="26672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234600" y="5035680"/>
            <a:ext cx="5165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stredný plat je 11 869 SK, čo znamená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že 50% pracovníkov má vyšší a 50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ovníkov nižšší ako 11 869 S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B471-6682-41CC-86EE-BE32302385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Modus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-   -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ajpočetnejšia alebo najčastejšie sa vyskytujúca hodnota v štat. súb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je definovaný v jednovrcholových rozdeleniach početností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09680" y="1676520"/>
                <a:ext cx="327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181480" y="4191120"/>
                <a:ext cx="114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2" name=""/>
          <p:cNvGraphicFramePr/>
          <p:nvPr/>
        </p:nvGraphicFramePr>
        <p:xfrm>
          <a:off x="1371600" y="3657600"/>
          <a:ext cx="2971800" cy="209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657600"/>
                    <a:ext cx="297180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 flipH="1">
            <a:off x="2286000" y="4419720"/>
            <a:ext cx="2819520" cy="228600"/>
          </a:xfrm>
          <a:prstGeom prst="line">
            <a:avLst/>
          </a:prstGeom>
          <a:ln cap="sq" w="22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4495680"/>
            <a:ext cx="761760" cy="45720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4109-EF59-4218-9B2E-0690D754BF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bezprostredne sa dá určiť v štat. súbore, ak poznáme individuálne hodnoty znaku x a ich početnost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 prípade </a:t>
            </a: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intervalového rozdelenia početnosti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sa priamo určí iba modálny interval, t.j. interval s najväčšou početnosťou v štat. súbore. V rámci tohto intervalu sa modus určí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DABF-22A1-4B44-A454-032259DE7C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886200" y="2438280"/>
            <a:ext cx="51055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a základe vzťahu početností modálneho a priľahlých intervalov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- dolná hranica modálneho intervalu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- rozpätie interval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i="1" lang="sk-SK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- rozdiel medzi početnosťou modálneho a predchádzajúceho interval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i="1" lang="sk-SK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- rozdiel medzi početnosťou modálneho a nasledujúceho interval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419720" y="685800"/>
                <a:ext cx="281916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h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19" name=""/>
          <p:cNvGraphicFramePr/>
          <p:nvPr/>
        </p:nvGraphicFramePr>
        <p:xfrm>
          <a:off x="457200" y="990720"/>
          <a:ext cx="3352680" cy="290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335268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85800" y="4191120"/>
          <a:ext cx="1981080" cy="1290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191120"/>
                    <a:ext cx="198108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609480" y="5791320"/>
          <a:ext cx="2286000" cy="31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791320"/>
                    <a:ext cx="228600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3404520" y="5535720"/>
            <a:ext cx="44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jpočetnejším platom je 12 175 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A6AE-BF3F-4643-B3ED-F8A75CF9C8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Vzájomná poloha modusu, mediánu a aritmetického priemeru v štat. súb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ymetrické rozdele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nesymetrické rozdele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pozitívna asyme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negatívna asyme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8DEB-F3E6-462B-B792-7617CE10CD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Porovnanie modusu, mediánu a strednej hodno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4389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EB1A-A431-406E-8900-75F4B970F74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popisné charakteristi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polohy                  najvia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variability             používan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šikm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špicat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334120" y="2666880"/>
            <a:ext cx="1295280" cy="763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715000" y="2819520"/>
            <a:ext cx="990720" cy="53316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9EE-7FB9-49DE-AE55-7B662D20B3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tervalové rozdelenie platov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371600" y="990720"/>
          <a:ext cx="5715000" cy="39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5715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85800" y="5105520"/>
          <a:ext cx="1914480" cy="771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5105520"/>
                    <a:ext cx="19144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2E7-988F-474A-8803-953D580C6E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2. Charakteristiky vari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ariabilita – menlivosť hodnôt znaku v štatistickom súb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miery variability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iery variability, ktorých veľkosť ovplyvňujú len niektoré hodnoty znaku v súb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variačné rozpät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kvantilové rozpät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kvartilové rozpät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kvartilová odchýl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AFA-071A-4181-90FA-A03D4F99D0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iery variability, ktorých veľkosť ovplyvňuje každá hodnota znaku v súbo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sk-SK" sz="2800" spc="-1" strike="noStrike">
                <a:solidFill>
                  <a:srgbClr val="cc3300"/>
                </a:solidFill>
                <a:latin typeface="Tahoma"/>
              </a:rPr>
              <a:t>absolútne</a:t>
            </a: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 -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emerná odchýl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rozpty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smerodajná (štandardná)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  odchýl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-</a:t>
            </a:r>
            <a:r>
              <a:rPr b="1" lang="sk-SK" sz="2800" spc="-1" strike="noStrike">
                <a:solidFill>
                  <a:srgbClr val="cc3300"/>
                </a:solidFill>
                <a:latin typeface="Tahoma"/>
              </a:rPr>
              <a:t> relatívne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- pomerná priemerná odchýl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variančný koe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43FF-CEB0-4327-927A-6F6C66CC8BF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rozptyl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sk-SK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(disperzia, varianc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ruhý centrálny moment, priemerný štvorec odchýlo k od priemeru, meria variabilitu v druhých mocninách mernej jednotky- preto je </a:t>
            </a:r>
            <a:r>
              <a:rPr b="0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neinterpretovateľ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počíta sa ak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dnoduch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áže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81280" y="3048120"/>
                <a:ext cx="31593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590920" y="4572000"/>
                <a:ext cx="38480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DFA-29EA-42A1-BFF4-2607A8EAD5E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 u="sng">
                <a:solidFill>
                  <a:srgbClr val="000000"/>
                </a:solidFill>
                <a:uFillTx/>
                <a:latin typeface="Tahoma"/>
              </a:rPr>
              <a:t>Smerodajná </a:t>
            </a:r>
            <a:r>
              <a:rPr b="0" lang="sk-SK" sz="3000" spc="-1" strike="noStrike" u="sng">
                <a:solidFill>
                  <a:srgbClr val="000000"/>
                </a:solidFill>
                <a:uFillTx/>
                <a:latin typeface="Tahoma"/>
              </a:rPr>
              <a:t>(štandardná )</a:t>
            </a:r>
            <a:r>
              <a:rPr b="1" lang="sk-SK" sz="3000" spc="-1" strike="noStrike" u="sng">
                <a:solidFill>
                  <a:srgbClr val="000000"/>
                </a:solidFill>
                <a:uFillTx/>
                <a:latin typeface="Tahoma"/>
              </a:rPr>
              <a:t> odchýlka</a:t>
            </a:r>
            <a:r>
              <a:rPr b="0" lang="sk-SK" sz="3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sk-SK" sz="3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yjadruje variabilitu súboru v pôvodných merných jednotká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Relatívna miera variabilit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variančný koeficient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eria variabilitu v % (slúži na porovnávanie variability znakov vo viacerých súboro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029200" y="1752480"/>
                <a:ext cx="21337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438280" y="4876920"/>
                <a:ext cx="28512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312-5297-4DD6-8194-3CC00C1D407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ariabilita v rozdelení platov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990720"/>
          <a:ext cx="800100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0010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4648320"/>
          <a:ext cx="2133720" cy="1704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648320"/>
                    <a:ext cx="21337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2713680" y="4627440"/>
            <a:ext cx="5942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ilita platov meraná smerodajnou odchýlkou predst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uje 1 006 Sk, čo znamená, že za predpokladu jednovrcholo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ého približne symetrického rozdel. Platov sa v interva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1 767 Sk +-1 006 S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nachádza asi 68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latov pracovníko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ilita platov meraná smerod. odchýlkou predstavuje a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,55% z priemerneho plat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F129-D5A7-4F1A-9D46-360958437F7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Charakteristiky šikmost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a)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earsonova miera šikmosti-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určuje mieru asymetrie podľa vzájomnej polohy modusu a priemeru- je približn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=0  symetrické rozdelen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ahoma"/>
              </a:rPr>
              <a:t>&gt;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0 pozitívna asymet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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0  negatívna asymet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52480" y="2021040"/>
                <a:ext cx="175284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886200" cy="2941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4222800" cy="304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C63D-3638-49BD-BBDD-B2FFB9673A5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761760" y="533160"/>
            <a:ext cx="784836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b) koeficient šikmosti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( asymetrie ) –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 presnejšia (momentová) miera šikmosti, 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bezrozmerné číslo, vyhodnocuje sa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= 0 symetrické rozdele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  <a:ea typeface="Tahoma"/>
              </a:rPr>
              <a:t>&gt;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pozitívna (ľavostranná)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syme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  <a:ea typeface="Tahoma"/>
              </a:rPr>
              <a:t>&lt;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negatívna (pravostranná) asyme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362320" y="3352680"/>
                <a:ext cx="274320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762120" y="4343400"/>
                <a:ext cx="30366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724280" y="4422600"/>
                <a:ext cx="335304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AE5-7D9C-4294-AB73-7F176382756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4.Charakteristika špicatost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koeficient špicatosti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bezrozmerné čís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= 0 normálne rozdelen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  <a:ea typeface="Tahoma"/>
              </a:rPr>
              <a:t>&lt;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0 plochšie rozdelen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  <a:ea typeface="Tahoma"/>
              </a:rPr>
              <a:t>&gt;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0  špicatejšie rozdelen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23800" y="4267080"/>
                <a:ext cx="337032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668840" y="4297320"/>
                <a:ext cx="363528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A129-638A-4B19-8A74-6F60EDB318F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495680" y="1828800"/>
            <a:ext cx="4038840" cy="2057040"/>
            <a:chOff x="4495680" y="1828800"/>
            <a:chExt cx="4038840" cy="2057040"/>
          </a:xfrm>
        </p:grpSpPr>
        <p:sp>
          <p:nvSpPr>
            <p:cNvPr id="263" name=""/>
            <p:cNvSpPr/>
            <p:nvPr/>
          </p:nvSpPr>
          <p:spPr>
            <a:xfrm>
              <a:off x="4686120" y="2398320"/>
              <a:ext cx="3427560" cy="1429200"/>
            </a:xfrm>
            <a:custGeom>
              <a:avLst/>
              <a:gdLst/>
              <a:ahLst/>
              <a:rect l="l" t="t" r="r" b="b"/>
              <a:pathLst>
                <a:path w="5130" h="1907">
                  <a:moveTo>
                    <a:pt x="0" y="1850"/>
                  </a:moveTo>
                  <a:cubicBezTo>
                    <a:pt x="212" y="1800"/>
                    <a:pt x="850" y="1872"/>
                    <a:pt x="1275" y="1565"/>
                  </a:cubicBezTo>
                  <a:cubicBezTo>
                    <a:pt x="1700" y="1258"/>
                    <a:pt x="2110" y="0"/>
                    <a:pt x="2550" y="5"/>
                  </a:cubicBezTo>
                  <a:cubicBezTo>
                    <a:pt x="2990" y="10"/>
                    <a:pt x="3485" y="1283"/>
                    <a:pt x="3915" y="1595"/>
                  </a:cubicBezTo>
                  <a:cubicBezTo>
                    <a:pt x="4345" y="1907"/>
                    <a:pt x="4877" y="1821"/>
                    <a:pt x="5130" y="18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495680" y="3874680"/>
              <a:ext cx="40388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05920" y="2340720"/>
              <a:ext cx="2926440" cy="1500480"/>
            </a:xfrm>
            <a:custGeom>
              <a:avLst/>
              <a:gdLst/>
              <a:ahLst/>
              <a:rect l="l" t="t" r="r" b="b"/>
              <a:pathLst>
                <a:path w="4380" h="2002">
                  <a:moveTo>
                    <a:pt x="0" y="1972"/>
                  </a:moveTo>
                  <a:cubicBezTo>
                    <a:pt x="105" y="1924"/>
                    <a:pt x="443" y="2002"/>
                    <a:pt x="630" y="1687"/>
                  </a:cubicBezTo>
                  <a:cubicBezTo>
                    <a:pt x="817" y="1372"/>
                    <a:pt x="883" y="164"/>
                    <a:pt x="1125" y="82"/>
                  </a:cubicBezTo>
                  <a:cubicBezTo>
                    <a:pt x="1367" y="0"/>
                    <a:pt x="1768" y="905"/>
                    <a:pt x="2085" y="1192"/>
                  </a:cubicBezTo>
                  <a:cubicBezTo>
                    <a:pt x="2402" y="1479"/>
                    <a:pt x="2648" y="1677"/>
                    <a:pt x="3030" y="1807"/>
                  </a:cubicBezTo>
                  <a:cubicBezTo>
                    <a:pt x="3412" y="1937"/>
                    <a:pt x="4099" y="1938"/>
                    <a:pt x="4380" y="1972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5229000" y="2324160"/>
              <a:ext cx="2926440" cy="1500480"/>
            </a:xfrm>
            <a:custGeom>
              <a:avLst/>
              <a:gdLst/>
              <a:ahLst/>
              <a:rect l="l" t="t" r="r" b="b"/>
              <a:pathLst>
                <a:path w="4380" h="2002">
                  <a:moveTo>
                    <a:pt x="0" y="1972"/>
                  </a:moveTo>
                  <a:cubicBezTo>
                    <a:pt x="105" y="1924"/>
                    <a:pt x="443" y="2002"/>
                    <a:pt x="630" y="1687"/>
                  </a:cubicBezTo>
                  <a:cubicBezTo>
                    <a:pt x="817" y="1372"/>
                    <a:pt x="883" y="164"/>
                    <a:pt x="1125" y="82"/>
                  </a:cubicBezTo>
                  <a:cubicBezTo>
                    <a:pt x="1367" y="0"/>
                    <a:pt x="1768" y="905"/>
                    <a:pt x="2085" y="1192"/>
                  </a:cubicBezTo>
                  <a:cubicBezTo>
                    <a:pt x="2402" y="1479"/>
                    <a:pt x="2648" y="1677"/>
                    <a:pt x="3030" y="1807"/>
                  </a:cubicBezTo>
                  <a:cubicBezTo>
                    <a:pt x="3412" y="1937"/>
                    <a:pt x="4099" y="1938"/>
                    <a:pt x="4380" y="197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88960" y="1828800"/>
              <a:ext cx="791640" cy="39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</a:t>
              </a:r>
              <a:r>
                <a:rPr b="1" lang="en-AU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96880" y="1828800"/>
              <a:ext cx="791640" cy="39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ff"/>
                  </a:solidFill>
                  <a:latin typeface="Symbol"/>
                  <a:ea typeface="Symbol"/>
                </a:rPr>
                <a:t></a:t>
              </a: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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50880" y="1839960"/>
              <a:ext cx="791640" cy="39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</a:t>
              </a:r>
              <a:r>
                <a:rPr b="1" lang="en-AU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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77760" y="2166120"/>
              <a:ext cx="0" cy="235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79920" y="2154960"/>
              <a:ext cx="0" cy="23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83960" y="2154960"/>
              <a:ext cx="0" cy="23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85800" y="3809880"/>
            <a:ext cx="4495680" cy="2028960"/>
            <a:chOff x="685800" y="3809880"/>
            <a:chExt cx="4495680" cy="2028960"/>
          </a:xfrm>
        </p:grpSpPr>
        <p:sp>
          <p:nvSpPr>
            <p:cNvPr id="274" name=""/>
            <p:cNvSpPr/>
            <p:nvPr/>
          </p:nvSpPr>
          <p:spPr>
            <a:xfrm>
              <a:off x="685800" y="583884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81160" y="4632120"/>
              <a:ext cx="3304800" cy="1160640"/>
            </a:xfrm>
            <a:custGeom>
              <a:avLst/>
              <a:gdLst/>
              <a:ahLst/>
              <a:rect l="l" t="t" r="r" b="b"/>
              <a:pathLst>
                <a:path w="5205" h="1828">
                  <a:moveTo>
                    <a:pt x="0" y="1780"/>
                  </a:moveTo>
                  <a:cubicBezTo>
                    <a:pt x="212" y="1727"/>
                    <a:pt x="838" y="1760"/>
                    <a:pt x="1275" y="1465"/>
                  </a:cubicBezTo>
                  <a:cubicBezTo>
                    <a:pt x="1712" y="1170"/>
                    <a:pt x="2158" y="0"/>
                    <a:pt x="2625" y="10"/>
                  </a:cubicBezTo>
                  <a:cubicBezTo>
                    <a:pt x="3092" y="20"/>
                    <a:pt x="3650" y="1222"/>
                    <a:pt x="4080" y="1525"/>
                  </a:cubicBezTo>
                  <a:cubicBezTo>
                    <a:pt x="4510" y="1828"/>
                    <a:pt x="4971" y="1762"/>
                    <a:pt x="5205" y="18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44760" y="3809880"/>
              <a:ext cx="2438280" cy="1990800"/>
            </a:xfrm>
            <a:custGeom>
              <a:avLst/>
              <a:gdLst/>
              <a:ahLst/>
              <a:rect l="l" t="t" r="r" b="b"/>
              <a:pathLst>
                <a:path w="3840" h="3135">
                  <a:moveTo>
                    <a:pt x="0" y="3135"/>
                  </a:moveTo>
                  <a:cubicBezTo>
                    <a:pt x="235" y="3035"/>
                    <a:pt x="1070" y="3058"/>
                    <a:pt x="1410" y="2535"/>
                  </a:cubicBezTo>
                  <a:cubicBezTo>
                    <a:pt x="1750" y="2012"/>
                    <a:pt x="1828" y="0"/>
                    <a:pt x="2040" y="0"/>
                  </a:cubicBezTo>
                  <a:cubicBezTo>
                    <a:pt x="2252" y="0"/>
                    <a:pt x="2385" y="2015"/>
                    <a:pt x="2685" y="2535"/>
                  </a:cubicBezTo>
                  <a:cubicBezTo>
                    <a:pt x="2985" y="3055"/>
                    <a:pt x="3600" y="2998"/>
                    <a:pt x="3840" y="312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85600" y="5060880"/>
              <a:ext cx="4143240" cy="712440"/>
            </a:xfrm>
            <a:custGeom>
              <a:avLst/>
              <a:gdLst/>
              <a:ahLst/>
              <a:rect l="l" t="t" r="r" b="b"/>
              <a:pathLst>
                <a:path w="6525" h="1122">
                  <a:moveTo>
                    <a:pt x="0" y="1120"/>
                  </a:moveTo>
                  <a:cubicBezTo>
                    <a:pt x="247" y="1063"/>
                    <a:pt x="970" y="972"/>
                    <a:pt x="1485" y="790"/>
                  </a:cubicBezTo>
                  <a:cubicBezTo>
                    <a:pt x="2000" y="608"/>
                    <a:pt x="2473" y="0"/>
                    <a:pt x="3090" y="25"/>
                  </a:cubicBezTo>
                  <a:cubicBezTo>
                    <a:pt x="3707" y="50"/>
                    <a:pt x="4617" y="758"/>
                    <a:pt x="5190" y="940"/>
                  </a:cubicBezTo>
                  <a:cubicBezTo>
                    <a:pt x="5763" y="1122"/>
                    <a:pt x="6247" y="1083"/>
                    <a:pt x="6525" y="112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38520" y="4304880"/>
              <a:ext cx="75240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</a:t>
              </a:r>
              <a:r>
                <a:rPr b="1" lang="en-AU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38520" y="3819240"/>
              <a:ext cx="75240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ff"/>
                  </a:solidFill>
                  <a:latin typeface="Symbol"/>
                  <a:ea typeface="Symbol"/>
                </a:rPr>
                <a:t></a:t>
              </a: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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7240" y="4743360"/>
              <a:ext cx="75240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</a:t>
              </a:r>
              <a:r>
                <a:rPr b="1" lang="en-AU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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162240" y="4524120"/>
              <a:ext cx="59976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009960" y="4057200"/>
              <a:ext cx="771120" cy="36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3345120" y="4981320"/>
              <a:ext cx="466560" cy="266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38520" y="3819240"/>
              <a:ext cx="75240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ff"/>
                  </a:solidFill>
                  <a:latin typeface="Symbol"/>
                  <a:ea typeface="Symbol"/>
                </a:rPr>
                <a:t></a:t>
              </a: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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921960" y="3200400"/>
            <a:ext cx="32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oeficient špicat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8000" y="167652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oeficient šikm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B55-55ED-4F9F-9E2A-FD706BF4236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1.Charakteristiky poloh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lebo </a:t>
            </a: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stredné hodnoty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vyjadrujú určitú úroveň (polohu) znaku, okolo ktorej sú ostatné hodnoty viac či menej koncentrova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4114800" cy="1995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114800" y="4057560"/>
            <a:ext cx="4648320" cy="192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A556-7A92-435C-98AD-E0743F909F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</a:t>
            </a: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íklady rozdelení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57200" y="1365120"/>
          <a:ext cx="8077320" cy="186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65120"/>
                    <a:ext cx="807732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6664-14EE-4A2D-AF9B-F7B23CA6E30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rafické zobrazen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985680" y="1521000"/>
          <a:ext cx="2765520" cy="207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1521000"/>
                    <a:ext cx="276552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495680" y="1555920"/>
          <a:ext cx="2668680" cy="2000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555920"/>
                    <a:ext cx="266868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838080" y="3733920"/>
          <a:ext cx="2822760" cy="2112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733920"/>
                    <a:ext cx="2822760" cy="21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572000" y="3728880"/>
          <a:ext cx="2481120" cy="1863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728880"/>
                    <a:ext cx="248112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45D2-DBB7-4EEE-AC09-29AAF1D9B32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poloh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priemery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 aritmetick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 geometrick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 harmonick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aždý môže byť jednoduchý alebo vážen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ostatné stredné hodnot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- modu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mediá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F3F1-2BF5-4737-9CEE-929E2D6D3E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charakteristiky polohy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vlastnost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Map Symbol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ajú byť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ypickou hodnotou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štatist. súbo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usia byť jednoznačne presne definova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 výpočte sa do úvahy berú všetky jednotky štat. súbo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ajú byť ľahko zistiteľ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ali by slúžiť k porovnávaniu stredných hodnôt za niekoľko súbor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ajú čo najmenej podliehať náhodnostiam výbe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576-4E79-40F9-98AC-3D233897FF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09480" y="4267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emer predstavuje často rovnomernosť aleb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ormu, ktorá neexistuje. Keď v priemere každ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je hus, je možné, že niektorí zjedia dve, res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iac, iní žiadn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61120" cy="353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2911-8474-4CE2-980E-D7A529550E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1.1. Prieme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aritmetický priemer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( napr. priemerná mzda, priemerná denná teplota, atď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iemerná mzda (jednoduchý aritm. priem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8 400 Sk                        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     6 500 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9 600 Sk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   10 000 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Tahoma"/>
              </a:rPr>
              <a:t>11 200 Sk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Tahoma"/>
              </a:rPr>
              <a:t>12 700 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29 200 Sk : 3 = 9 400 Sk   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   29 200 Sk : 3 = 9 400 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828800" y="4267080"/>
            <a:ext cx="5815800" cy="2209680"/>
            <a:chOff x="1828800" y="4267080"/>
            <a:chExt cx="5815800" cy="2209680"/>
          </a:xfrm>
        </p:grpSpPr>
        <p:sp>
          <p:nvSpPr>
            <p:cNvPr id="103" name=""/>
            <p:cNvSpPr/>
            <p:nvPr/>
          </p:nvSpPr>
          <p:spPr>
            <a:xfrm>
              <a:off x="3489480" y="4717800"/>
              <a:ext cx="1188360" cy="64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600" spc="-1" strike="noStrike">
                  <a:solidFill>
                    <a:srgbClr val="ff0000"/>
                  </a:solidFill>
                  <a:latin typeface="Times New Roman"/>
                </a:rPr>
                <a:t>9 400 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600" spc="-1" strike="noStrike">
                  <a:solidFill>
                    <a:srgbClr val="ff0000"/>
                  </a:solidFill>
                  <a:latin typeface="Times New Roman"/>
                </a:rPr>
                <a:t>prie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828800" y="5349240"/>
              <a:ext cx="5815800" cy="1127520"/>
              <a:chOff x="1828800" y="5349240"/>
              <a:chExt cx="5815800" cy="1127520"/>
            </a:xfrm>
          </p:grpSpPr>
          <p:sp>
            <p:nvSpPr>
              <p:cNvPr id="105" name=""/>
              <p:cNvSpPr/>
              <p:nvPr/>
            </p:nvSpPr>
            <p:spPr>
              <a:xfrm>
                <a:off x="1828800" y="5376960"/>
                <a:ext cx="11883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600" spc="-1" strike="noStrike">
                    <a:solidFill>
                      <a:srgbClr val="000000"/>
                    </a:solidFill>
                    <a:latin typeface="Times New Roman"/>
                  </a:rPr>
                  <a:t>6 500 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2146680" y="5349240"/>
                <a:ext cx="5497920" cy="1127520"/>
                <a:chOff x="2146680" y="5349240"/>
                <a:chExt cx="5497920" cy="112752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2146680" y="5651640"/>
                  <a:ext cx="5303160" cy="825120"/>
                  <a:chOff x="2146680" y="5651640"/>
                  <a:chExt cx="5303160" cy="82512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2146680" y="5744880"/>
                    <a:ext cx="5303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4066560" y="5651640"/>
                    <a:ext cx="0" cy="182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3517920" y="5836320"/>
                    <a:ext cx="1188360" cy="640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9 400 Sk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priem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" name=""/>
                <p:cNvGrpSpPr/>
                <p:nvPr/>
              </p:nvGrpSpPr>
              <p:grpSpPr>
                <a:xfrm>
                  <a:off x="2420640" y="5349240"/>
                  <a:ext cx="5223960" cy="485280"/>
                  <a:chOff x="2420640" y="5349240"/>
                  <a:chExt cx="5223960" cy="48528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2420640" y="5651640"/>
                    <a:ext cx="0" cy="182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083720" y="5651640"/>
                    <a:ext cx="0" cy="182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706280" y="5651640"/>
                    <a:ext cx="0" cy="182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4112280" y="5349240"/>
                    <a:ext cx="1188360" cy="27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 000 Sk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6456240" y="5349240"/>
                    <a:ext cx="1188360" cy="27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 700 Sk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7" name=""/>
            <p:cNvGrpSpPr/>
            <p:nvPr/>
          </p:nvGrpSpPr>
          <p:grpSpPr>
            <a:xfrm>
              <a:off x="2407680" y="4267080"/>
              <a:ext cx="3893040" cy="472320"/>
              <a:chOff x="2407680" y="4267080"/>
              <a:chExt cx="3893040" cy="47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3160440" y="4647960"/>
                <a:ext cx="265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74840" y="4554720"/>
                <a:ext cx="0" cy="182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43320" y="4554720"/>
                <a:ext cx="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629320" y="4556520"/>
                <a:ext cx="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66280" y="4556520"/>
                <a:ext cx="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12360" y="4267080"/>
                <a:ext cx="11883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600" spc="-1" strike="noStrike">
                    <a:solidFill>
                      <a:srgbClr val="000000"/>
                    </a:solidFill>
                    <a:latin typeface="Times New Roman"/>
                  </a:rPr>
                  <a:t>11 200 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579480" y="4267080"/>
                <a:ext cx="11883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600" spc="-1" strike="noStrike">
                    <a:solidFill>
                      <a:srgbClr val="000000"/>
                    </a:solidFill>
                    <a:latin typeface="Times New Roman"/>
                  </a:rPr>
                  <a:t>9 600 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07680" y="4267080"/>
                <a:ext cx="11883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600" spc="-1" strike="noStrike">
                    <a:solidFill>
                      <a:srgbClr val="000000"/>
                    </a:solidFill>
                    <a:latin typeface="Times New Roman"/>
                  </a:rPr>
                  <a:t>8 400 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1A8D-FF1E-4D6D-A5A3-9F6CE4FB36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aritmetický prie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dnoduchý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áže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n – počet pozorovaní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.....x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j=1,2,3,....n               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=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57600" y="1295280"/>
                <a:ext cx="3079800" cy="168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438280" y="2971800"/>
                <a:ext cx="426744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A8B0-F28D-45CA-85E5-BF3ED009A2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m</cp:lastModifiedBy>
  <cp:lastPrinted>2004-02-23T07:23:34Z</cp:lastPrinted>
  <dcterms:modified xsi:type="dcterms:W3CDTF">2005-02-05T16:23:20Z</dcterms:modified>
  <cp:revision>86</cp:revision>
  <dc:subject/>
  <dc:title>PowerPoint Presentation</dc:title>
</cp:coreProperties>
</file>