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3.wmf" ContentType="image/x-wmf"/>
  <Override PartName="/ppt/media/image5.wmf" ContentType="image/x-wmf"/>
  <Override PartName="/ppt/media/image4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566A-A3FC-40F7-A933-6D0162BA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FBAD-E04D-4CCA-BB52-90F0A25B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8E2D-EA46-4413-9796-6208C694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8AB9-4376-4F82-BA19-10837CC3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1BCE-1A95-41CC-9EF3-ADE8584F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098F-4769-4920-8EBD-0E3D48F3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1560-E6D0-4592-84FF-779362F0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50CA-C5BB-4D3B-9878-274FA306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8FAD-8B30-41FC-A9B3-C397B6B6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8EBD-5F40-4A51-B6F4-BB1F3C36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3964-9837-4AAE-AE73-8BEFFA1C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D845-5CC3-4183-9F3B-E1E870B0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0B85-C071-495B-9452-20D9BFD1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CE8D-151E-450A-81C8-C8D3BC0D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583B-7DBB-4016-8BA2-5AF5E11A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1B08-1EC6-4D1B-9616-973C58CA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8669-9BD4-406D-B752-9429D2B7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5A95-78A8-462E-BEAB-5C890275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7656-8504-4954-9201-0CC6A495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4746-D245-473F-A330-E08C86A7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F1A0-8A6E-48C2-8710-C3D6A2BE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347D-A442-454A-8066-A64F91DF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C044-BD06-4028-ACB8-5430C063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FBCE-7786-48DA-A385-5E47BE4B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1af91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1af91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1af91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af9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1af91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af9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1af91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3D78-939A-406A-9297-F32400538351}" type="slidenum">
              <a:rPr b="0" lang="en-US" sz="1400" spc="-1" strike="noStrike">
                <a:solidFill>
                  <a:srgbClr val="d1af9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7CCD-D9BC-43D9-ACFD-E3A1F3D1809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743200" y="1981080"/>
          <a:ext cx="2779560" cy="278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981080"/>
                    <a:ext cx="277956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3830760" cy="5638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71440" y="3219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1143000"/>
            <a:ext cx="5105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Štatistická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indukci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228600"/>
            <a:ext cx="48769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ám pred sebo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recko orechov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iahnem dovnútra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ytiahnem orech, rozlúsknem ho a je prázdny. Čo z toho môžem usúdiť?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Optimista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povie: “No toto! Jediný zlý orech a práve ten si musím vytiahnuť ja. Nech, aspoň sme sa ho zbavili.”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Pesimista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vie: ”Toho som sa obával , vrecko je plné zlých orechov”. A čo povie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štatistik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? Najskôr prizná, že pravdu môže mať aj pesimista aj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ptimista.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8" name="Untitled-3" descr=""/>
          <p:cNvPicPr/>
          <p:nvPr/>
        </p:nvPicPr>
        <p:blipFill>
          <a:blip r:embed="rId5"/>
          <a:stretch/>
        </p:blipFill>
        <p:spPr>
          <a:xfrm>
            <a:off x="7391520" y="38088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1FA6-83B3-4972-8179-539D98D7D8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Bodový odhad parametra Q  základného súboru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Bodový odhad -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eznámy parameter Q odhadujeme jedným číslom, geometricky jedným bodom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dhad -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stimátor, skrátene est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zapisujeme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est Q  = u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Q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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 u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Najčastejšie odhadujeme: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1001"/>
              </a:spcBef>
              <a:buClr>
                <a:srgbClr val="d1af91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strednú hodnotu </a:t>
            </a:r>
            <a:r>
              <a:rPr b="1" i="1" lang="en-US" sz="40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1001"/>
              </a:spcBef>
              <a:buClr>
                <a:srgbClr val="d1af91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baseline="-25000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rozptyl </a:t>
            </a:r>
            <a:r>
              <a:rPr b="1" i="1" lang="en-US" sz="40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40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a smerodajnú odchýlku </a:t>
            </a:r>
            <a:r>
              <a:rPr b="1" i="1" lang="en-US" sz="40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268F-C0E2-4E0A-B03C-291F52D951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Vlastnosti bodového odhadu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d bodových odhadov požadujeme splnenie nasledovných vlastností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Neskreslenosť (nevychýlenosť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konzistenci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výdatnosť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suficienci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19920" y="3505320"/>
            <a:ext cx="2751120" cy="2971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791320" y="3733920"/>
            <a:ext cx="2743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vé dv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lastnost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i vysvetlí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8EAE-1329-44A5-9B39-9EC5EA32F9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70000"/>
              </a:lnSpc>
              <a:buClr>
                <a:srgbClr val="004c2b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Neskreslenosť 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419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(u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- Q) = 0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( u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)= Q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..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 každom konkrétnom prípade výberového skúmania sa dopúšťame chyby, avšak požadujeme aby stredná hodnota chýb bola rovná nule (t.j. aby sa  v priemere nulovali…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791320" y="274320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4419360" cy="3263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943600" y="175248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705720" y="182880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715000" y="274320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095880" y="114300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858000" y="297180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943600" y="236232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086600" y="251460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248520" y="205740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553080" y="129528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705720" y="236232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304920" y="449568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Asymptoticky neskresleným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dhadom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Q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e výberová charakteristika, pre ktorú platí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905120" y="5486400"/>
                <a:ext cx="3047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553080" y="259092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0061-2018-4C1C-9337-A5754BCDFF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Kon</a:t>
            </a:r>
            <a:r>
              <a:rPr b="1" lang="sk-SK" sz="3600" spc="-1" strike="noStrike">
                <a:solidFill>
                  <a:srgbClr val="004c2b"/>
                </a:solidFill>
                <a:latin typeface="Times New Roman"/>
              </a:rPr>
              <a:t>z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istencia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165320" y="1219320"/>
                <a:ext cx="49845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Q </m:t>
                    </m:r>
                    <m:r>
                      <m:t xml:space="preserve">|</m:t>
                    </m:r>
                    <m:r>
                      <m:t xml:space="preserve">&lt;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974880" y="2362320"/>
            <a:ext cx="614988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dstata konzistencie je v záko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eľkých čísel. Konzistencia zabezpečuj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 štatistickej praxi pri veľkých výberoch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veľkú chybu odhadu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stačujúcou podmienkou konzistencie j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ymptotická neskreslenosť odhadu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u 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a splnenie vzťahu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200400" y="5105520"/>
                <a:ext cx="34290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EBB7-5221-46DD-B3B3-147E00DB9E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Výdatnosť BO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1af91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aždá výberová charakteristika je náhodná veličina, ktorej variabilitu meriame rozptylom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1af91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a výdatný bodový odhad považujeme tú charakteristiku (ak máme k dispozícii niekoľko)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torá má najmenší rozpty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114800" y="3581280"/>
            <a:ext cx="3962520" cy="264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85800" y="4114800"/>
                <a:ext cx="32004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m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EB60-FD93-4538-8B95-CA89728276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Bodový odhad strednej hodnoty </a:t>
            </a:r>
            <a:r>
              <a:rPr b="1" i="1" lang="en-US" sz="3600" spc="-1" strike="noStrike">
                <a:solidFill>
                  <a:srgbClr val="004c2b"/>
                </a:solidFill>
                <a:latin typeface="Symbol"/>
                <a:ea typeface="Symbol"/>
              </a:rPr>
              <a:t>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85920" y="1219320"/>
                <a:ext cx="844704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   ,   </m:t>
                    </m:r>
                    <m:r>
                      <m:t xml:space="preserve">D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342900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tože      dáva neskreslený odhad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 platí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219320" y="350532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106640" y="3962520"/>
                <a:ext cx="59338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den>
                    </m:f>
                    <m:r>
                      <m:t xml:space="preserve">D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228600" y="51055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Je splnená postačujúca podmienka konzistencie 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je neskresleným a konzistentným odhadom strednej hodnoty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724280" y="5943600"/>
                <a:ext cx="1627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696080" y="2362320"/>
            <a:ext cx="1011240" cy="1904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819520" y="5943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09480" y="2133720"/>
                <a:ext cx="182880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2819520" y="2438280"/>
            <a:ext cx="548640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!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udeme nazývať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tredná, resp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štandardná chyba priemer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209680"/>
            <a:ext cx="2286000" cy="1067040"/>
          </a:xfrm>
          <a:prstGeom prst="wedgeEllipseCallout">
            <a:avLst>
              <a:gd name="adj1" fmla="val 74236"/>
              <a:gd name="adj2" fmla="val -2663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6095880"/>
            <a:ext cx="7596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8001000" y="518148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D295-B0A4-466B-A63D-A22F5F2342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Bodový odhad rozptylu </a:t>
            </a:r>
            <a:r>
              <a:rPr b="1" i="1" lang="en-US" sz="3600" spc="-1" strike="noStrike">
                <a:solidFill>
                  <a:srgbClr val="004c2b"/>
                </a:solidFill>
                <a:latin typeface="Symbol"/>
                <a:ea typeface="Symbol"/>
              </a:rPr>
              <a:t></a:t>
            </a:r>
            <a:r>
              <a:rPr b="1" i="1" lang="en-US" sz="3600" spc="-1" strike="noStrike" baseline="30000">
                <a:solidFill>
                  <a:srgbClr val="004c2b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,</a:t>
            </a:r>
            <a:r>
              <a:rPr b="1" lang="en-US" sz="3600" spc="-1" strike="noStrike" baseline="30000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 resp. </a:t>
            </a:r>
            <a:r>
              <a:rPr b="1" i="1" lang="en-US" sz="3600" spc="-1" strike="noStrike">
                <a:solidFill>
                  <a:srgbClr val="004c2b"/>
                </a:solidFill>
                <a:latin typeface="Symbol"/>
                <a:ea typeface="Symbol"/>
              </a:rPr>
              <a:t>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16040" y="1371600"/>
                <a:ext cx="6948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E 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[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33526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7432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ptyl výberového súboru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 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eda nie je neskreslený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dhadom 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- poskytuje negatívne skreslený odha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kreslenie predstavuj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343400" y="3581280"/>
                <a:ext cx="13716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84080" y="5257800"/>
                <a:ext cx="529128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 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685800" y="4343400"/>
            <a:ext cx="709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ptyl výberového súboru  je asymptoticky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skresleným odhadom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tož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F541-69BC-496B-B1BD-6BAF543E78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476280"/>
            <a:ext cx="8282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eskresleným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bodovým odhadom rozptylu základnéh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úboru 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i="1" lang="en-US" sz="28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je výberový rozptyl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1160" y="1752480"/>
                <a:ext cx="512100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den>
                    </m:f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990720" y="1828800"/>
            <a:ext cx="838080" cy="1295280"/>
          </a:xfrm>
          <a:prstGeom prst="ellipse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1828800" y="2895480"/>
            <a:ext cx="457200" cy="4572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960" y="3276720"/>
            <a:ext cx="26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esselova oprav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1600200"/>
            <a:ext cx="373392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diel medzi s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a s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e tým menší, čím je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äčšie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eda pri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siahlých výberových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úboroch je zanedbateľn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 už pri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n &gt; 50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240" y="41338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449568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Záver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048120" y="4572000"/>
                <a:ext cx="19047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048120" y="5105520"/>
                <a:ext cx="22795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7200" y="3886200"/>
            <a:ext cx="971640" cy="182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DCC4-5D50-44D1-8AC4-5CEADAD585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4920" y="380880"/>
            <a:ext cx="80294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e1438"/>
                </a:solidFill>
                <a:latin typeface="Times New Roman"/>
              </a:rPr>
              <a:t>Príklad: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U 400 náhodne vybraných domácností v určitom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gióne SR boli zisťované výdavky na alkoholické nápoj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 cigarety. Z týchto údajov bol zistený výberový priem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 973 Sk a výberová smerodajná odchýlka s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 286 Sk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Uskutočníme bodový odhad strednej hodnoty a smerodajnej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dchýlky výdavkov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04560" y="1523880"/>
                <a:ext cx="355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7200" y="2819520"/>
                <a:ext cx="327672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3</m:t>
                    </m:r>
                    <m:r>
                      <m:rPr>
                        <m:lit/>
                        <m:nor/>
                      </m:rPr>
                      <m:t xml:space="preserve">S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191120" y="2743200"/>
                <a:ext cx="37335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6</m:t>
                    </m:r>
                    <m:r>
                      <m:rPr>
                        <m:lit/>
                        <m:nor/>
                      </m:rPr>
                      <m:t xml:space="preserve">S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09480" y="3581280"/>
                <a:ext cx="34290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666360" y="4994280"/>
            <a:ext cx="830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dhadnutá stredná chyba priemeru je relatívne  malá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edstavuje len 1.5% priemeru. </a:t>
            </a:r>
            <a:r>
              <a:rPr b="1" lang="sk-SK" sz="2400" spc="-1" strike="noStrike">
                <a:solidFill>
                  <a:srgbClr val="333333"/>
                </a:solidFill>
                <a:latin typeface="Times New Roman"/>
              </a:rPr>
              <a:t>Môžeme teda očakávať, že s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33"/>
                </a:solidFill>
                <a:latin typeface="Times New Roman"/>
              </a:rPr>
              <a:t>pri odhadoch priemernych výdavkov na alkoholické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33"/>
                </a:solidFill>
                <a:latin typeface="Times New Roman"/>
              </a:rPr>
              <a:t>nápoje a cigarety nedopúšťame veľkej chyby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8077320" y="2590920"/>
            <a:ext cx="777600" cy="236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A8A6-C2F2-403C-B4D4-971B0B8670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Porovnanie rozdelenia </a:t>
            </a:r>
            <a:r>
              <a:rPr b="1" i="1" lang="en-US" sz="3200" spc="-1" strike="noStrike">
                <a:solidFill>
                  <a:srgbClr val="004c2b"/>
                </a:solidFill>
                <a:latin typeface="Times New Roman"/>
              </a:rPr>
              <a:t>štatistického znaku  X</a:t>
            </a: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 v základnom súbore a rozdelenia </a:t>
            </a:r>
            <a:r>
              <a:rPr b="1" i="1" lang="en-US" sz="3200" spc="-1" strike="noStrike">
                <a:solidFill>
                  <a:srgbClr val="004c2b"/>
                </a:solidFill>
                <a:latin typeface="Times New Roman"/>
              </a:rPr>
              <a:t>výberového priemeru</a:t>
            </a: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 :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371600" y="2286000"/>
            <a:ext cx="6933960" cy="3709800"/>
            <a:chOff x="1371600" y="2286000"/>
            <a:chExt cx="6933960" cy="3709800"/>
          </a:xfrm>
        </p:grpSpPr>
        <p:sp>
          <p:nvSpPr>
            <p:cNvPr id="192" name=""/>
            <p:cNvSpPr/>
            <p:nvPr/>
          </p:nvSpPr>
          <p:spPr>
            <a:xfrm>
              <a:off x="3565800" y="3474360"/>
              <a:ext cx="4739760" cy="2496600"/>
            </a:xfrm>
            <a:custGeom>
              <a:avLst/>
              <a:gdLst/>
              <a:ahLst/>
              <a:rect l="l" t="t" r="r" b="b"/>
              <a:pathLst>
                <a:path w="2592" h="1496">
                  <a:moveTo>
                    <a:pt x="0" y="1448"/>
                  </a:moveTo>
                  <a:cubicBezTo>
                    <a:pt x="220" y="1256"/>
                    <a:pt x="440" y="1064"/>
                    <a:pt x="624" y="824"/>
                  </a:cubicBezTo>
                  <a:cubicBezTo>
                    <a:pt x="808" y="584"/>
                    <a:pt x="920" y="0"/>
                    <a:pt x="1104" y="8"/>
                  </a:cubicBezTo>
                  <a:cubicBezTo>
                    <a:pt x="1288" y="16"/>
                    <a:pt x="1480" y="624"/>
                    <a:pt x="1728" y="872"/>
                  </a:cubicBezTo>
                  <a:cubicBezTo>
                    <a:pt x="1976" y="1120"/>
                    <a:pt x="2440" y="1384"/>
                    <a:pt x="2592" y="1496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49280" y="5730480"/>
              <a:ext cx="613800" cy="106560"/>
            </a:xfrm>
            <a:custGeom>
              <a:avLst/>
              <a:gdLst/>
              <a:ahLst/>
              <a:rect l="l" t="t" r="r" b="b"/>
              <a:pathLst>
                <a:path w="336" h="64">
                  <a:moveTo>
                    <a:pt x="0" y="0"/>
                  </a:moveTo>
                  <a:cubicBezTo>
                    <a:pt x="148" y="32"/>
                    <a:pt x="296" y="64"/>
                    <a:pt x="336" y="48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94" name=""/>
            <p:cNvGraphicFramePr/>
            <p:nvPr/>
          </p:nvGraphicFramePr>
          <p:xfrm>
            <a:off x="1371600" y="2286000"/>
            <a:ext cx="6495120" cy="37098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71600" y="2286000"/>
                      <a:ext cx="6495120" cy="370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6" name=""/>
            <p:cNvSpPr/>
            <p:nvPr/>
          </p:nvSpPr>
          <p:spPr>
            <a:xfrm>
              <a:off x="2424600" y="5169600"/>
              <a:ext cx="509076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4970160" y="2606400"/>
                  <a:ext cx="1316520" cy="63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2709720" y="4034880"/>
                  <a:ext cx="1272600" cy="63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9" name=""/>
            <p:cNvSpPr/>
            <p:nvPr/>
          </p:nvSpPr>
          <p:spPr>
            <a:xfrm flipH="1">
              <a:off x="4706640" y="2846880"/>
              <a:ext cx="87840" cy="2242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82680" y="2846880"/>
              <a:ext cx="0" cy="23227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67800" y="5249880"/>
              <a:ext cx="5263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14800" y="5490360"/>
              <a:ext cx="166752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29320" y="5410080"/>
              <a:ext cx="54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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4179960" y="4128120"/>
                  <a:ext cx="70236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 rot="10800000">
                <a:off x="2209320" y="167652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5C14-0F79-4270-AB49-2384AC9558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304920"/>
            <a:ext cx="888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33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 chceme vedie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ť ako chutí víno, uložen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v hektolitrovom sude, nemusíme vypiť celý sud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Stačí malý dúšok k posúdeniu jeho kvality…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057400"/>
            <a:ext cx="8825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c2b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 však chceme zistiť, či náklad orechov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 nákladnom aute je z veľkej časti pokazený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tačí keď vyberieme pár orechov z rôznych miest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nákladu a rozlúskeneme ich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o však tomu je, ak majú byť opytovaní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estovaní a zaraďovaní ľudia, alebo domácnosti? Nedelia sa predsa len na “dobrých” a “zlých” ako orechy…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4771-0B27-4B09-AB56-5E13823453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Intervalový odhad parametra Q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09480" y="1219320"/>
          <a:ext cx="8001000" cy="4957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219320"/>
                    <a:ext cx="8001000" cy="49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847800" y="1447920"/>
            <a:ext cx="7294320" cy="4604400"/>
            <a:chOff x="847800" y="1447920"/>
            <a:chExt cx="7294320" cy="4604400"/>
          </a:xfrm>
        </p:grpSpPr>
        <p:sp>
          <p:nvSpPr>
            <p:cNvPr id="210" name=""/>
            <p:cNvSpPr/>
            <p:nvPr/>
          </p:nvSpPr>
          <p:spPr>
            <a:xfrm>
              <a:off x="2068560" y="5334120"/>
              <a:ext cx="567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q</a:t>
              </a:r>
              <a:r>
                <a:rPr b="1" lang="en-US" sz="3600" spc="-1" strike="noStrike" baseline="-25000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36000" y="5334120"/>
              <a:ext cx="567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q</a:t>
              </a:r>
              <a:r>
                <a:rPr b="1" lang="en-US" sz="3600" spc="-1" strike="noStrike" baseline="-25000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86000" y="5105520"/>
              <a:ext cx="0" cy="3823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05720" y="5029200"/>
              <a:ext cx="0" cy="4586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22640" y="3543480"/>
              <a:ext cx="282240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(1 - </a:t>
              </a: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spoľahlivosť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odhadu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85920" y="2589120"/>
              <a:ext cx="1839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42360" y="3965400"/>
              <a:ext cx="82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11200" y="4041720"/>
              <a:ext cx="82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00200" y="4572000"/>
              <a:ext cx="552600" cy="83988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730920" y="4651200"/>
              <a:ext cx="470160" cy="7639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81240" y="1447920"/>
              <a:ext cx="4941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P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(q</a:t>
              </a:r>
              <a:r>
                <a:rPr b="1" lang="en-US" sz="3600" spc="-1" strike="noStrike" baseline="-25000">
                  <a:solidFill>
                    <a:srgbClr val="333333"/>
                  </a:solidFill>
                  <a:latin typeface="Times New Roman"/>
                </a:rPr>
                <a:t>1 </a:t>
              </a: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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 Q </a:t>
              </a: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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  q</a:t>
              </a:r>
              <a:r>
                <a:rPr b="1" lang="en-US" sz="3600" spc="-1" strike="noStrike" baseline="-25000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) = 1-</a:t>
              </a: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45040" y="2440080"/>
              <a:ext cx="2197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- 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riziko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      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odhadu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	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7800" y="2363760"/>
              <a:ext cx="271152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,q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2 </a:t>
              </a: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- dolná</a:t>
              </a:r>
              <a:r>
                <a:rPr b="0" lang="en-US" sz="4000" spc="-1" strike="noStrike" baseline="-25000">
                  <a:solidFill>
                    <a:srgbClr val="3333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baseline="-25000">
                  <a:solidFill>
                    <a:srgbClr val="333333"/>
                  </a:solidFill>
                  <a:latin typeface="Times New Roman"/>
                </a:rPr>
                <a:t>a horná hranica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baseline="-25000">
                  <a:solidFill>
                    <a:srgbClr val="333333"/>
                  </a:solidFill>
                  <a:latin typeface="Times New Roman"/>
                </a:rPr>
                <a:t>intervalu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352680" y="24382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(g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3F2-FBBA-400A-8C36-1F9B4222A6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Intervalový odhad strednej hodnoty  </a:t>
            </a:r>
            <a:r>
              <a:rPr b="1" i="1" lang="en-US" sz="4000" spc="-1" strike="noStrike">
                <a:solidFill>
                  <a:srgbClr val="004c2b"/>
                </a:solidFill>
                <a:latin typeface="Symbol"/>
                <a:ea typeface="Symbol"/>
              </a:rPr>
              <a:t></a:t>
            </a:r>
            <a:r>
              <a:rPr b="1" i="1" lang="en-US" sz="4000" spc="-1" strike="noStrike">
                <a:solidFill>
                  <a:srgbClr val="004c2b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základného súboru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1743120"/>
            <a:ext cx="907092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dpokladajme, že štatistický znak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 základnom súbor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á …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N(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, ak vytvoríme výberový súbor o rozsahu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n,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potom aj       má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N(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/n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Intervaly spoľahlivosti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re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určujeme rôzn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a)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Ak poznáme rozptyl základného súboru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(teoretické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          východisko), vytvoríme normovanú premennú: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905120" y="4800600"/>
                <a:ext cx="190476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243760" y="4819680"/>
            <a:ext cx="353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u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á rozdelenie N(0,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závislé od strednej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odnoty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191120" y="5257440"/>
            <a:ext cx="914400" cy="1522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 rot="10800000">
                <a:off x="1676520" y="2590560"/>
                <a:ext cx="455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C0A7-5D0E-44A5-A186-1ECCEAEB2B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38360" y="0"/>
                <a:ext cx="781992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-μ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den>
                        </m:f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-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1" name=""/>
          <p:cNvGraphicFramePr/>
          <p:nvPr/>
        </p:nvGraphicFramePr>
        <p:xfrm>
          <a:off x="990720" y="2590920"/>
          <a:ext cx="7162560" cy="380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590920"/>
                    <a:ext cx="71625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828800" y="5859360"/>
                <a:ext cx="152388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095880" y="5964120"/>
                <a:ext cx="10177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2514600" y="5486400"/>
            <a:ext cx="0" cy="380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00800" y="5486400"/>
            <a:ext cx="0" cy="380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46680" y="4202280"/>
            <a:ext cx="123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1 -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3880" y="2895480"/>
            <a:ext cx="0" cy="289584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560" y="297180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f(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F0B7-57C9-4151-A32E-C007A75C40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62120" y="1066680"/>
                <a:ext cx="8381880" cy="14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μ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/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-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1508040" y="7048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6640" y="53352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o úprav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3720" y="1066680"/>
            <a:ext cx="1676160" cy="1600200"/>
          </a:xfrm>
          <a:prstGeom prst="wedgeEllipseCallout">
            <a:avLst>
              <a:gd name="adj1" fmla="val 44981"/>
              <a:gd name="adj2" fmla="val 58629"/>
            </a:avLst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2819520"/>
            <a:ext cx="39625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ípustná chyba odhad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3886200"/>
            <a:ext cx="5410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je polovicou šírky intervalu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rčuje presnosť odhadu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tervalový odhad je vlastn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odový odhad 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t.j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502160" y="3346560"/>
                <a:ext cx="1396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438280" y="5715000"/>
                <a:ext cx="13734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 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5410080" y="4648320"/>
            <a:ext cx="3429000" cy="0"/>
          </a:xfrm>
          <a:prstGeom prst="line">
            <a:avLst/>
          </a:prstGeom>
          <a:ln w="381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572000"/>
            <a:ext cx="0" cy="2286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238880" y="47242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7543800" y="4724280"/>
                <a:ext cx="1373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257800" y="4724280"/>
                <a:ext cx="1373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CBD3-8DB1-4BA0-A225-EF1CFCDD5C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4920" y="380880"/>
            <a:ext cx="72230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Ak nepoznáme rozptyl základného súboru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est </a:t>
            </a:r>
            <a:r>
              <a:rPr b="1" i="1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28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 ,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a rozsah výberového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súboru n &gt; 3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762120" y="1752480"/>
                <a:ext cx="312408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457200" y="3429000"/>
            <a:ext cx="800100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c)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Ak nepoznáme rozptyl základného súboru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est </a:t>
            </a:r>
            <a:r>
              <a:rPr b="1" i="1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28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 ,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a rozsah výberového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súboru n </a:t>
            </a:r>
            <a:r>
              <a:rPr b="0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 3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685800" y="4648320"/>
                <a:ext cx="413712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5486400" y="4952880"/>
            <a:ext cx="289548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(n-1)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-kvantil Studentovh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dele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57960" y="1971720"/>
            <a:ext cx="32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ôžme použiť N(0,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42D4-0151-4B02-94AC-D2679119BB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8600" y="171360"/>
            <a:ext cx="90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e1438"/>
                </a:solidFill>
                <a:latin typeface="Times New Roman"/>
              </a:rPr>
              <a:t>Príklad: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Bodový odhad výdavkov domácností regiónu n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lkohol a cigarety doplníme o 95 %-ný interval spoľahlivost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219320" y="1066680"/>
                <a:ext cx="2361960" cy="12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610920" y="3429000"/>
            <a:ext cx="8055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 1.96 * 14.3 = 28.0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973 - 28.03 &lt; 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&lt; 973 + 28.03,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.j    944.97  &lt; 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&lt;  1 001.03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 95%-nou spoľahlivosťou odhadujeme priemerné výdavky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 intervale od 945 Sk po 1001 Sk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1066680"/>
            <a:ext cx="10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=4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943240" y="990720"/>
                <a:ext cx="20574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4479840" y="20001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572000" y="1600200"/>
                <a:ext cx="355752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6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464000" y="2590920"/>
                <a:ext cx="43275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-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777960" cy="23623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013360" y="3546360"/>
            <a:ext cx="35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Excel... NORMSINV(0.975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66EC-8A56-4467-9852-3F91E7016B3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0880" y="422280"/>
            <a:ext cx="88203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e1438"/>
                </a:solidFill>
                <a:latin typeface="Times New Roman"/>
              </a:rPr>
              <a:t>Príklad: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Bol uskutočnený prieskum na zistenie k akej strat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a hmotnosti mrkvy dochádza po týždennom skladovaní v sklade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nalyzovaných bolo 20 vzoriek o hmotnosti 1kg na začiatku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uskladnenia a zistené straty na hmotnosti. Zo vzoriek bol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zistená priemerná strata hmotnosti 49g a výber. smerodajná odchýlka 4g. Predpokladáme, že straty na hmotnosti majú normálne rozdel.Uskutočníte odhad priemernej stra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hmotnosti s 95% spoľahlivosťou. Preto</a:t>
            </a:r>
            <a:r>
              <a:rPr b="1" lang="sk-SK" sz="2400" spc="-1" strike="noStrike">
                <a:solidFill>
                  <a:srgbClr val="333333"/>
                </a:solidFill>
                <a:latin typeface="Times New Roman"/>
              </a:rPr>
              <a:t>že n&lt;30, použijeme</a:t>
            </a:r>
            <a:r>
              <a:rPr b="0" lang="sk-SK" sz="2400" spc="-1" strike="noStrike">
                <a:solidFill>
                  <a:srgbClr val="333333"/>
                </a:solidFill>
                <a:latin typeface="Times New Roman"/>
              </a:rPr>
              <a:t>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457200" y="3581280"/>
                <a:ext cx="3222720" cy="289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-1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9 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038480" y="3657600"/>
            <a:ext cx="411480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333333"/>
                </a:solidFill>
                <a:latin typeface="Times New Roman"/>
              </a:rPr>
              <a:t>(n-1)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-kvantil Studentovh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ozdelenia, t</a:t>
            </a:r>
            <a:r>
              <a:rPr b="0" lang="en-US" sz="2400" spc="-1" strike="noStrike" baseline="-25000">
                <a:solidFill>
                  <a:srgbClr val="333333"/>
                </a:solidFill>
                <a:latin typeface="Times New Roman"/>
              </a:rPr>
              <a:t>0.05(19)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=2.09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INV(0.05;19) - Exc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62520" y="476568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 95 % spoľahlivosťou odhaduje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trednú stratu hmotnosti kilovej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zorky mrkvy v interva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d 47.1g po 50.9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8366040" y="2438280"/>
            <a:ext cx="777960" cy="236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B8DB-7ECE-46AD-9032-2072415DB34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Od čoho závisí veľkosť prípustnej chyby</a:t>
            </a: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4c2b"/>
                </a:solidFill>
                <a:latin typeface="Symbol"/>
                <a:ea typeface="Symbol"/>
              </a:rPr>
              <a:t></a:t>
            </a: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 ??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7772400" y="1143000"/>
            <a:ext cx="809640" cy="15238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57200" y="1077840"/>
            <a:ext cx="745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33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d zvolenej spoľahlivosti odhadu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(1-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trednej - štandardnej chyby priemeru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ktorá je ovplyvnená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37360" y="42861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56120" y="2714760"/>
            <a:ext cx="685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3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ariabilitou znaku - nemôžeme ju ovplyvniť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eľkosťou výberového súboru, ktor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vplyvniť môžme!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410080" y="4495680"/>
                <a:ext cx="3048120" cy="159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-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743040" y="4257720"/>
            <a:ext cx="490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otrebný rozsah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súboru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i vopred zvolenej spoľahlivost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 požadovanej presnosti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ôžme určiť nasledovn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5257800" y="3581280"/>
            <a:ext cx="1905120" cy="12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4CAD-16AB-487F-942E-AB0C6122BF9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Interval spoľahlivosti pre rozptyl </a:t>
            </a:r>
            <a:r>
              <a:rPr b="1" i="1" lang="en-US" sz="4000" spc="-1" strike="noStrike">
                <a:solidFill>
                  <a:srgbClr val="004c2b"/>
                </a:solidFill>
                <a:latin typeface="Symbol"/>
                <a:ea typeface="Symbol"/>
              </a:rPr>
              <a:t></a:t>
            </a:r>
            <a:r>
              <a:rPr b="1" i="1" lang="en-US" sz="40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i="1" lang="en-US" sz="4000" spc="-1" strike="noStrike" baseline="30000">
                <a:solidFill>
                  <a:srgbClr val="004c2b"/>
                </a:solidFill>
                <a:latin typeface="Times New Roman"/>
              </a:rPr>
              <a:t>2</a:t>
            </a:r>
            <a:r>
              <a:rPr b="1" lang="en-US" sz="4000" spc="-1" strike="noStrike" baseline="30000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a </a:t>
            </a:r>
            <a:r>
              <a:rPr b="1" i="1" lang="en-US" sz="4000" spc="-1" strike="noStrike">
                <a:solidFill>
                  <a:srgbClr val="004c2b"/>
                </a:solidFill>
                <a:latin typeface="Symbol"/>
                <a:ea typeface="Symbol"/>
              </a:rPr>
              <a:t>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1676520" y="2133720"/>
                <a:ext cx="66610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4724280" y="838080"/>
                <a:ext cx="266724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669600" y="120960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ytvoríme veličinu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18120" y="2971800"/>
            <a:ext cx="6792480" cy="3580920"/>
            <a:chOff x="618120" y="2971800"/>
            <a:chExt cx="6792480" cy="3580920"/>
          </a:xfrm>
        </p:grpSpPr>
        <p:sp>
          <p:nvSpPr>
            <p:cNvPr id="287" name=""/>
            <p:cNvSpPr/>
            <p:nvPr/>
          </p:nvSpPr>
          <p:spPr>
            <a:xfrm>
              <a:off x="1604880" y="2971800"/>
              <a:ext cx="0" cy="30672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23880" y="5964120"/>
              <a:ext cx="586764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38280" y="4648320"/>
              <a:ext cx="0" cy="13460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15000" y="5410080"/>
              <a:ext cx="0" cy="59868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2120" y="4478400"/>
              <a:ext cx="75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77960" y="4114800"/>
              <a:ext cx="75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56760" y="4179960"/>
              <a:ext cx="98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1 - </a:t>
              </a:r>
              <a:r>
                <a:rPr b="1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13120" y="5964120"/>
              <a:ext cx="164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</a:t>
              </a:r>
              <a:r>
                <a:rPr b="1" lang="en-US" sz="2800" spc="-1" strike="noStrike" baseline="30000">
                  <a:solidFill>
                    <a:srgbClr val="333333"/>
                  </a:solidFill>
                  <a:latin typeface="Times New Roman"/>
                </a:rPr>
                <a:t>2 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1-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46760" y="5964120"/>
              <a:ext cx="1177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</a:t>
              </a:r>
              <a:r>
                <a:rPr b="1" lang="en-US" sz="2800" spc="-1" strike="noStrike" baseline="30000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8120" y="2971800"/>
              <a:ext cx="92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f(</a:t>
              </a:r>
              <a:r>
                <a:rPr b="0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</a:t>
              </a:r>
              <a:r>
                <a:rPr b="0" lang="en-US" sz="3200" spc="-1" strike="noStrike" baseline="30000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 rot="10800000">
                  <a:off x="6705720" y="5943240"/>
                  <a:ext cx="7048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χ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"/>
            <p:cNvSpPr/>
            <p:nvPr/>
          </p:nvSpPr>
          <p:spPr>
            <a:xfrm>
              <a:off x="1981080" y="3352680"/>
              <a:ext cx="4800600" cy="2590920"/>
            </a:xfrm>
            <a:custGeom>
              <a:avLst/>
              <a:gdLst/>
              <a:ahLst/>
              <a:rect l="l" t="t" r="r" b="b"/>
              <a:pathLst>
                <a:path w="3360" h="1712">
                  <a:moveTo>
                    <a:pt x="0" y="1664"/>
                  </a:moveTo>
                  <a:cubicBezTo>
                    <a:pt x="284" y="912"/>
                    <a:pt x="568" y="160"/>
                    <a:pt x="960" y="80"/>
                  </a:cubicBezTo>
                  <a:cubicBezTo>
                    <a:pt x="1352" y="0"/>
                    <a:pt x="1952" y="912"/>
                    <a:pt x="2352" y="1184"/>
                  </a:cubicBezTo>
                  <a:cubicBezTo>
                    <a:pt x="2752" y="1456"/>
                    <a:pt x="3184" y="1616"/>
                    <a:pt x="3360" y="1712"/>
                  </a:cubicBez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905120" y="4724280"/>
              <a:ext cx="380880" cy="9144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867280" y="5105520"/>
              <a:ext cx="457200" cy="60948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622840" y="3114720"/>
            <a:ext cx="32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vantily CH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Í-kvadrá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rozdele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3047760" y="2971800"/>
            <a:ext cx="25146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562360" y="2895480"/>
            <a:ext cx="7596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B6AC-0B88-4626-9AD9-D58559FC9FC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o odvodení dostávame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533520" y="1371600"/>
                <a:ext cx="83674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 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χ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 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χ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79280" y="4259160"/>
                <a:ext cx="8507520" cy="17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-1</m:t>
                                </m:r>
                                <m:r>
                                  <m:t xml:space="preserve">)</m:t>
                                </m:r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 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χ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≤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-1</m:t>
                                </m:r>
                                <m:r>
                                  <m:t xml:space="preserve">)</m:t>
                                </m:r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 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χ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533520" y="32004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lebo interval pre smerodajnú odchýlku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5857-4287-499D-85E4-76100E7375E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Výberové skúmanie</a:t>
            </a:r>
            <a:br>
              <a:rPr sz="4000"/>
            </a:b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2" name="Untitled-3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4035240" cy="4495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181480" y="1066680"/>
            <a:ext cx="37339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ieľom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výberovéh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kúmania je pomocou výberového súboru odhadnúť vlastnosti základného súboru.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V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ýberový súbor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by mal byť </a:t>
            </a:r>
            <a:r>
              <a:rPr b="0" lang="sk-SK" sz="2800" spc="-1" strike="noStrike">
                <a:solidFill>
                  <a:srgbClr val="9e1438"/>
                </a:solidFill>
                <a:latin typeface="Times New Roman"/>
              </a:rPr>
              <a:t>reprezentatívnou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9e1438"/>
                </a:solidFill>
                <a:latin typeface="Times New Roman"/>
              </a:rPr>
              <a:t>vzorkou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základnéh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súboru. Na obrázku tomu tak nie je.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C58D-0619-426B-A2A2-9DE9032AE4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Otázky na zamyslenie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e143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 čom sa odlišuje bodový a intervalový odhad parametrov základného súboru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e143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o ovplyvňuje zvolená spoľahlivosť presnosť odhadu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e143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o možno zaistiť intervalový odhad strednej hodnoty s vopred zvolenou spľahlivosťou a s vopred stanovenou presnosťou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7567560" y="838080"/>
            <a:ext cx="1077840" cy="3276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3124080" y="5029200"/>
            <a:ext cx="2210040" cy="160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D859-FF54-4C80-B7A6-102A136B821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Príklady výberového skúmani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Štatistika rodinných účtov,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arketingový prieskum spotrebiteľských zvyklostí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ýberové skúmanie u podnikov vybraného sektora,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rieskum verejnej mienky 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kontrola kvalit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2C14-135A-4273-AFE7-69178FC944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Podstata výberového skúmania a základné pojmy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828800"/>
            <a:ext cx="3886200" cy="3505320"/>
          </a:xfrm>
          <a:prstGeom prst="ellipse">
            <a:avLst/>
          </a:prstGeom>
          <a:solidFill>
            <a:srgbClr val="d1af91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2438280"/>
            <a:ext cx="1752480" cy="1524240"/>
          </a:xfrm>
          <a:prstGeom prst="ellipse">
            <a:avLst/>
          </a:prstGeom>
          <a:solidFill>
            <a:srgbClr val="d1af91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ýber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úbor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ozsah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74880" y="1523880"/>
            <a:ext cx="5121000" cy="51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značeni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arametre základného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úboru: 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šeobecne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harakteristiky výberového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úboru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šeobecne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...u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362320" y="4915080"/>
                <a:ext cx="1752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2438280" y="5029200"/>
            <a:ext cx="1219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114800" y="3429000"/>
            <a:ext cx="2743200" cy="10666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6120" y="3962520"/>
            <a:ext cx="231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Základn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úbor, rozsah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N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sp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733920" y="2362320"/>
            <a:ext cx="1752480" cy="2286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5B64-B802-4D39-92E6-C82FAB50F8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Základné úlohy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teória odhadu (TO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známe parametre základného súboru odhadujeme pomocou výberových charakteristí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testovanie štatistických hypotéz (TH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yslovujeme predpoklady o neznámych parametroch základného súboru, ktoré formulujeme ako štatistické hypotézy a ich platnosť overujeme štatistickými postupm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Štatistická indukcia (ŠI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553080" y="304920"/>
            <a:ext cx="1884600" cy="190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BEEB-C3E4-45C1-ABFD-1E05FEA295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Sprievodné úlohy ŠI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rčovanie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ozsahu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berového súboru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rčenie spôsobu,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druhu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výberu jednotiek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eďže výberové charakteristiky sú z hľadiska základného súboru NV,  je potrebné zvoliť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právny model rozdelenia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výberových charakteristí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864D-15B1-4422-93B0-BAE79A65FF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Druhy výberu</a:t>
            </a: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Z hľadiska kritérií pre výber jednotiek rozlišujeme výber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4c2b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áhodn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4c2b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ámern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743200"/>
            <a:ext cx="79851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Z hľadiska opakovateľnosti jednotiek vo výbere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ber s opakovaní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ber bez opakova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4819680"/>
            <a:ext cx="1235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4191120"/>
            <a:ext cx="7691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odľa členenia základného súboru pri výber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ednoduchý vý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ložený, ktorý môže byť napr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kupinov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blastný (stratifikovaný) a in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2E0F-40DC-4722-A060-54FF165E4B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Teória štatistického odhadu (TO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80920" y="312372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ozlišujem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4c2b"/>
              </a:buClr>
              <a:buSzPct val="50000"/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Bodový odhad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4c2b"/>
              </a:buClr>
              <a:buSzPct val="50000"/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Intervalový odhad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55760" y="1143000"/>
            <a:ext cx="692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odstatou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teórie odhadu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je </a:t>
            </a:r>
            <a:r>
              <a:rPr b="0" lang="en-US" sz="3200" spc="-1" strike="noStrike">
                <a:solidFill>
                  <a:srgbClr val="9e1438"/>
                </a:solidFill>
                <a:latin typeface="Times New Roman"/>
              </a:rPr>
              <a:t>neznám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1438"/>
                </a:solidFill>
                <a:latin typeface="Times New Roman"/>
              </a:rPr>
              <a:t>parametre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základného súboru odhadovať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omocou </a:t>
            </a:r>
            <a:r>
              <a:rPr b="0" lang="en-US" sz="3200" spc="-1" strike="noStrike">
                <a:solidFill>
                  <a:srgbClr val="9e1438"/>
                </a:solidFill>
                <a:latin typeface="Times New Roman"/>
              </a:rPr>
              <a:t>výberových charakteristík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74880" y="3124080"/>
            <a:ext cx="21254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8FC1-2956-4125-8547-334C958969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3T09:02:27Z</dcterms:created>
  <dc:creator>FVS</dc:creator>
  <dc:description/>
  <dc:language>en-US</dc:language>
  <cp:lastModifiedBy>FVS</cp:lastModifiedBy>
  <cp:lastPrinted>2001-03-03T16:48:30Z</cp:lastPrinted>
  <dcterms:modified xsi:type="dcterms:W3CDTF">2004-03-09T09:55:56Z</dcterms:modified>
  <cp:revision>98</cp:revision>
  <dc:subject/>
  <dc:title>No Slide Title</dc:title>
</cp:coreProperties>
</file>