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D6B-69CB-48A8-9583-D1D4C8D2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9896-049B-40E9-89DC-93541C47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E828-429B-4AE0-B65E-4C5AA752D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A5CF-C90F-4CB2-9815-6CBC1787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C3C3-2EFA-469D-8D22-ED1E60839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0ACC-287F-4748-9AFC-059DE388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9DC7-AA1E-4A53-8ED0-DB251D38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A683-CCA8-41C9-B729-12AA90FF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5892-882A-4401-9359-FE21F1F0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78C9-1C1B-4FB0-9A5A-E937C1C6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3062-03DE-407D-AF2B-AEF3AD23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655C-BF8A-4D88-A5A6-0CBC0DB2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A33F-5C9A-4F10-BBDB-DE3AB50C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32A9-B5DD-4C07-8F3F-18D67BB7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F21E-CDF8-4E93-A4DA-A1A1EE08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0CE5-5810-4BC0-85F6-074FECB9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6789-B622-4D18-9B2E-E4AFCEA0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FC5-075A-4F94-B0D7-70408E05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C01F-C7AE-45AD-9FCE-33206ADF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15CB-22A1-449B-8DA3-F3592510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1B14-33BC-4C6B-A73F-AE8B2C10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CE0-B3FC-4013-A892-623A00D1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BB7-B4F3-4556-8D5F-0761F0FB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DD5A-354E-42D5-A60E-9C76AA57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9B14-DF0A-42DB-A721-6EE10083825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CD0C-97AC-4A6A-B543-C39A4419C44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Analýza rozptylu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praxi často je potrebné porovnávať väčší počet nezávislých náhodných výberov z hľadiska úrovne,  t. zn. zaujíma nás hypotéz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aspoň jeno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i = 1, 2,…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m &gt; 2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de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i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 i =1, 2, …m 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sú stredné hodnoty z normálne rozdelených základných súborov s rovnakým rozptylom </a:t>
            </a:r>
            <a:r>
              <a:rPr b="1" i="1" lang="sk-SK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sk-SK" sz="28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, t.j. 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N(</a:t>
            </a:r>
            <a:r>
              <a:rPr b="1" i="1" lang="sk-SK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sk-SK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sk-SK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 overeniu tejto hypotézy sa používa dôležitá štatistická metóda, nazývaná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alýza rozptylu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krátene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NOVA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sp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. AR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66680" y="2133720"/>
                <a:ext cx="65534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μ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407-D5C2-4552-B3F5-7ECC137CFA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Princíp Analýzy rozptylu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413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dstata analýzy rozptylu spočíva v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rozklade celkovej variability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ýsledného skúmaného znak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80880" y="2362320"/>
                <a:ext cx="838224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n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28600" y="4038480"/>
            <a:ext cx="162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elková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3774960"/>
            <a:ext cx="4038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a medzi úrovňamifaktora, spôsobená pôsobením faktora A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a medz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riedami, riadkami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3800520"/>
            <a:ext cx="236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áhodná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ziduálna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o vnútri trie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142640" y="3429000"/>
            <a:ext cx="685800" cy="6094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114440" y="3276720"/>
            <a:ext cx="68580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3276720"/>
            <a:ext cx="0" cy="457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33526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34720" y="3352680"/>
            <a:ext cx="48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20120" y="3276720"/>
            <a:ext cx="48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785-E2F2-42E9-BB0D-4300A3A0B4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133720" y="4191120"/>
                <a:ext cx="2438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133720" y="1752480"/>
                <a:ext cx="236196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133720" y="3048120"/>
                <a:ext cx="2514600" cy="99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28600" y="1676520"/>
            <a:ext cx="163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edz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riedam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048120"/>
            <a:ext cx="168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ziduáln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4343400"/>
            <a:ext cx="17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á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6840" y="6858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304920"/>
            <a:ext cx="228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čet štvorcov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chýlok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304920"/>
            <a:ext cx="1258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up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oľn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1680" y="2057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5720" y="312408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.n - 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2040" y="4419720"/>
            <a:ext cx="101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-1=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 .n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91320" y="228600"/>
            <a:ext cx="16002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n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štvore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92840" y="240336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69160" y="369900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69160" y="499428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31920" y="2048040"/>
            <a:ext cx="52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30840" y="3114720"/>
            <a:ext cx="51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r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31000" y="228600"/>
            <a:ext cx="10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-krit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u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391520" y="1523880"/>
                <a:ext cx="175248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04920" y="1447920"/>
            <a:ext cx="883908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57400" y="457200"/>
            <a:ext cx="0" cy="502920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2971800"/>
            <a:ext cx="876312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5486400"/>
            <a:ext cx="54864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4191120"/>
            <a:ext cx="70866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48320" y="457200"/>
            <a:ext cx="0" cy="5029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57200"/>
            <a:ext cx="0" cy="5029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533520"/>
            <a:ext cx="0" cy="3657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0A3-4CC9-4DA3-839A-2C23662EDB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278000" y="1389240"/>
                <a:ext cx="5214960" cy="33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e>
                            </m:nary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num>
                      <m:den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533520" y="457200"/>
            <a:ext cx="791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stovacie kritérium možno pre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jednofoktorovú AR - vyvážený pokus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zapísať podrobne vzťahom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4724280"/>
            <a:ext cx="8839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dnotu F testovacieho kritéria porovonáme s príslušnou tabuľkovou hodnotou F-rozdeleni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F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, pre stupne voľnosti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(m-1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a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(m.n - 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716-C853-4E68-81FB-4BA18120C8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304920"/>
            <a:ext cx="68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ozhodnutie o výsledku testu: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9140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k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F vyp </a:t>
            </a:r>
            <a:r>
              <a:rPr b="0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F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. ((m-1,(N-m)) </a:t>
            </a:r>
            <a:r>
              <a:rPr b="0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Ho zamietam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takom prípade je aspoň efekt jednej úrovne faktora  preukazný, teda priemerna úroveň ukazovateľa sa štatisticky významne líši od ostatných. Resp. aspoň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den efekt </a:t>
            </a:r>
            <a:r>
              <a:rPr b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                          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 štatisticky významn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dlišný                                      od nuly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2743200"/>
            <a:ext cx="4997520" cy="2538360"/>
          </a:xfrm>
          <a:custGeom>
            <a:avLst/>
            <a:gdLst/>
            <a:ahLst/>
            <a:rect l="l" t="t" r="r" b="b"/>
            <a:pathLst>
              <a:path w="2832" h="1272">
                <a:moveTo>
                  <a:pt x="0" y="1016"/>
                </a:moveTo>
                <a:cubicBezTo>
                  <a:pt x="112" y="508"/>
                  <a:pt x="224" y="0"/>
                  <a:pt x="576" y="8"/>
                </a:cubicBezTo>
                <a:cubicBezTo>
                  <a:pt x="928" y="16"/>
                  <a:pt x="1736" y="856"/>
                  <a:pt x="2112" y="1064"/>
                </a:cubicBezTo>
                <a:cubicBezTo>
                  <a:pt x="2488" y="1272"/>
                  <a:pt x="2660" y="1264"/>
                  <a:pt x="2832" y="1256"/>
                </a:cubicBezTo>
              </a:path>
            </a:pathLst>
          </a:custGeom>
          <a:noFill/>
          <a:ln w="5724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14600" y="3505320"/>
            <a:ext cx="0" cy="186372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2200" y="5486400"/>
            <a:ext cx="2590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ritický obo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bor zatnuti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62320" y="5334120"/>
            <a:ext cx="533376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4191120"/>
            <a:ext cx="0" cy="11430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46880" y="5375160"/>
            <a:ext cx="77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000" y="5867280"/>
            <a:ext cx="0" cy="457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000" y="6324480"/>
            <a:ext cx="2209680" cy="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14600" y="5451480"/>
            <a:ext cx="29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bor nezamietnuti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H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07000" y="3809880"/>
            <a:ext cx="236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 vyp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F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Ho nezamieta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957A-A5BD-4631-898C-E43D42E558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Ak nulovú hypotézu zamietame: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istili sme len, že je preukazný vplyv faktora na skúmaný znak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ďalej je potrebné skúmať medzi ktorými úrovňami faktora je a medzi ktorými nie je preukazný rozdiel - k tomúto účelu sa používajú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esty kontrast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edzi testy kontrastov patria: Duncanov test, Scheffeho test, Tuckey test a iné…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B68-D9EB-4EB4-B572-A0D1472F2C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odmienky použitia AR: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y pochádzajú z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ormálnych rozdelení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rušenie tohto predpokladu nemá podstatnejší vplyv na výsledky A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štatistická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ezávislosť náhodných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chýb e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zhodné reziduálne rozptyly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=   …. =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t.j.   D(e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všetky i = 1,2…., m, j=1,2, …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nto predpoklad je závažnejší a možno ho overovať Cochranovým, resp. Bartlettovým testom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03DE-CC4A-42C0-8829-06D438B9EB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Schéma jednofaktorového experimentu</a:t>
            </a:r>
            <a:br>
              <a:rPr sz="3200"/>
            </a:b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 “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nevyvážený pokus</a:t>
            </a: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”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2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j    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j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j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…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j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…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j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m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m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m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2362320"/>
            <a:ext cx="71625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62320" y="1828800"/>
            <a:ext cx="0" cy="38098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1676520"/>
            <a:ext cx="0" cy="373356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5410080"/>
            <a:ext cx="70866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13716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ôzny počet opakovan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80" y="3048120"/>
            <a:ext cx="130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Úrov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aktor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8320" y="3809880"/>
            <a:ext cx="761760" cy="68580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838080"/>
            <a:ext cx="15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ad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č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92920" y="91440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ad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924680" y="522288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762120"/>
            <a:ext cx="1524240" cy="914400"/>
          </a:xfrm>
          <a:prstGeom prst="wedgeEllipseCallout">
            <a:avLst>
              <a:gd name="adj1" fmla="val -11249"/>
              <a:gd name="adj2" fmla="val 67537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0120" y="838080"/>
            <a:ext cx="1523880" cy="1067040"/>
          </a:xfrm>
          <a:prstGeom prst="wedgeEllipseCallout">
            <a:avLst>
              <a:gd name="adj1" fmla="val -35000"/>
              <a:gd name="adj2" fmla="val 54314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5562720"/>
            <a:ext cx="10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d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e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419720" y="5334120"/>
                <a:ext cx="198108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5715000" y="1981080"/>
            <a:ext cx="0" cy="34290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48720" y="5181480"/>
            <a:ext cx="1295280" cy="914400"/>
          </a:xfrm>
          <a:prstGeom prst="wedgeEllipseCallout">
            <a:avLst>
              <a:gd name="adj1" fmla="val -53310"/>
              <a:gd name="adj2" fmla="val 6250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6EAA-D937-4678-8E71-F94B88C6A5F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33720" y="4175280"/>
                <a:ext cx="243828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2068560" y="1752480"/>
                <a:ext cx="24922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133720" y="3032280"/>
                <a:ext cx="2514600" cy="102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228600" y="1676520"/>
            <a:ext cx="163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edz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riedam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3048120"/>
            <a:ext cx="168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ziduáln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4343400"/>
            <a:ext cx="17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á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6840" y="6858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304920"/>
            <a:ext cx="228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čet štvorcov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chýlok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48320" y="304920"/>
            <a:ext cx="1258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up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oľn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01680" y="2057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26080" y="31240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 - 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02400" y="441972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791320" y="228600"/>
            <a:ext cx="16002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n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štvore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92840" y="2403360"/>
            <a:ext cx="438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69160" y="369900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62680" y="499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31920" y="2048040"/>
            <a:ext cx="52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30840" y="3114720"/>
            <a:ext cx="51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r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731000" y="228600"/>
            <a:ext cx="10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-krit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u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391520" y="1523880"/>
                <a:ext cx="175248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304920" y="1447920"/>
            <a:ext cx="883908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457200"/>
            <a:ext cx="0" cy="502920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971800"/>
            <a:ext cx="876312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5486400"/>
            <a:ext cx="54864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0880" y="4191120"/>
            <a:ext cx="70866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48320" y="457200"/>
            <a:ext cx="0" cy="5029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67280" y="457200"/>
            <a:ext cx="0" cy="50292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67480" y="533520"/>
            <a:ext cx="0" cy="3657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019920" y="4267080"/>
                <a:ext cx="259056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99EA-8E10-4535-8F37-1F12DE4929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Dvojfaktorová analýza rozptylu s jedným pozorovaním v každej podtriede ..DAR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važujme vplyv faktora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ktorý skúmame na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m -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úrovniach, i = 1,2,….,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ďalej uvažujme faktor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B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ktorý sledujeme na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úrovniach , j = 1,2, …, 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 každej i-tej úrovni faktora A a j-tej úrovni faktora B máme len jedno pozorovanie (opakovanie)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verujeme tak vplyv dvoch nulových hypotéz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C97-DFF3-4A9D-A3E5-22C71266C2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Schéma dvojfaktorového experimentu s je</a:t>
            </a:r>
            <a:r>
              <a:rPr b="1" lang="sk-SK" sz="3200" spc="-1" strike="noStrike">
                <a:solidFill>
                  <a:srgbClr val="004c2b"/>
                </a:solidFill>
                <a:latin typeface="Times New Roman"/>
              </a:rPr>
              <a:t>dným pozorovaním v každej </a:t>
            </a: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podtriede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DAR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2  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j  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…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…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m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m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j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j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.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2362320"/>
            <a:ext cx="71625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514600" y="1752480"/>
            <a:ext cx="0" cy="381024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77120" y="1676520"/>
            <a:ext cx="0" cy="373356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14400" y="5410080"/>
            <a:ext cx="70866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02200" y="1143000"/>
            <a:ext cx="30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n-úrovní faktora B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160" y="3048120"/>
            <a:ext cx="165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m-úrovn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aktora 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48320" y="3809880"/>
            <a:ext cx="761760" cy="68580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4320" y="1066680"/>
            <a:ext cx="15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adkov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č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96080" y="3276720"/>
            <a:ext cx="1447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adkov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24680" y="522288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00200" y="1600200"/>
            <a:ext cx="685800" cy="6858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43360" y="1488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9800" y="5562720"/>
            <a:ext cx="25124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ĺpcové súč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ĺpcové priemer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934320" y="1523520"/>
            <a:ext cx="38088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5791320"/>
            <a:ext cx="457200" cy="7596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8077320" y="6019560"/>
            <a:ext cx="15228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8581-4E3B-48BD-B5D0-6B7F7ACAF6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6212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praxi sa AR používa vtedy, ak skúmame vplyv jedného resp. viacerých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faktorov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ošetrení) na skúmaný štatistický znak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aktory budeme označovať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, B,…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 v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AR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ch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udeme zohľadňovať len ako kvalitatívne znaky s rôznymi obmenami -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úrovňami faktor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sledný štatistický znak bude kvantitatívny a označíme ho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najčastejšie sa AR používa pri vyhodnocovaní biologických experiment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šimneme si najjednoduchší prípad AR s jedným faktorom, ktorú nazývame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jednofaktorová A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35E7-964D-4554-88D3-1C33F08A2E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Overujeme platnosť dvoch nulových hypotéz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1066680"/>
            <a:ext cx="8229600" cy="54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Hypotéza pre faktor 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99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2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… 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i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m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.j. že efekty všetkých úrovni faktora A sú nulové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da nepreukazné, oproti alternatívnej hypotéz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9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i 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0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re aspoň jedno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i = 1,2…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fekt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poň jednej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úrovne faktora je preukazný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znamne odlišný od nu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260360" y="914400"/>
                <a:ext cx="43671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μ 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7" name=""/>
          <p:cNvSpPr/>
          <p:nvPr/>
        </p:nvSpPr>
        <p:spPr>
          <a:xfrm>
            <a:off x="746280" y="304920"/>
            <a:ext cx="61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odel pre skúmaný znak môžme zapísať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8BED-8EA3-480E-B0CE-9CBBE2E8F3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09480" y="1066680"/>
            <a:ext cx="822960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Hypotéza pre faktor B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99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2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…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j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n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.j. že efekty všetkých úrovni faktora A sú nulové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da nepreukazné, oproti alternatívnej hypotéz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90000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j 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0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re aspoň jedno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j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j = 1,2…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fekt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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j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poň jednej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úrovne faktora B je preukazný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znamne odlišný od nu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947-F023-48FA-9E33-A9A6524623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28600" y="1523880"/>
            <a:ext cx="163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edz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adkam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4114800"/>
            <a:ext cx="168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ziduáln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5105520"/>
            <a:ext cx="17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á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380880"/>
            <a:ext cx="160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D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09680" y="30492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čet štvorcov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chýlok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8320" y="304920"/>
            <a:ext cx="1258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up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oľn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01680" y="2057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24280" y="3124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495680" y="4419720"/>
            <a:ext cx="18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m-1)(n-1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19920" y="228600"/>
            <a:ext cx="13716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štvore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1/2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8456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4191120"/>
            <a:ext cx="48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00400" y="5207040"/>
            <a:ext cx="48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631920" y="2048040"/>
            <a:ext cx="52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630840" y="4281480"/>
            <a:ext cx="514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r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731000" y="228600"/>
            <a:ext cx="10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-krit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u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7353360" y="1371600"/>
                <a:ext cx="179064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304920" y="1447920"/>
            <a:ext cx="883908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457200"/>
            <a:ext cx="0" cy="556272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2743200"/>
            <a:ext cx="876312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5105520"/>
            <a:ext cx="693432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3962520"/>
            <a:ext cx="8001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95680" y="304920"/>
            <a:ext cx="0" cy="57150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43600" y="457200"/>
            <a:ext cx="0" cy="556272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15200" y="457200"/>
            <a:ext cx="0" cy="47242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18680" y="1762200"/>
            <a:ext cx="48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00400" y="3149640"/>
            <a:ext cx="50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4680" y="2784600"/>
            <a:ext cx="168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ariabilit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edz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ĺpcam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6095880"/>
            <a:ext cx="541008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38480" y="52992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.n 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7467480" y="2666880"/>
                <a:ext cx="167652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0" name=""/>
          <p:cNvSpPr/>
          <p:nvPr/>
        </p:nvSpPr>
        <p:spPr>
          <a:xfrm>
            <a:off x="6647760" y="3124080"/>
            <a:ext cx="52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DC51-EC4B-45FC-A596-C668B36425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ozklad celkovej variability skúmaného znaku:</a:t>
            </a:r>
            <a:br>
              <a:rPr sz="2800"/>
            </a:b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4c2b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= S</a:t>
            </a:r>
            <a:r>
              <a:rPr b="1" lang="en-US" sz="2800" spc="-1" strike="noStrike" baseline="-25000">
                <a:solidFill>
                  <a:srgbClr val="004c2b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+</a:t>
            </a:r>
            <a:r>
              <a:rPr b="1" lang="en-US" sz="2800" spc="-1" strike="noStrike" baseline="-25000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4c2b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+</a:t>
            </a:r>
            <a:r>
              <a:rPr b="1" lang="en-US" sz="2800" spc="-1" strike="noStrike" baseline="-25000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4c2b"/>
                </a:solidFill>
                <a:latin typeface="Times New Roman"/>
              </a:rPr>
              <a:t> r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74760" y="1219320"/>
                <a:ext cx="412740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527040" y="2438280"/>
                <a:ext cx="4205160" cy="14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512640" y="3962520"/>
                <a:ext cx="606132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49360" y="5105520"/>
                <a:ext cx="4182840" cy="13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4785480" y="1590840"/>
            <a:ext cx="418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a medzi riadkami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plyv faktora 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937400" y="2733840"/>
            <a:ext cx="403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a medzi stĺpcami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plyv faktora B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90600" y="3952800"/>
            <a:ext cx="177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ziduáln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86040" y="5486400"/>
            <a:ext cx="28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elková variabilit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9E2-AA9D-4D6C-8A0A-F3DE106AEB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Skúmanie vzťahov medzi štatistickými znakmi: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kúmanie vzťahov medzi kvalitatívnymi znakmi, napr. A</a:t>
            </a:r>
            <a:r>
              <a:rPr b="0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 , nazýme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meranie asociáci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kúmanie vzťahov medzi kvantitatívnymi štatistickými znakmi  -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regresná a korelačná analýza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5DB-2B1A-47BF-8467-DE420A55BA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Skúmanie asociácie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dkladom sú asociačné, resp. kontingenčné tabuľky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súhrné testovanie existencie štatistick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znamného vzťahu medzi kvalitatívnym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nakmi sa používa </a:t>
            </a:r>
            <a:r>
              <a:rPr b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99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- štvorcová kontingenc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o: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va znaky A a B sú nezávisl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znaky A a B závis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znak má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m - úrovní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obmie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 znak má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k - úrovní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, obmi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6EC-B916-42C4-AAC8-BB8D1842C5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Formulovanie hypotéz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ávislosť znakov sa prejaví v rozdielnych početnostiach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pr. Skúmame či veľkosť balenia určitého výrobku je ovplyvnená početnosťou rodin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: výber veľkosti balenia výrobku nezávisí od počtu členov v rodin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: výber veľkosti balenia je ovplyvnená počtom členov v rodi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st spočíva v porovnávaní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empirických početností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eoretických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t,j, takých aké by mali empirické početnosti byť keby boli znaky A a B nezávisl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C8E0-1FB0-4BAB-A43F-8B352C2BB8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Simultánne početností, početnosti</a:t>
            </a: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druhého stupňa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15238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ľkosť balen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2680" y="1219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ľkosť rodin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880" y="1600200"/>
            <a:ext cx="852336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-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-4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5 a viac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b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do   100g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00-150g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6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53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2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50g a viac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5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4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59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0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polu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4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2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05120" y="1447920"/>
            <a:ext cx="0" cy="434340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2438280"/>
            <a:ext cx="822960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5715000"/>
            <a:ext cx="822960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91520" y="1600200"/>
            <a:ext cx="0" cy="403848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3581280"/>
            <a:ext cx="8001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4572000"/>
            <a:ext cx="8001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352680" y="1523880"/>
            <a:ext cx="0" cy="403884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62720" y="1676520"/>
            <a:ext cx="0" cy="380988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20120" y="2666880"/>
            <a:ext cx="838080" cy="53352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086600" y="304920"/>
            <a:ext cx="19191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Marginál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početn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 resp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.(b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96080" y="5943600"/>
            <a:ext cx="838440" cy="53352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53080" y="5756400"/>
            <a:ext cx="23288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oč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spondentov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09880" y="6019920"/>
            <a:ext cx="990720" cy="53316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571640" y="1600200"/>
            <a:ext cx="2590920" cy="46483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20120" y="1447920"/>
            <a:ext cx="228600" cy="12189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86200" y="2514600"/>
            <a:ext cx="838080" cy="68580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057400" y="3657600"/>
            <a:ext cx="762120" cy="68580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514600" y="990720"/>
            <a:ext cx="457200" cy="25905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29000" y="1066680"/>
            <a:ext cx="609480" cy="15242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773F-4BE3-447B-BBA8-78FC9A073C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Určovanie teoretických početností: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314360"/>
            <a:ext cx="7321680" cy="46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ychádza z vety o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nezávislosti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náhodných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javov A a B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(A</a:t>
            </a:r>
            <a:r>
              <a:rPr b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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B) = P(A) . P(B)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teda ak znaky A a B sú nezávislé potom platí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(a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)   = P(a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) .P(b</a:t>
            </a:r>
            <a:r>
              <a:rPr b="1" lang="en-US" sz="2800" spc="-1" strike="noStrike" baseline="-25000">
                <a:solidFill>
                  <a:srgbClr val="99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dhad na základe relatívnych početností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o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=  (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   .  (b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    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o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=  (a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 .(b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           n         n              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" y="4572000"/>
            <a:ext cx="9144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57400" y="4572000"/>
            <a:ext cx="38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71800" y="4572000"/>
            <a:ext cx="38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629400" y="4572000"/>
            <a:ext cx="10666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13360" y="4943520"/>
            <a:ext cx="18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oretické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četnoest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 flipV="1">
            <a:off x="5562360" y="4572000"/>
            <a:ext cx="152280" cy="457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BEB-ACBC-4EA3-9E59-5F9C8BA6045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Výpočet teoretických početností</a:t>
            </a: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(a</a:t>
            </a:r>
            <a:r>
              <a:rPr b="0" lang="en-US" sz="2800" spc="-1" strike="noStrike" baseline="-25000">
                <a:solidFill>
                  <a:srgbClr val="004c2b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b</a:t>
            </a:r>
            <a:r>
              <a:rPr b="0" lang="en-US" sz="2800" spc="-1" strike="noStrike" baseline="-25000">
                <a:solidFill>
                  <a:srgbClr val="004c2b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)</a:t>
            </a:r>
            <a:r>
              <a:rPr b="0" lang="en-US" sz="2800" spc="-1" strike="noStrike" baseline="-25000">
                <a:solidFill>
                  <a:srgbClr val="004c2b"/>
                </a:solidFill>
                <a:latin typeface="Times New Roman"/>
              </a:rPr>
              <a:t>o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= 70.40/300 = 9,33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152388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ľkosť balen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352680" y="12193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ľkosť rodin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0880" y="1600200"/>
            <a:ext cx="8523360" cy="50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-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-4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5 a viac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b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(b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do   100g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9.33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32,67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28.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00-150g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6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53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2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16.67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58.33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250g a viac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5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4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59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0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a</a:t>
            </a:r>
            <a:r>
              <a:rPr b="1" lang="en-US" sz="2400" spc="-1" strike="noStrike" baseline="-25000">
                <a:solidFill>
                  <a:srgbClr val="99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14.00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49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4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polu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4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4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12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05120" y="1447920"/>
            <a:ext cx="0" cy="434340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2438280"/>
            <a:ext cx="822960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520" y="5715000"/>
            <a:ext cx="8229600" cy="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391520" y="1600200"/>
            <a:ext cx="0" cy="403848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3581280"/>
            <a:ext cx="8001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4572000"/>
            <a:ext cx="8001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52680" y="1523880"/>
            <a:ext cx="0" cy="403884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562720" y="1676520"/>
            <a:ext cx="0" cy="380988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96080" y="5943600"/>
            <a:ext cx="838440" cy="53352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553080" y="5756400"/>
            <a:ext cx="232884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oč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spondentov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33720" y="3124080"/>
            <a:ext cx="838080" cy="60984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3048120"/>
            <a:ext cx="990720" cy="60948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43600" y="3048120"/>
            <a:ext cx="838080" cy="60948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819160" y="304920"/>
            <a:ext cx="2438280" cy="27432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647960" y="457200"/>
            <a:ext cx="685800" cy="25146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638680" y="609480"/>
            <a:ext cx="990720" cy="243864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F35-D5CD-407A-8F9C-FA3A04BC6F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Úrovňou faktor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udeme označovať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ité množstvo kvantitatívneho faktora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pr. množstvo dávok čistých živín pri hnojení, rôzne príjmové skupiny domácností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itý druh kvalitatívneho faktora, napr. rôzne odrody tej istej plodiny, spôsoby umiestnenia výrobkov v predajni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R je </a:t>
            </a:r>
            <a:r>
              <a:rPr b="0" lang="sk-SK" sz="2800" spc="-1" strike="noStrike">
                <a:solidFill>
                  <a:srgbClr val="990000"/>
                </a:solidFill>
                <a:latin typeface="Times New Roman"/>
              </a:rPr>
              <a:t>zovšeobecnením Studentovho t-testu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pre nezávislé výber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AR zároveň </a:t>
            </a:r>
            <a:r>
              <a:rPr b="0" lang="sk-SK" sz="2800" spc="-1" strike="noStrike">
                <a:solidFill>
                  <a:srgbClr val="990000"/>
                </a:solidFill>
                <a:latin typeface="Times New Roman"/>
              </a:rPr>
              <a:t>skúma vplyv kvalitatívneho faktora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(faktorov) na výsledný kvantitatívny znak - teda analyzuje vzťahy medzi znakm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680-8B5C-48CD-890E-4ED99C440E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Výpočet testovacieho kritéria a rozhodnutie: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549440" y="1066680"/>
                <a:ext cx="55213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- 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380880" y="2971800"/>
            <a:ext cx="8745480" cy="31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k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ypočítané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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hladinu  významnosti</a:t>
            </a:r>
            <a:r>
              <a:rPr b="0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r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upne voľnosti </a:t>
            </a:r>
            <a:r>
              <a:rPr b="0" lang="en-US" sz="24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m-1).(k-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zamietame, t.zn. znaky A a B sú závisl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našom prípade to znamená, že počet členov rodiny štatisticky významne ovplyvňuje výber veľkosti balenia výrobku. Ďalej by sme mali merať silu (tesnosť) závislosti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9F45-9BEA-4D58-9A0F-83154272E16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Schéma jednofaktorového experimentu</a:t>
            </a:r>
            <a:br>
              <a:rPr sz="3200"/>
            </a:b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 “vyvážený pokus”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2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j…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2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…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i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…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.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1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2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j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mn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m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m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y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2362320"/>
            <a:ext cx="71625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2320" y="1828800"/>
            <a:ext cx="0" cy="38098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676520"/>
            <a:ext cx="0" cy="373356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5410080"/>
            <a:ext cx="70866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00760" y="114300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opakov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80" y="3048120"/>
            <a:ext cx="130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Úrov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aktor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3809880"/>
            <a:ext cx="761760" cy="685800"/>
          </a:xfrm>
          <a:prstGeom prst="ellipse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838080"/>
            <a:ext cx="15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ad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č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92920" y="91440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iad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24680" y="522288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em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56800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elkový súče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486400"/>
            <a:ext cx="2286000" cy="914400"/>
          </a:xfrm>
          <a:prstGeom prst="wedgeEllipseCallout">
            <a:avLst>
              <a:gd name="adj1" fmla="val 64166"/>
              <a:gd name="adj2" fmla="val 7120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762120"/>
            <a:ext cx="1524240" cy="914400"/>
          </a:xfrm>
          <a:prstGeom prst="wedgeEllipseCallout">
            <a:avLst>
              <a:gd name="adj1" fmla="val -11249"/>
              <a:gd name="adj2" fmla="val 67537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838080"/>
            <a:ext cx="1523880" cy="1067040"/>
          </a:xfrm>
          <a:prstGeom prst="wedgeEllipseCallout">
            <a:avLst>
              <a:gd name="adj1" fmla="val -35000"/>
              <a:gd name="adj2" fmla="val 54314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24680" y="5105520"/>
            <a:ext cx="1219320" cy="990360"/>
          </a:xfrm>
          <a:prstGeom prst="wedgeEllipseCallout">
            <a:avLst>
              <a:gd name="adj1" fmla="val -67189"/>
              <a:gd name="adj2" fmla="val 20032"/>
            </a:avLst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9E6-B70B-4A15-B01F-EE3A45939F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41240" y="762120"/>
                <a:ext cx="286236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370400" y="609480"/>
                <a:ext cx="367992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/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450800" y="2666880"/>
                <a:ext cx="494676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212840" y="4267080"/>
                <a:ext cx="681192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/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N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763200" y="304920"/>
            <a:ext cx="252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iadkový súčet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6960" y="3049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elkový súčet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920" y="2057400"/>
            <a:ext cx="297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iadkový priemer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5680" y="396252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elkový priemer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A5C7-C620-416D-B809-F1B7DA8AA9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8088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Model pre výslednú napozorovanú hodnot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85800" y="1219320"/>
                <a:ext cx="42609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μ 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304920" y="2057400"/>
            <a:ext cx="883908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d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čakávaná hodnota pre všetky úrovne faktora 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pozorované hodnoty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i 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fekt i-tej úrovne faktora 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ij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- náhodná chyba, ktorým je každé meranie zaťažené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sp. výsledok vplyv náhodných činiteľov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7480" y="1209600"/>
            <a:ext cx="277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de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i = 1, 2,…, 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j = 1,2,…, 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7E0A-F909-4D9F-A56B-8FE770AF8A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79520" y="457200"/>
                <a:ext cx="35370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μ 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80880" y="1590840"/>
            <a:ext cx="907740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ulovú hypotézu potom môžme formulovať aj nasledovn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1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2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… 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i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m 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=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.j. že efekty všetkých úrovni faktora A sú nulové, teda nepreukazné, oproti alternatívnej hypotéz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99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990000"/>
                </a:solidFill>
                <a:latin typeface="Times New Roman"/>
              </a:rPr>
              <a:t>i  </a:t>
            </a:r>
            <a:r>
              <a:rPr b="1" i="1" lang="en-US" sz="2800" spc="-1" strike="noStrike">
                <a:solidFill>
                  <a:srgbClr val="990000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 0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re aspoň jedno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i = 1,2…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fekt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i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poň jednej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úrovne faktora je preukazný, významne odlišný od nul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964120" y="457200"/>
                <a:ext cx="277812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 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176360" y="600120"/>
            <a:ext cx="10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leb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3063-D7AA-4EE9-8DDF-03A9CC85C1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380880"/>
            <a:ext cx="762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dhadmi jednotlivých parametrov sú nasledovné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ové charakteristiky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311120" y="1406520"/>
                <a:ext cx="646128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t</m:t>
                            </m:r>
                            <m:r>
                              <m:t xml:space="preserve">μ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=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    est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t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-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676520" y="2971800"/>
                <a:ext cx="39621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 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μ 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90720" y="3886200"/>
                <a:ext cx="35812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 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953960" y="4038480"/>
            <a:ext cx="30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čo môžme prepísať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914400" y="4952880"/>
                <a:ext cx="7162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-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B6B-FA46-455E-BB68-08A5C029A2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Porovnanie dvoch experimentov s tromi úrovňami faktora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0" y="3429000"/>
                <a:ext cx="838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886200" y="2895480"/>
                <a:ext cx="6094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8305920" y="3505320"/>
                <a:ext cx="838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495468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892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93320" y="5562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066680" y="2438280"/>
            <a:ext cx="3353040" cy="3584160"/>
            <a:chOff x="1066680" y="2438280"/>
            <a:chExt cx="3353040" cy="3584160"/>
          </a:xfrm>
        </p:grpSpPr>
        <p:sp>
          <p:nvSpPr>
            <p:cNvPr id="134" name=""/>
            <p:cNvSpPr/>
            <p:nvPr/>
          </p:nvSpPr>
          <p:spPr>
            <a:xfrm>
              <a:off x="1066680" y="2438280"/>
              <a:ext cx="0" cy="31244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66680" y="5562720"/>
              <a:ext cx="327672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66680" y="4038480"/>
              <a:ext cx="3353040" cy="0"/>
            </a:xfrm>
            <a:prstGeom prst="line">
              <a:avLst/>
            </a:prstGeom>
            <a:ln w="381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600200" y="3809880"/>
              <a:ext cx="304560" cy="457200"/>
              <a:chOff x="1600200" y="3809880"/>
              <a:chExt cx="304560" cy="457200"/>
            </a:xfrm>
          </p:grpSpPr>
          <p:sp>
            <p:nvSpPr>
              <p:cNvPr id="138" name=""/>
              <p:cNvSpPr/>
              <p:nvPr/>
            </p:nvSpPr>
            <p:spPr>
              <a:xfrm>
                <a:off x="1600200" y="38862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600200" y="396216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600200" y="41148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600200" y="419076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600200" y="426708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600200" y="380988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666880" y="3886200"/>
              <a:ext cx="304560" cy="457200"/>
              <a:chOff x="2666880" y="3886200"/>
              <a:chExt cx="304560" cy="457200"/>
            </a:xfrm>
          </p:grpSpPr>
          <p:sp>
            <p:nvSpPr>
              <p:cNvPr id="145" name=""/>
              <p:cNvSpPr/>
              <p:nvPr/>
            </p:nvSpPr>
            <p:spPr>
              <a:xfrm>
                <a:off x="2666880" y="39625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66880" y="403848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66880" y="41911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666880" y="426708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66880" y="43434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66880" y="38862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581280" y="3733920"/>
              <a:ext cx="304560" cy="457200"/>
              <a:chOff x="3581280" y="3733920"/>
              <a:chExt cx="304560" cy="457200"/>
            </a:xfrm>
          </p:grpSpPr>
          <p:sp>
            <p:nvSpPr>
              <p:cNvPr id="152" name=""/>
              <p:cNvSpPr/>
              <p:nvPr/>
            </p:nvSpPr>
            <p:spPr>
              <a:xfrm>
                <a:off x="3581280" y="38102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81280" y="38862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81280" y="40388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581280" y="41148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581280" y="41911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581280" y="37339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1371600" y="2895480"/>
                  <a:ext cx="5652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y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2743200" y="2971800"/>
                  <a:ext cx="5000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60" name=""/>
            <p:cNvSpPr/>
            <p:nvPr/>
          </p:nvSpPr>
          <p:spPr>
            <a:xfrm>
              <a:off x="3735720" y="5562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49720" y="5562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68680" y="5562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19520" y="3505320"/>
              <a:ext cx="75960" cy="6858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733920" y="3429000"/>
              <a:ext cx="380880" cy="5335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76520" y="3581280"/>
              <a:ext cx="228600" cy="6098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800600" y="2362320"/>
            <a:ext cx="3429000" cy="3200400"/>
            <a:chOff x="4800600" y="2362320"/>
            <a:chExt cx="3429000" cy="3200400"/>
          </a:xfrm>
        </p:grpSpPr>
        <p:sp>
          <p:nvSpPr>
            <p:cNvPr id="167" name=""/>
            <p:cNvSpPr/>
            <p:nvPr/>
          </p:nvSpPr>
          <p:spPr>
            <a:xfrm>
              <a:off x="4800600" y="2438280"/>
              <a:ext cx="0" cy="31244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00600" y="5562720"/>
              <a:ext cx="327672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00600" y="4038480"/>
              <a:ext cx="3352680" cy="0"/>
            </a:xfrm>
            <a:prstGeom prst="line">
              <a:avLst/>
            </a:prstGeom>
            <a:ln w="381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410080" y="2362320"/>
              <a:ext cx="304560" cy="457200"/>
              <a:chOff x="5410080" y="2362320"/>
              <a:chExt cx="304560" cy="45720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24386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10080" y="25146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410080" y="26672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410080" y="27432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410080" y="28195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410080" y="23623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6477120" y="4648320"/>
              <a:ext cx="304560" cy="457200"/>
              <a:chOff x="6477120" y="4648320"/>
              <a:chExt cx="304560" cy="457200"/>
            </a:xfrm>
          </p:grpSpPr>
          <p:sp>
            <p:nvSpPr>
              <p:cNvPr id="178" name=""/>
              <p:cNvSpPr/>
              <p:nvPr/>
            </p:nvSpPr>
            <p:spPr>
              <a:xfrm>
                <a:off x="6477120" y="47246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477120" y="48006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477120" y="49532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77120" y="50292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477120" y="51055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477120" y="46483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7315200" y="3733920"/>
              <a:ext cx="304560" cy="457200"/>
              <a:chOff x="7315200" y="3733920"/>
              <a:chExt cx="304560" cy="457200"/>
            </a:xfrm>
          </p:grpSpPr>
          <p:sp>
            <p:nvSpPr>
              <p:cNvPr id="185" name=""/>
              <p:cNvSpPr/>
              <p:nvPr/>
            </p:nvSpPr>
            <p:spPr>
              <a:xfrm>
                <a:off x="7315200" y="38102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15200" y="38862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15200" y="403884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15200" y="411480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15200" y="41911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15200" y="3733920"/>
                <a:ext cx="30456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4952880" y="2971800"/>
                  <a:ext cx="5652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y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5715000" y="4114800"/>
                  <a:ext cx="5000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7620120" y="2895480"/>
                  <a:ext cx="60948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y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94" name=""/>
            <p:cNvSpPr/>
            <p:nvPr/>
          </p:nvSpPr>
          <p:spPr>
            <a:xfrm flipV="1">
              <a:off x="5105520" y="2590560"/>
              <a:ext cx="457200" cy="5331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72200" y="4419720"/>
              <a:ext cx="380880" cy="5331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391160" y="3352680"/>
              <a:ext cx="228600" cy="6858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95580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509-83C6-4FC1-ADA7-3AC5ABF91F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FVS</cp:lastModifiedBy>
  <dcterms:modified xsi:type="dcterms:W3CDTF">2001-03-26T10:53:09Z</dcterms:modified>
  <cp:revision>71</cp:revision>
  <dc:subject/>
  <dc:title>Test zhody rozdelenia empirického s teoretickým </dc:title>
</cp:coreProperties>
</file>